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30"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3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38"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5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5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5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6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9"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6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6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7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7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8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1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1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2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1304"/>
              </a:solidFill>
              <a:latin typeface="Times New Roman"/>
            </a:endParaRPr>
          </a:p>
        </p:txBody>
      </p:sp>
      <p:sp>
        <p:nvSpPr>
          <p:cNvPr id="2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304920"/>
            <a:ext cx="8239320" cy="639108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Click to edit the title text format</a:t>
            </a:r>
            <a:endParaRPr b="0" lang="en-US" sz="32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6" name="PlaceHolder 3"/>
          <p:cNvSpPr>
            <a:spLocks noGrp="1"/>
          </p:cNvSpPr>
          <p:nvPr>
            <p:ph type="dt" idx="1"/>
          </p:nvPr>
        </p:nvSpPr>
        <p:spPr>
          <a:xfrm>
            <a:off x="1014120" y="6248160"/>
            <a:ext cx="1904760" cy="315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7" name="PlaceHolder 4"/>
          <p:cNvSpPr>
            <a:spLocks noGrp="1"/>
          </p:cNvSpPr>
          <p:nvPr>
            <p:ph type="ftr" idx="2"/>
          </p:nvPr>
        </p:nvSpPr>
        <p:spPr>
          <a:xfrm>
            <a:off x="5790960" y="6324120"/>
            <a:ext cx="28954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4" name="Rectangle 1026"/>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1027" descr="A:\minispir.GIF"/>
          <p:cNvPicPr/>
          <p:nvPr/>
        </p:nvPicPr>
        <p:blipFill>
          <a:blip r:embed="rId3"/>
          <a:stretch/>
        </p:blipFill>
        <p:spPr>
          <a:xfrm>
            <a:off x="0" y="50760"/>
            <a:ext cx="1181160" cy="4286160"/>
          </a:xfrm>
          <a:prstGeom prst="rect">
            <a:avLst/>
          </a:prstGeom>
          <a:ln w="0">
            <a:noFill/>
          </a:ln>
        </p:spPr>
      </p:pic>
      <p:sp>
        <p:nvSpPr>
          <p:cNvPr id="46" name="Rectangle 1028"/>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Picture 1029" descr="A:\minispir.GIF"/>
          <p:cNvPicPr/>
          <p:nvPr/>
        </p:nvPicPr>
        <p:blipFill>
          <a:blip r:embed="rId5"/>
          <a:srcRect l="0" t="40000" r="0" b="0"/>
          <a:stretch/>
        </p:blipFill>
        <p:spPr>
          <a:xfrm>
            <a:off x="0" y="4222800"/>
            <a:ext cx="1181160" cy="2571840"/>
          </a:xfrm>
          <a:prstGeom prst="rect">
            <a:avLst/>
          </a:prstGeom>
          <a:ln w="0">
            <a:noFill/>
          </a:ln>
        </p:spPr>
      </p:pic>
      <p:sp>
        <p:nvSpPr>
          <p:cNvPr id="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Click to edit the title text format</a:t>
            </a:r>
            <a:endParaRPr b="0" lang="en-US" sz="3200" spc="-1" strike="noStrike">
              <a:solidFill>
                <a:srgbClr val="221304"/>
              </a:solidFill>
              <a:latin typeface="Times New Roman"/>
            </a:endParaRPr>
          </a:p>
        </p:txBody>
      </p:sp>
      <p:sp>
        <p:nvSpPr>
          <p:cNvPr id="49"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221304"/>
                </a:solidFill>
                <a:latin typeface="Times New Roman"/>
              </a:rPr>
              <a:t>LA RIPRODUZIONE DELLE IMMAGINI</a:t>
            </a:r>
            <a:endParaRPr b="0" lang="en-US" sz="3600" spc="-1" strike="noStrike">
              <a:solidFill>
                <a:srgbClr val="221304"/>
              </a:solidFill>
              <a:latin typeface="Times New Roman"/>
            </a:endParaRPr>
          </a:p>
        </p:txBody>
      </p:sp>
      <p:sp>
        <p:nvSpPr>
          <p:cNvPr id="87"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STER IN EDITORIA CARTACEA E MULTIMEDIA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ECNICA DELLA PRODUZIONE DEL LIBRO</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GIUSEPPE ORLANDO</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121"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LA RISOLUZIONE</a:t>
            </a:r>
            <a:endParaRPr b="0" lang="en-US" sz="32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IMMAGINE MEMORIZZATA E’ FORMATA DA TANTI QUADRATINI COLORATI DETTI “PIXEL”.</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AGGIORE E’ IL NUMERO DI PIXEL PER POLLICE (PPI) MAGGIORE SARA’ LA RISOLUZIONE DELLA RIPRODUZIONE, OVVERO LA SUA CAPACITA’ DI RENDERE I DETTAGLI DELL’ORIGIN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125"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1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I COLORI “PANTONE”</a:t>
            </a:r>
            <a:endParaRPr b="0" lang="en-US" sz="32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 POSSIBILE RIPRODURRE I COLORI ANCHE SERVENDOSI DI INCHIOSTRI SPECIALI OTTENUTI MISCELANDO IN FABBRICA I COLORI PRIMARI.</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 POSSIBILE SCEGLIERE QUESTI COLORI SUI CATALOGHI DELLE DITTE PRODUTTRICI.</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ONO UTILIZZATI QUANDO SI VUOLE OTTENERE UNIFORMITA’ NEL TEMPO (COPERTINE DI COLLANE) O CERTEZZA DI UN DETERMINATO COL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129"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RITOCCO E ELABORAZIONE ELETTRONICA DELLE IMMAGINI</a:t>
            </a:r>
            <a:endParaRPr b="0" lang="en-US" sz="32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INO ALL’ARRIVO DELL’ELETTRONICA L’UNICA POSSIBILITA’ DI MIGLIORARE IL RISULTATO DI UN PROCESSO DI SELEZIONE ERA MANUAL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CROMISTA”, MASSIMO LIVELLO PROFESSIONALE PER GLI OPERAI GRAFICI, AVEVA IL COMPITO – CON ACIDI E SGARZINO – DI CORREGGERE E MIGLIORARE L’ESITO DEL PROCESSO FOTOMECCANICO.</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OGGI TUTTI I PROGRAMMI DI TRATTAMENTO DELL’IMMAGINE OFFRONO LA POSSIBILITA’ MODIFICARE IN MISURA ANCHE RADICALE L’ESITO DELLA FASE DI SELEZIONE MODIFICANDO I COLORI, ELIMINANDO OGGETTI, RIGATURE, IMPERFEZION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133"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LE PROVE COLORE</a:t>
            </a:r>
            <a:endParaRPr b="0" lang="en-US" sz="32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 PROVE DI TORCHIO</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OTTENGONO STAMPANDO CON UN  PICCOLO TORCHIO UN RIDOTTO NUMERO DI COPIE   E UTILIZZANDO LE PELLICOLE, LE LASTRE, GLI INCHIOSTRI E LA CARTA PRESCELTA</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TRATTA DI UN PROCESSO COSTOSO, MA E’ QUELLO CHE SIMULA PIU’ DA VICINO L’EFFETTO CHE SI OTTERRA’ IN STAMPA</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UTILIZZANO PER I LIBRI D’ARTE E IN TUTTI I CASI IN CUI OCCORRE VERIFICARE CON AFFIDABILITA’ ASSOLUTA IL RISULTATO FIN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137"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LE PROVE COLORE 2</a:t>
            </a:r>
            <a:endParaRPr b="0" lang="en-US" sz="32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 PROVE CHIMICH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OTTENGONO  ESPONENDO LE PELLICOLE OTTENUTE DAL PROCESSO DI SELEZIONE CROMATICA SU PARTICOLARI MATERIALI  FOTOSENSIBILI. I MATERIALI PIU’ CONOSCIUTI SONO “CROMALIN” DELLA DUPONT E “MATCHPRINT” DI 3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 COSTI SONO INFERIORI RISPETTO ALLE PROVE DI TORCHIO</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QUALITA’ E’ OGGI CONSIDERATA BUONA PER LA MAGGIOR PARTE DELLA PRODUZIONE INDUSTRIALE. OCCORRE PERO’ RICORDARE IL CARATTERISTICO EFFETTO LUCID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141"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14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LE PROVE COLORE 3</a:t>
            </a:r>
            <a:endParaRPr b="0" lang="en-US" sz="3200" spc="-1" strike="noStrike">
              <a:solidFill>
                <a:srgbClr val="221304"/>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 PROVE DIGITALI</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OTTENGONO PER STAMPA DEI FILE SU STAMPANTI A COLORE DI ELEVATA QUALITA’.</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SENTONO DI RISPARMIARE LA REALIZZAZIONE DELLE PELLICOLE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ONO OGGI ACCETTATE PER LA PRODUZIONE CORRENTE, MA LO SVILUPPO QUALITATIVO DELLA STAMPA  DIGITALE A COLORI E’ COSI’ RAPIDO CHE E’ LECITO PENSARE CHE NEL GIRO DI POCHI ANNI SOSTITUIRANNO COMPLETAMENTE LE PROVE CHIMICH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145"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14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21304"/>
                </a:solidFill>
                <a:latin typeface="Times New Roman"/>
              </a:rPr>
              <a:t>IL TRASFERIMENTO DEI DATI 1</a:t>
            </a:r>
            <a:endParaRPr b="0" lang="en-US" sz="2800" spc="-1" strike="noStrike">
              <a:solidFill>
                <a:srgbClr val="221304"/>
              </a:solidFill>
              <a:latin typeface="Times New Roman"/>
            </a:endParaRPr>
          </a:p>
        </p:txBody>
      </p:sp>
      <p:sp>
        <p:nvSpPr>
          <p:cNvPr id="14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TRASFERIMENTO DEI DATI TRA LA REDAZIONE E LA PRESTAMPA PUO’ AVVENIRE:</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TRAVERSO SUPPORTI OTTICI O MAGNETICI (floppy disc, Datapack,MOD)</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TRAVERSO COLLEGAMENTI CON LINEE ISDN DEDICATE</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TRAVERSO LO SCAMBIO DI FILE ALLEGATI A MAIL INVIATE VIA INTERNE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47">
                                            <p:txEl>
                                              <p:pRg st="0" end="0"/>
                                            </p:txEl>
                                          </p:spTgt>
                                        </p:tgtEl>
                                        <p:attrNameLst>
                                          <p:attrName>style.visibility</p:attrName>
                                        </p:attrNameLst>
                                      </p:cBhvr>
                                      <p:to>
                                        <p:strVal val="visible"/>
                                      </p:to>
                                    </p:set>
                                    <p:anim calcmode="lin" valueType="num">
                                      <p:cBhvr additive="base">
                                        <p:cTn id="13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47">
                                            <p:txEl>
                                              <p:pRg st="0" end="0"/>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0"/>
                                  </p:stCondLst>
                                  <p:childTnLst>
                                    <p:set>
                                      <p:cBhvr>
                                        <p:cTn id="136" dur="1" fill="hold">
                                          <p:stCondLst>
                                            <p:cond delay="0"/>
                                          </p:stCondLst>
                                        </p:cTn>
                                        <p:tgtEl>
                                          <p:spTgt spid="147">
                                            <p:txEl>
                                              <p:pRg st="1" end="1"/>
                                            </p:txEl>
                                          </p:spTgt>
                                        </p:tgtEl>
                                        <p:attrNameLst>
                                          <p:attrName>style.visibility</p:attrName>
                                        </p:attrNameLst>
                                      </p:cBhvr>
                                      <p:to>
                                        <p:strVal val="visible"/>
                                      </p:to>
                                    </p:set>
                                    <p:anim calcmode="lin" valueType="num">
                                      <p:cBhvr additive="base">
                                        <p:cTn id="137"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47">
                                            <p:txEl>
                                              <p:pRg st="1" end="1"/>
                                            </p:txEl>
                                          </p:spTgt>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0"/>
                                  </p:stCondLst>
                                  <p:childTnLst>
                                    <p:set>
                                      <p:cBhvr>
                                        <p:cTn id="140" dur="1" fill="hold">
                                          <p:stCondLst>
                                            <p:cond delay="0"/>
                                          </p:stCondLst>
                                        </p:cTn>
                                        <p:tgtEl>
                                          <p:spTgt spid="147">
                                            <p:txEl>
                                              <p:pRg st="2" end="2"/>
                                            </p:txEl>
                                          </p:spTgt>
                                        </p:tgtEl>
                                        <p:attrNameLst>
                                          <p:attrName>style.visibility</p:attrName>
                                        </p:attrNameLst>
                                      </p:cBhvr>
                                      <p:to>
                                        <p:strVal val="visible"/>
                                      </p:to>
                                    </p:set>
                                    <p:anim calcmode="lin" valueType="num">
                                      <p:cBhvr additive="base">
                                        <p:cTn id="141"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7">
                                            <p:txEl>
                                              <p:pRg st="2" end="2"/>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0"/>
                                  </p:stCondLst>
                                  <p:childTnLst>
                                    <p:set>
                                      <p:cBhvr>
                                        <p:cTn id="144" dur="1" fill="hold">
                                          <p:stCondLst>
                                            <p:cond delay="0"/>
                                          </p:stCondLst>
                                        </p:cTn>
                                        <p:tgtEl>
                                          <p:spTgt spid="147">
                                            <p:txEl>
                                              <p:pRg st="3" end="3"/>
                                            </p:txEl>
                                          </p:spTgt>
                                        </p:tgtEl>
                                        <p:attrNameLst>
                                          <p:attrName>style.visibility</p:attrName>
                                        </p:attrNameLst>
                                      </p:cBhvr>
                                      <p:to>
                                        <p:strVal val="visible"/>
                                      </p:to>
                                    </p:set>
                                    <p:anim calcmode="lin" valueType="num">
                                      <p:cBhvr additive="base">
                                        <p:cTn id="145"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149"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1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21304"/>
                </a:solidFill>
                <a:latin typeface="Times New Roman"/>
              </a:rPr>
              <a:t>IL TRASFERIMENTO DEI DATI (2)</a:t>
            </a:r>
            <a:endParaRPr b="0" lang="en-US" sz="2800" spc="-1" strike="noStrike">
              <a:solidFill>
                <a:srgbClr val="221304"/>
              </a:solidFill>
              <a:latin typeface="Times New Roman"/>
            </a:endParaRPr>
          </a:p>
        </p:txBody>
      </p:sp>
      <p:sp>
        <p:nvSpPr>
          <p:cNvPr id="15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TUTTI I CASI BISOGNA PRESTARE LA MASSIMA ATTENZIONE AL RISPETTO DEGLI STANDARD CONCORDATI TRA GLI ATTORI DELLA FILIERA PRODUTTIV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51">
                                            <p:txEl>
                                              <p:pRg st="0" end="0"/>
                                            </p:txEl>
                                          </p:spTgt>
                                        </p:tgtEl>
                                        <p:attrNameLst>
                                          <p:attrName>style.visibility</p:attrName>
                                        </p:attrNameLst>
                                      </p:cBhvr>
                                      <p:to>
                                        <p:strVal val="visible"/>
                                      </p:to>
                                    </p:set>
                                    <p:anim calcmode="lin" valueType="num">
                                      <p:cBhvr additive="base">
                                        <p:cTn id="153"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153"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MONTAGGIO </a:t>
            </a:r>
            <a:endParaRPr b="0" lang="en-US" sz="3200" spc="-1" strike="noStrike">
              <a:solidFill>
                <a:srgbClr val="221304"/>
              </a:solidFill>
              <a:latin typeface="Times New Roman"/>
            </a:endParaRPr>
          </a:p>
        </p:txBody>
      </p:sp>
      <p:sp>
        <p:nvSpPr>
          <p:cNvPr id="15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 LA FASE DEL PROCESSO CHE METTE ASSIEME LE SINGOLE PAGINE AL FINE DI OTTENERE LA CORRETTA IMPOSTAZIONE DEL FOGLIO DI STAMPA SULLA BASE DELLE CARATTERISTICHE DELLA MACCHINA DA STAMPA E DEL SUCCESSIVO PROCESSO DI LEGATURA.</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GGI IL MONTAGGIO E’ QUASI SEMPRE REALIZZATO A VIDEO (IMPOSITION) CON L’AUSILIO DI SOFTWARE PROFESSIONA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55">
                                            <p:txEl>
                                              <p:pRg st="0" end="0"/>
                                            </p:txEl>
                                          </p:spTgt>
                                        </p:tgtEl>
                                        <p:attrNameLst>
                                          <p:attrName>style.visibility</p:attrName>
                                        </p:attrNameLst>
                                      </p:cBhvr>
                                      <p:to>
                                        <p:strVal val="visible"/>
                                      </p:to>
                                    </p:set>
                                    <p:anim calcmode="lin" valueType="num">
                                      <p:cBhvr additive="base">
                                        <p:cTn id="161"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55">
                                            <p:txEl>
                                              <p:pRg st="1" end="1"/>
                                            </p:txEl>
                                          </p:spTgt>
                                        </p:tgtEl>
                                        <p:attrNameLst>
                                          <p:attrName>style.visibility</p:attrName>
                                        </p:attrNameLst>
                                      </p:cBhvr>
                                      <p:to>
                                        <p:strVal val="visible"/>
                                      </p:to>
                                    </p:set>
                                    <p:anim calcmode="lin" valueType="num">
                                      <p:cBhvr additive="base">
                                        <p:cTn id="167"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157"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GLI OUTPUT DELLA PRESTAMPA 1</a:t>
            </a:r>
            <a:endParaRPr b="0" lang="en-US" sz="32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CISIONE LASTRE TRADIZIONAL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OLO DUE O TRE ANNI FA L’INCISIONE TRADIZIONALE DELLE MATRICI DI STAMPA (LASTRE) ERA LA TECNOLOGIA DOMINANTE:</a:t>
            </a:r>
            <a:endParaRPr b="0" lang="en-US" sz="2000" spc="-1" strike="noStrike">
              <a:solidFill>
                <a:srgbClr val="000000"/>
              </a:solidFill>
              <a:latin typeface="Times New Roman"/>
            </a:endParaRPr>
          </a:p>
          <a:p>
            <a:pPr lvl="2" marL="114300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 PELLICOLE DELLE PAGINE VENGONO MONTATE MANUALMENTE SU UN SUPPORTO FILMICO</a:t>
            </a:r>
            <a:endParaRPr b="0" lang="en-US" sz="1800" spc="-1" strike="noStrike">
              <a:solidFill>
                <a:srgbClr val="000000"/>
              </a:solidFill>
              <a:latin typeface="Times New Roman"/>
            </a:endParaRPr>
          </a:p>
          <a:p>
            <a:pPr lvl="2" marL="114300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PELLICOLA, A CONTATTO CON LA  LASTRA DA INCIDERE,  VIENE ESPOSTA AD UN FASCIO LUMINOSO</a:t>
            </a:r>
            <a:endParaRPr b="0" lang="en-US" sz="1800" spc="-1" strike="noStrike">
              <a:solidFill>
                <a:srgbClr val="000000"/>
              </a:solidFill>
              <a:latin typeface="Times New Roman"/>
            </a:endParaRPr>
          </a:p>
          <a:p>
            <a:pPr lvl="2" marL="114300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LASTRA VIENE SVILUPPATA, EVENTUALMENTE RITOCCATA E GOMMATA PER RENDERLA PIU’ RESIST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89"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IMMAGINI AL TRATTO E A TONO CONTINUO</a:t>
            </a:r>
            <a:endParaRPr b="0" lang="en-US" sz="3200" spc="-1" strike="noStrike">
              <a:solidFill>
                <a:srgbClr val="221304"/>
              </a:solidFill>
              <a:latin typeface="Times New Roman"/>
            </a:endParaRPr>
          </a:p>
        </p:txBody>
      </p:sp>
      <p:sp>
        <p:nvSpPr>
          <p:cNvPr id="9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 IMMAGINI AL TRATTO SONO QUELLE CHE PRESENTANO UNA NETTA SUDDIVISIONE TRA I BIANCHI E I NERI. ESSE NON PRESENTANO PROBLEMI PARTICOLARI PER LA LORO RIPRODUZIONE PERCHE’ LE PARTI STAMPANTI E QUELLE NON STAMPANTI SONO CHIARAMENTE DEFINIT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 IMMAGINI A TONO CONTINUO SONO QUELLE CHE PRESENTANO TONALITA’ INTERMEDIE TRA IL BIANCO E IL NERO (GRIG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base">
                                        <p:cTn id="7"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1">
                                            <p:txEl>
                                              <p:pRg st="1" end="1"/>
                                            </p:txEl>
                                          </p:spTgt>
                                        </p:tgtEl>
                                        <p:attrNameLst>
                                          <p:attrName>style.visibility</p:attrName>
                                        </p:attrNameLst>
                                      </p:cBhvr>
                                      <p:to>
                                        <p:strVal val="visible"/>
                                      </p:to>
                                    </p:set>
                                    <p:anim calcmode="lin" valueType="num">
                                      <p:cBhvr additive="base">
                                        <p:cTn id="13"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161"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16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GLI OUTPUT DELLA PRESTAMPA 2</a:t>
            </a:r>
            <a:endParaRPr b="0" lang="en-US" sz="3200" spc="-1" strike="noStrike">
              <a:solidFill>
                <a:srgbClr val="221304"/>
              </a:solidFill>
              <a:latin typeface="Times New Roman"/>
            </a:endParaRPr>
          </a:p>
        </p:txBody>
      </p:sp>
      <p:sp>
        <p:nvSpPr>
          <p:cNvPr id="16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PUTER TO FILM</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MOLTI IMPRENDITORI DEL SETTORE HA RAPPRESENTATO IL PRIMO PASSO VERSO L’INNOVAZIONE TECNOLOGICA:</a:t>
            </a:r>
            <a:endParaRPr b="0" lang="en-US" sz="2000" spc="-1" strike="noStrike">
              <a:solidFill>
                <a:srgbClr val="000000"/>
              </a:solidFill>
              <a:latin typeface="Times New Roman"/>
            </a:endParaRPr>
          </a:p>
          <a:p>
            <a:pPr lvl="2" marL="114300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MONTAGGIO NON AVVIENE UTILIZZANDO LE PELLICOLE, BENSI’ A VIDEO</a:t>
            </a:r>
            <a:endParaRPr b="0" lang="en-US" sz="1800" spc="-1" strike="noStrike">
              <a:solidFill>
                <a:srgbClr val="000000"/>
              </a:solidFill>
              <a:latin typeface="Times New Roman"/>
            </a:endParaRPr>
          </a:p>
          <a:p>
            <a:pPr lvl="2" marL="114300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ALLA FOTOUNITA’ VIENE STAMPATA LA PELLICOLA GIA’ NEL FORMATO LASTRA</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PUTER TO PLAT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IMPOSITION E’ SIMILE A QUELLA DEL CTF, MA L’OUTPUT DEL PROCESSO E’ DIRETTAMENTE LA LASTRA , SENZA SUPPORTI INTERMED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93"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9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LA RETINATURA</a:t>
            </a:r>
            <a:endParaRPr b="0" lang="en-US" sz="32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3394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 POTER STAMPARE LA SCALA DEI GRIGI OCCORRE PARTIRE DA UN IMPIANTO IN CUI IL TONO CONTINUO SIA STATO SCOMPOSTO IN PUNTINI DI DIMENSIONE VARIABILE: PIU’ PICCOLI NELLE ZONE CHIARE, PIU’ GRANDI NELLE ZONE SCURE.</a:t>
            </a:r>
            <a:endParaRPr b="0" lang="en-US" sz="2400" spc="-1" strike="noStrike">
              <a:solidFill>
                <a:srgbClr val="000000"/>
              </a:solidFill>
              <a:latin typeface="Times New Roman"/>
            </a:endParaRPr>
          </a:p>
          <a:p>
            <a:pPr marL="339480" indent="-3394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PROCEDIMENTO CHE HA CONSENTITO DI SCOMPORRE IL TONO CONTINUO E’ STATA LA RETINATURA, OVVERO LA RIPRODUZIONE FOTOGRAFICA DELL’ORIGINALE OTTENUTA  CON L’INTERPOSIZIONE DI UN FILTRO IN GRADO DI SCOMPORRE L’IMMAGINE IN PUN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5">
                                            <p:txEl>
                                              <p:pRg st="0" end="0"/>
                                            </p:txEl>
                                          </p:spTgt>
                                        </p:tgtEl>
                                        <p:attrNameLst>
                                          <p:attrName>style.visibility</p:attrName>
                                        </p:attrNameLst>
                                      </p:cBhvr>
                                      <p:to>
                                        <p:strVal val="visible"/>
                                      </p:to>
                                    </p:set>
                                    <p:anim calcmode="lin" valueType="num">
                                      <p:cBhvr additive="base">
                                        <p:cTn id="21"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5">
                                            <p:txEl>
                                              <p:pRg st="1" end="1"/>
                                            </p:txEl>
                                          </p:spTgt>
                                        </p:tgtEl>
                                        <p:attrNameLst>
                                          <p:attrName>style.visibility</p:attrName>
                                        </p:attrNameLst>
                                      </p:cBhvr>
                                      <p:to>
                                        <p:strVal val="visible"/>
                                      </p:to>
                                    </p:set>
                                    <p:anim calcmode="lin" valueType="num">
                                      <p:cBhvr additive="base">
                                        <p:cTn id="27"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97"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9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LA RETINATURA 2</a:t>
            </a:r>
            <a:endParaRPr b="0" lang="en-US" sz="3200" spc="-1" strike="noStrike">
              <a:solidFill>
                <a:srgbClr val="221304"/>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 PRIMI ESPERIMENTI PER L’OTTENIMENTO DELLA RETINATURA FURONO CONDOTTI NEL 1853 DA FOX TALBOT INTERPONENDO UNA GARZA NERA TRA LA LASTRA SENSIBILIZZATA E IL NEGATIVO.</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 PRIMI A REALIZZARE INDUSTRIALMENTE I RETINI  FURONO, NEGLI USA, I FRATELLI LEVY VERSO IL 1890.</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OGGI LA RETINATURA FOTOMECCANICA E’ STATA SOSTITUITA DA QUELLA ELETTRONICA IN CUI L’IMMAGINE VIENE LETTA DA UNO SCANNER E RIPRODOTTA A MEZZO LASER SECONDO IL NUMERO DI LINEE DI RETINATURA IMPOST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99">
                                            <p:txEl>
                                              <p:pRg st="0" end="0"/>
                                            </p:txEl>
                                          </p:spTgt>
                                        </p:tgtEl>
                                        <p:attrNameLst>
                                          <p:attrName>style.visibility</p:attrName>
                                        </p:attrNameLst>
                                      </p:cBhvr>
                                      <p:to>
                                        <p:strVal val="visible"/>
                                      </p:to>
                                    </p:set>
                                    <p:anim calcmode="lin" valueType="num">
                                      <p:cBhvr additive="base">
                                        <p:cTn id="35"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99">
                                            <p:txEl>
                                              <p:pRg st="1" end="1"/>
                                            </p:txEl>
                                          </p:spTgt>
                                        </p:tgtEl>
                                        <p:attrNameLst>
                                          <p:attrName>style.visibility</p:attrName>
                                        </p:attrNameLst>
                                      </p:cBhvr>
                                      <p:to>
                                        <p:strVal val="visible"/>
                                      </p:to>
                                    </p:set>
                                    <p:anim calcmode="lin" valueType="num">
                                      <p:cBhvr additive="base">
                                        <p:cTn id="41"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99">
                                            <p:txEl>
                                              <p:pRg st="2" end="2"/>
                                            </p:txEl>
                                          </p:spTgt>
                                        </p:tgtEl>
                                        <p:attrNameLst>
                                          <p:attrName>style.visibility</p:attrName>
                                        </p:attrNameLst>
                                      </p:cBhvr>
                                      <p:to>
                                        <p:strVal val="visible"/>
                                      </p:to>
                                    </p:set>
                                    <p:anim calcmode="lin" valueType="num">
                                      <p:cBhvr additive="base">
                                        <p:cTn id="47"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101"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IL PUNTINO</a:t>
            </a:r>
            <a:endParaRPr b="0" lang="en-US" sz="32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VARIABILI CHE CONSENTONO DI OTTENERE, TRAMITE LA SCOMPOSIZONE IN PUNTINI, UNA CORRETTA RIPRODUZIONE DEL TONO CONTINUO SONO TRE:</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DIMENSIONE DEI PUNTINI</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FORMA DEI PUNTINI </a:t>
            </a:r>
            <a:endParaRPr b="0" lang="en-US" sz="18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ELLA STAMPA OFFSET LA FORMA E’ GENERALMENTE TONDA </a:t>
            </a:r>
            <a:endParaRPr b="0" lang="en-US" sz="16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INTENSITA’ DEI PUNTINI</a:t>
            </a:r>
            <a:endParaRPr b="0" lang="en-US" sz="18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I MISURA IN LINEE DI PUNTINI PER CENTIMETRO QUADRO (70 LINEE = 70 PUNTINI BASE x 70 PUNTINI ALTEZZA= 4900 PUNTINI PER CM QUADRO)</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AGGIORE E’ L’INTENSITA’ DEI PUNTINI, MIGLIORE SARA’ LA QUALITA’ DELLA RIPRODU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3">
                                            <p:txEl>
                                              <p:pRg st="0" end="0"/>
                                            </p:txEl>
                                          </p:spTgt>
                                        </p:tgtEl>
                                        <p:attrNameLst>
                                          <p:attrName>style.visibility</p:attrName>
                                        </p:attrNameLst>
                                      </p:cBhvr>
                                      <p:to>
                                        <p:strVal val="visible"/>
                                      </p:to>
                                    </p:set>
                                    <p:anim calcmode="lin" valueType="num">
                                      <p:cBhvr additive="base">
                                        <p:cTn id="55"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3">
                                            <p:txEl>
                                              <p:pRg st="1" end="1"/>
                                            </p:txEl>
                                          </p:spTgt>
                                        </p:tgtEl>
                                        <p:attrNameLst>
                                          <p:attrName>style.visibility</p:attrName>
                                        </p:attrNameLst>
                                      </p:cBhvr>
                                      <p:to>
                                        <p:strVal val="visible"/>
                                      </p:to>
                                    </p:set>
                                    <p:anim calcmode="lin" valueType="num">
                                      <p:cBhvr additive="base">
                                        <p:cTn id="61"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03">
                                            <p:txEl>
                                              <p:pRg st="2" end="2"/>
                                            </p:txEl>
                                          </p:spTgt>
                                        </p:tgtEl>
                                        <p:attrNameLst>
                                          <p:attrName>style.visibility</p:attrName>
                                        </p:attrNameLst>
                                      </p:cBhvr>
                                      <p:to>
                                        <p:strVal val="visible"/>
                                      </p:to>
                                    </p:set>
                                    <p:anim calcmode="lin" valueType="num">
                                      <p:cBhvr additive="base">
                                        <p:cTn id="67"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03">
                                            <p:txEl>
                                              <p:pRg st="2" end="2"/>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03">
                                            <p:txEl>
                                              <p:pRg st="3" end="3"/>
                                            </p:txEl>
                                          </p:spTgt>
                                        </p:tgtEl>
                                        <p:attrNameLst>
                                          <p:attrName>style.visibility</p:attrName>
                                        </p:attrNameLst>
                                      </p:cBhvr>
                                      <p:to>
                                        <p:strVal val="visible"/>
                                      </p:to>
                                    </p:set>
                                    <p:anim calcmode="lin" valueType="num">
                                      <p:cBhvr additive="base">
                                        <p:cTn id="71"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3">
                                            <p:txEl>
                                              <p:pRg st="4" end="4"/>
                                            </p:txEl>
                                          </p:spTgt>
                                        </p:tgtEl>
                                        <p:attrNameLst>
                                          <p:attrName>style.visibility</p:attrName>
                                        </p:attrNameLst>
                                      </p:cBhvr>
                                      <p:to>
                                        <p:strVal val="visible"/>
                                      </p:to>
                                    </p:set>
                                    <p:anim calcmode="lin" valueType="num">
                                      <p:cBhvr additive="base">
                                        <p:cTn id="77"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03">
                                            <p:txEl>
                                              <p:pRg st="4" end="4"/>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103">
                                            <p:txEl>
                                              <p:pRg st="5" end="5"/>
                                            </p:txEl>
                                          </p:spTgt>
                                        </p:tgtEl>
                                        <p:attrNameLst>
                                          <p:attrName>style.visibility</p:attrName>
                                        </p:attrNameLst>
                                      </p:cBhvr>
                                      <p:to>
                                        <p:strVal val="visible"/>
                                      </p:to>
                                    </p:set>
                                    <p:anim calcmode="lin" valueType="num">
                                      <p:cBhvr additive="base">
                                        <p:cTn id="81"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3">
                                            <p:txEl>
                                              <p:pRg st="5" end="5"/>
                                            </p:txEl>
                                          </p:spTgt>
                                        </p:tgtEl>
                                        <p:attrNameLst>
                                          <p:attrName>ppt_y</p:attrName>
                                        </p:attrNameLst>
                                      </p:cBhvr>
                                      <p:tavLst>
                                        <p:tav tm="0">
                                          <p:val>
                                            <p:strVal val="#ppt_y"/>
                                          </p:val>
                                        </p:tav>
                                        <p:tav tm="100000">
                                          <p:val>
                                            <p:strVal val="#ppt_y"/>
                                          </p:val>
                                        </p:tav>
                                      </p:tavLst>
                                    </p:anim>
                                  </p:childTnLst>
                                </p:cTn>
                              </p:par>
                              <p:par>
                                <p:cTn id="83" nodeType="withEffect" fill="hold" presetClass="entr" presetID="2" presetSubtype="8">
                                  <p:stCondLst>
                                    <p:cond delay="0"/>
                                  </p:stCondLst>
                                  <p:childTnLst>
                                    <p:set>
                                      <p:cBhvr>
                                        <p:cTn id="84" dur="1" fill="hold">
                                          <p:stCondLst>
                                            <p:cond delay="0"/>
                                          </p:stCondLst>
                                        </p:cTn>
                                        <p:tgtEl>
                                          <p:spTgt spid="103">
                                            <p:txEl>
                                              <p:pRg st="6" end="6"/>
                                            </p:txEl>
                                          </p:spTgt>
                                        </p:tgtEl>
                                        <p:attrNameLst>
                                          <p:attrName>style.visibility</p:attrName>
                                        </p:attrNameLst>
                                      </p:cBhvr>
                                      <p:to>
                                        <p:strVal val="visible"/>
                                      </p:to>
                                    </p:set>
                                    <p:anim calcmode="lin" valueType="num">
                                      <p:cBhvr additive="base">
                                        <p:cTn id="85" dur="500" fill="hold"/>
                                        <p:tgtEl>
                                          <p:spTgt spid="103">
                                            <p:txEl>
                                              <p:pRg st="6" end="6"/>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0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105"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1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ESEMPI DI INTENSITA’</a:t>
            </a:r>
            <a:endParaRPr b="0" lang="en-US" sz="3200" spc="-1" strike="noStrike">
              <a:solidFill>
                <a:srgbClr val="221304"/>
              </a:solidFill>
              <a:latin typeface="Times New Roman"/>
            </a:endParaRPr>
          </a:p>
        </p:txBody>
      </p:sp>
      <p:sp>
        <p:nvSpPr>
          <p:cNvPr id="10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30 – 35 linee: stampa su carta da giorna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35 – 38 linee: stampa su carta uso ma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48 – 54 linee: stampa su carta satinat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54 – 60 linee: stampa su carta patinat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70 – 80 linee: stampe di pregio su carta patin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109"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IL COLORE</a:t>
            </a:r>
            <a:endParaRPr b="0" lang="en-US" sz="32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 SCUOLA SI STUDIA LA LUCE E SI STUDIA LA “SINTESI ADDITIVA”, OVVERO COME  SOMMANDO TRE FASCI DI LUCE ROSSO, VERDE E BLU SI OTTENGA LA LUCE BIANCA.</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PRINCIPIO CHE STA ALLA BASE DELLA RIPRODUZIONE A STAMPA DEL COLORE E’ INVECE QUELLO DELLA “SINTESI SOTTRATTIVA”, OVVERO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OVRAPPONENDO CYAN, MAGENTA E GIALLO SI OTTENGONO TUTTI GLI ALTRI COLORI E SOMMANDO TUTTI E TRE ALLA LORO MASSIMA DENSITA’ SI OTTIENE IL N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11">
                                            <p:txEl>
                                              <p:pRg st="0" end="0"/>
                                            </p:txEl>
                                          </p:spTgt>
                                        </p:tgtEl>
                                        <p:attrNameLst>
                                          <p:attrName>style.visibility</p:attrName>
                                        </p:attrNameLst>
                                      </p:cBhvr>
                                      <p:to>
                                        <p:strVal val="visible"/>
                                      </p:to>
                                    </p:set>
                                    <p:anim calcmode="lin" valueType="num">
                                      <p:cBhvr additive="base">
                                        <p:cTn id="93"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11">
                                            <p:txEl>
                                              <p:pRg st="1" end="1"/>
                                            </p:txEl>
                                          </p:spTgt>
                                        </p:tgtEl>
                                        <p:attrNameLst>
                                          <p:attrName>style.visibility</p:attrName>
                                        </p:attrNameLst>
                                      </p:cBhvr>
                                      <p:to>
                                        <p:strVal val="visible"/>
                                      </p:to>
                                    </p:set>
                                    <p:anim calcmode="lin" valueType="num">
                                      <p:cBhvr additive="base">
                                        <p:cTn id="99"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11">
                                            <p:txEl>
                                              <p:pRg st="2" end="2"/>
                                            </p:txEl>
                                          </p:spTgt>
                                        </p:tgtEl>
                                        <p:attrNameLst>
                                          <p:attrName>style.visibility</p:attrName>
                                        </p:attrNameLst>
                                      </p:cBhvr>
                                      <p:to>
                                        <p:strVal val="visible"/>
                                      </p:to>
                                    </p:set>
                                    <p:anim calcmode="lin" valueType="num">
                                      <p:cBhvr additive="base">
                                        <p:cTn id="105"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113"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LA SELEZIONE CROMATICA</a:t>
            </a:r>
            <a:endParaRPr b="0" lang="en-US" sz="32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 LA STAMPA DI UN COLORE SI OTTIENE PER SOVRAPPOSIZIONE DEI TRE COLORI PRIMARI DELLA SINTESI SOTTRATTIVA ( CYAN, MAGENTA E GIALLO) OBIETTIVO DELLA FASE DI SELEZIONE CROMATICA SARA’ SCOMPORRE CIASCUNA IMMAGINE NEI COLORI SUDDETTI FINO A OTTENERE UNA PELLICOLA O UN FILE PER CIASCUN COL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data 3"/>
          <p:cNvSpPr/>
          <p:nvPr/>
        </p:nvSpPr>
        <p:spPr>
          <a:xfrm>
            <a:off x="1014480" y="6248520"/>
            <a:ext cx="1904760" cy="315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ASTER EDITORIA</a:t>
            </a:r>
            <a:endParaRPr b="0" lang="en-US" sz="800" spc="-1" strike="noStrike">
              <a:solidFill>
                <a:srgbClr val="000000"/>
              </a:solidFill>
              <a:latin typeface="Times New Roman"/>
            </a:endParaRPr>
          </a:p>
        </p:txBody>
      </p:sp>
      <p:sp>
        <p:nvSpPr>
          <p:cNvPr id="117" name="Segnaposto piè di pagina 4"/>
          <p:cNvSpPr/>
          <p:nvPr/>
        </p:nvSpPr>
        <p:spPr>
          <a:xfrm>
            <a:off x="5791320" y="6324480"/>
            <a:ext cx="2895480" cy="228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G. ORLANDO</a:t>
            </a:r>
            <a:endParaRPr b="0" lang="en-US" sz="800" spc="-1" strike="noStrike">
              <a:solidFill>
                <a:srgbClr val="000000"/>
              </a:solidFill>
              <a:latin typeface="Times New Roman"/>
            </a:endParaRPr>
          </a:p>
        </p:txBody>
      </p:sp>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21304"/>
                </a:solidFill>
                <a:latin typeface="Times New Roman"/>
              </a:rPr>
              <a:t>LA SELEZIONE CROMATICA 2</a:t>
            </a:r>
            <a:endParaRPr b="0" lang="en-US" sz="3200" spc="-1" strike="noStrike">
              <a:solidFill>
                <a:srgbClr val="221304"/>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RADIZIONALMENTE LA SELEZIONE VENIVA REALIZZATA FOTOGRAFANDO L’ORIGINALE ATTRAVERSO I FILTRI DEI COLORI COMPLEMENTARI RISPETTO A QUELLI CHE SI VOLEVANO OTTENERE (FILTRO VERDE PER OTTENERE LA PELLICOLA MAGENTA, BLU PER OTTENERE IL GIALLO, ROSSO  PER IL CYAN).</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 QUESTI TRE COLORI SI AGGIUNGE QUASI SEMPRE IL NERO PER DARE MAGGIORE PROFONDITA’ E RISALTO ALLE OMBR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OGGI IL FOTOCOLOR DA RIPRODURRE VIENE LETTO DA UNO SCANNER  CHE IDENTIFICA E MEMORIZZA I COLORI CHE COMPONGONO CIASCUN PUNTO DELL’IMMAGIN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19">
                                            <p:txEl>
                                              <p:pRg st="0" end="0"/>
                                            </p:txEl>
                                          </p:spTgt>
                                        </p:tgtEl>
                                        <p:attrNameLst>
                                          <p:attrName>style.visibility</p:attrName>
                                        </p:attrNameLst>
                                      </p:cBhvr>
                                      <p:to>
                                        <p:strVal val="visible"/>
                                      </p:to>
                                    </p:set>
                                    <p:anim calcmode="lin" valueType="num">
                                      <p:cBhvr additive="base">
                                        <p:cTn id="113"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19">
                                            <p:txEl>
                                              <p:pRg st="1" end="1"/>
                                            </p:txEl>
                                          </p:spTgt>
                                        </p:tgtEl>
                                        <p:attrNameLst>
                                          <p:attrName>style.visibility</p:attrName>
                                        </p:attrNameLst>
                                      </p:cBhvr>
                                      <p:to>
                                        <p:strVal val="visible"/>
                                      </p:to>
                                    </p:set>
                                    <p:anim calcmode="lin" valueType="num">
                                      <p:cBhvr additive="base">
                                        <p:cTn id="119"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19">
                                            <p:txEl>
                                              <p:pRg st="2" end="2"/>
                                            </p:txEl>
                                          </p:spTgt>
                                        </p:tgtEl>
                                        <p:attrNameLst>
                                          <p:attrName>style.visibility</p:attrName>
                                        </p:attrNameLst>
                                      </p:cBhvr>
                                      <p:to>
                                        <p:strVal val="visible"/>
                                      </p:to>
                                    </p:set>
                                    <p:anim calcmode="lin" valueType="num">
                                      <p:cBhvr additive="base">
                                        <p:cTn id="125"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4T10:55:09Z</dcterms:created>
  <dc:creator>ORLANDO</dc:creator>
  <dc:description/>
  <dc:language>en-US</dc:language>
  <cp:lastModifiedBy>3m</cp:lastModifiedBy>
  <dcterms:modified xsi:type="dcterms:W3CDTF">2016-05-26T10:53:43Z</dcterms:modified>
  <cp:revision>10</cp:revision>
  <dc:subject/>
  <dc:title>LA RIPRODUZIONE DELLE IMMAGINI</dc:title>
</cp:coreProperties>
</file>