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0240D87B-A27F-4618-A8AF-FB6591819A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C7DCE05A-60A9-4F01-80F9-C5CAA8AF6B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D0E3B0B0-C297-4502-80B1-ED4F036CFC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B99598B7-9641-4045-B16B-15FAC2F0F3C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D760FA48-36E6-4D10-9C13-7E71714C944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D99D5AC8-74B3-403D-8AE5-08BCA02233C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B89A51A4-CA3E-4AEC-8EB6-9491F95205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5A596636-8E6D-4E5F-BDFF-600A3B03283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36204203-C04A-4B00-BD87-C4625EF077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083BFD87-9FEC-449F-BDDE-385A2CF3B5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1A5BEC34-2A1D-4FE3-873A-AA2768EFFB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6F31C13-08CF-4DB9-80DC-C9CD5DBCE96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D67D-BF15-4DFC-9E98-660F7CFB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E10-2B5E-4287-8BB2-5000FCD2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1FA-7C9C-4DD1-9CFB-CC4192B5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C31C-BD42-4D18-9E22-4BF85165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C994-0605-4E46-88EF-353E7274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628F-BF5E-4809-8DCF-2C436A79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DEA9-60CD-48DF-85E9-15A7BC55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3F28-7F18-4C57-9CAA-D0389AE2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A346-7AD5-461C-AA45-C0C27E78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B538-2FA5-4177-A616-1BF24647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7B15-5DDC-442F-B43F-955F5E6B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2CE9-358A-4CC5-9C07-38AAD1E9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DAA9-1F86-4C72-9DEA-D95B4983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F2EC-5ABD-4DAC-994E-29573123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4922-CEB0-4103-A1C9-B35BE021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2C46-7A22-4EA9-A94F-69EB13BD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C45A-F716-4AEC-A367-1FC6B410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1DD2-288E-497A-9074-B59AAB00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32F-E875-4B8A-8506-811B466D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BA3-DCF4-4DF5-841E-B1181E35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7F72-EA8D-4F4C-8258-E9574D6C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4CF-F4D5-4437-938C-8FEEBFBC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83A5-DFA3-4F14-B613-2208B8E7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3F90-F9A7-4DF2-AF87-A0667B62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9B24B32-D4CA-4E6C-A776-DDD6B1344DE2}" type="slidenum">
              <a:rPr b="0" lang="it-IT" sz="1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2840308-79CB-4BC9-9C17-4DC051E5F15E}" type="slidenum">
              <a:rPr b="0" lang="it-IT" sz="1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PRODOTTI DI CONSUMO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60360" y="24807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OSTA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EPARA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CHIOST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ER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113440" y="24807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gni industria chimica deve attenersi alle regole del REACh secondo la normativa europea vige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2080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Inchiostri e vernici UV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on possiedono parte volat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sciugatura tramite “forni” con lampade a emissione raggi U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100% inchiostro applica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levato cos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levatissimo grado di brillantez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missioni sgrad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i possono stampare con tutti i sistemi di stam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720" y="0"/>
            <a:ext cx="9071280" cy="1171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Meccanismo di “curing” degli inchiostri e delle vernici U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25440" y="1208160"/>
            <a:ext cx="9429840" cy="2428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2039760" y="4137120"/>
            <a:ext cx="621540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25080" y="70776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Recentemente le tecnologie formulative sono notevolmente migliorat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Si ricordano gli scandali legati al Benzofenone (Europa, Nestlè 2005) e al IsopropylThioXanthone (ITX) (Cina, 2008)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Ora la stampa UV viene pure applicata all’imballaggio alimentare senza alcuna preoccupazion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Panton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Comprende una serie di 14 basi principali più una vernice diluent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2540160" y="2994120"/>
            <a:ext cx="46098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6720" y="415440"/>
            <a:ext cx="4322880" cy="6078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e basi miscelate tra di loro secondo le formulazioni indicate sulla scala, forniscono le tonalità deside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e formulazioni sono indicative perché possono cambiare a seconda del supporto e dell’impianto stam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4822920" y="0"/>
            <a:ext cx="525780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Film flessibili- Imballaggio flessibil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1279080"/>
            <a:ext cx="5468760" cy="6280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film flessibili sono pellicole molto sottili (non rigide) prodotte con vari materi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engono utilizzate per l’imballaggio di tutte le tipologie di prodotti in commer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settore dell’industria grafica che si occupa di questo viene definito IMBALLAGGIO FLESSIBILE (Flexible Packag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5580000" y="99360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897520" y="4441680"/>
            <a:ext cx="389736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000" y="4279680"/>
            <a:ext cx="9069480" cy="2119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 film vengono lavorati quasi sempre in bobina, per cui le principali tecnologia di stampa utilizzate sono rotocalco e flessograf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Per queste tipologie di stampa vengono usati inchiostri base acqua e base solv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4397400" y="208080"/>
            <a:ext cx="5143320" cy="3857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682560" y="0"/>
            <a:ext cx="309564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-317520" y="0"/>
            <a:ext cx="10398240" cy="1868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olti supporti vengono accoppiati con altri supporti per conferire all’imballo un elevato grado di resistenze chimico fisiche, stabilità del prodotto imballato e gradevole all’impatto este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5754600" y="3994200"/>
            <a:ext cx="3900600" cy="3351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182520" y="3780000"/>
            <a:ext cx="4357800" cy="358596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7"/>
          <p:cNvSpPr/>
          <p:nvPr/>
        </p:nvSpPr>
        <p:spPr>
          <a:xfrm>
            <a:off x="5897520" y="1779480"/>
            <a:ext cx="4183200" cy="21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inchiostr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base acqu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vengono utilizzati soprattutto in stampa esterna (no accoppiamento) principalmente su carta e Polietil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8"/>
          <p:cNvSpPr/>
          <p:nvPr/>
        </p:nvSpPr>
        <p:spPr>
          <a:xfrm>
            <a:off x="0" y="1851120"/>
            <a:ext cx="589752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inchiostr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base solvent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ngono utilizzati in stampa esterna ed in accoppiamento. Il 90% degli accoppiati che si producono su scala mondiale è prodotto con inchiostri base solv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351000"/>
            <a:ext cx="10080720" cy="685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Carta (CA)                 Cartonicino,Cartone ondulat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Alluminio foil (AL)            Alluminio rigido (Blister)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Polietilene (PE)               HDPE,MDPE,LDP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Polipropilene (PP)           OPP,COEX,OPP,Opalin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Poliestere (PET)              APET,PET rigid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Poliammide (PA)             OPA,BOP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Polistirolo (PS)                 OP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PVC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AB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Cellophane (CEL)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Connettore 2 4"/>
          <p:cNvCxnSpPr/>
          <p:nvPr/>
        </p:nvCxnSpPr>
        <p:spPr>
          <a:xfrm>
            <a:off x="3396960" y="56520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Connettore 2 5"/>
          <p:cNvCxnSpPr/>
          <p:nvPr/>
        </p:nvCxnSpPr>
        <p:spPr>
          <a:xfrm>
            <a:off x="3897000" y="120816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Connettore 2 6"/>
          <p:cNvCxnSpPr/>
          <p:nvPr/>
        </p:nvCxnSpPr>
        <p:spPr>
          <a:xfrm>
            <a:off x="3897000" y="185112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Connettore 2 7"/>
          <p:cNvCxnSpPr/>
          <p:nvPr/>
        </p:nvCxnSpPr>
        <p:spPr>
          <a:xfrm>
            <a:off x="3968280" y="249408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Connettore 2 8"/>
          <p:cNvCxnSpPr/>
          <p:nvPr/>
        </p:nvCxnSpPr>
        <p:spPr>
          <a:xfrm>
            <a:off x="3968280" y="313704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Connettore 2 9"/>
          <p:cNvCxnSpPr/>
          <p:nvPr/>
        </p:nvCxnSpPr>
        <p:spPr>
          <a:xfrm>
            <a:off x="3968280" y="3708000"/>
            <a:ext cx="786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Connettore 2 10"/>
          <p:cNvCxnSpPr/>
          <p:nvPr/>
        </p:nvCxnSpPr>
        <p:spPr>
          <a:xfrm>
            <a:off x="3968280" y="435132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Ogni supporto ha il suo inchiostro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000" y="156492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ul mercato esistono molte tipologie e serie di inchiostri e vernici studiati per andare incontro ad ogni esigenz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isogna consider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ipo di impianto stam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ipo di supporto da stamp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celta tra stampa esterna o accoppi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aratteristiche del prodotto da imball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sto del prodotto fin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Sostanz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09440" y="441360"/>
            <a:ext cx="9070920" cy="27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lvl="1" marL="8175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dotto formato da un unico tipo di molec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20720" y="3060720"/>
            <a:ext cx="3959280" cy="3060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5911920" y="2340000"/>
            <a:ext cx="3448080" cy="47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Controllo qualità di uno stampato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Ogni azienda produttrice di stampati possiede un reparto di controllo qualità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Ogni lotto deve essere controllato confrontandolo con gli standard o con i capitolati aziendali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È molto importante conservare un campione di ogni produzione nel caso insorgano problematiche durante lo stoccaggio o contestazioni da parte del client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Test di controllo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1279440"/>
            <a:ext cx="10080720" cy="578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Misurazione del colore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Spettrofotomet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Migrazione del colore       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Test secondo normativa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(ASTM,GIS, etc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Grado di lucido o opacità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Glossmet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Grado di scivolosità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Slip tes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Resistenza chimica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Test secondo normat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Resistenza alla luce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Xenotest, Solarbox, Sunt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Resistenza al graffio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brasimet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Barriera all’ossigeno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Misuratore di barr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Forza di laminazione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dinamoment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Ritenzione solvente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Gascromatograf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Grado di odore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Test di Robinson/Naso elettonic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Connettore 2 4"/>
          <p:cNvCxnSpPr/>
          <p:nvPr/>
        </p:nvCxnSpPr>
        <p:spPr>
          <a:xfrm>
            <a:off x="3539880" y="1422000"/>
            <a:ext cx="1215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Connettore 2 5"/>
          <p:cNvCxnSpPr/>
          <p:nvPr/>
        </p:nvCxnSpPr>
        <p:spPr>
          <a:xfrm>
            <a:off x="3539880" y="1922040"/>
            <a:ext cx="1215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5" name="Connettore 2 6"/>
          <p:cNvCxnSpPr/>
          <p:nvPr/>
        </p:nvCxnSpPr>
        <p:spPr>
          <a:xfrm>
            <a:off x="3539880" y="2708280"/>
            <a:ext cx="12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" name="Connettore 2 7"/>
          <p:cNvCxnSpPr/>
          <p:nvPr/>
        </p:nvCxnSpPr>
        <p:spPr>
          <a:xfrm>
            <a:off x="3539880" y="3208320"/>
            <a:ext cx="12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7" name="Connettore 2 8"/>
          <p:cNvCxnSpPr/>
          <p:nvPr/>
        </p:nvCxnSpPr>
        <p:spPr>
          <a:xfrm>
            <a:off x="3539880" y="6637320"/>
            <a:ext cx="12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8" name="Connettore 2 9"/>
          <p:cNvCxnSpPr/>
          <p:nvPr/>
        </p:nvCxnSpPr>
        <p:spPr>
          <a:xfrm>
            <a:off x="3539880" y="5637240"/>
            <a:ext cx="12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Connettore 2 10"/>
          <p:cNvCxnSpPr/>
          <p:nvPr/>
        </p:nvCxnSpPr>
        <p:spPr>
          <a:xfrm>
            <a:off x="3539880" y="6137280"/>
            <a:ext cx="12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Connettore 2 11"/>
          <p:cNvCxnSpPr/>
          <p:nvPr/>
        </p:nvCxnSpPr>
        <p:spPr>
          <a:xfrm>
            <a:off x="3539880" y="4208040"/>
            <a:ext cx="1215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1" name="Connettore 2 12"/>
          <p:cNvCxnSpPr/>
          <p:nvPr/>
        </p:nvCxnSpPr>
        <p:spPr>
          <a:xfrm>
            <a:off x="3539880" y="4637160"/>
            <a:ext cx="12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Connettore 2 13"/>
          <p:cNvCxnSpPr/>
          <p:nvPr/>
        </p:nvCxnSpPr>
        <p:spPr>
          <a:xfrm>
            <a:off x="3539880" y="5137200"/>
            <a:ext cx="12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Connettore 2 14"/>
          <p:cNvCxnSpPr/>
          <p:nvPr/>
        </p:nvCxnSpPr>
        <p:spPr>
          <a:xfrm>
            <a:off x="3539880" y="3708000"/>
            <a:ext cx="1215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Materiali plastic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1207800"/>
            <a:ext cx="1008072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e materie plastiche utilizzate nell’industria grafica sono di derivazione sintetica e si presentano in forma originale sotto forma granulare di colore neut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er produrre i film vengono utilizzate delle macchine chiamate ESTRUSORI: fondono i granuli e formano la pellicola che viene avvolta in bob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er colorare i film si utilizzano i “masterbatch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film plastici possono essere sottoposti  a metallizzazione: si ottiene un film che sembra allumin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Accoppiat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11365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Laminazion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Plastificazion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Diplex, triplex, complex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Tetrapac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asellaDiTesto 3"/>
          <p:cNvSpPr/>
          <p:nvPr/>
        </p:nvSpPr>
        <p:spPr>
          <a:xfrm>
            <a:off x="6754680" y="2779560"/>
            <a:ext cx="4287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25440" y="3565440"/>
            <a:ext cx="94694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Inchiostri per applicazioni special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 u="sng">
                <a:solidFill>
                  <a:srgbClr val="000000"/>
                </a:solidFill>
                <a:uFillTx/>
                <a:latin typeface="Calibri"/>
              </a:rPr>
              <a:t>Inchiostriprofumati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 u="sng">
                <a:solidFill>
                  <a:srgbClr val="000000"/>
                </a:solidFill>
                <a:uFillTx/>
                <a:latin typeface="Calibri"/>
              </a:rPr>
              <a:t>Olografi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 u="sng">
                <a:solidFill>
                  <a:srgbClr val="000000"/>
                </a:solidFill>
                <a:uFillTx/>
                <a:latin typeface="Calibri"/>
              </a:rPr>
              <a:t>Inchiostri termocromatici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 u="sng">
                <a:solidFill>
                  <a:srgbClr val="000000"/>
                </a:solidFill>
                <a:uFillTx/>
                <a:latin typeface="Calibri"/>
              </a:rPr>
              <a:t>Inchiostri per impregnazion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 u="sng">
                <a:solidFill>
                  <a:srgbClr val="000000"/>
                </a:solidFill>
                <a:uFillTx/>
                <a:latin typeface="Calibri"/>
              </a:rPr>
              <a:t>Transfer fisic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 u="sng">
                <a:solidFill>
                  <a:srgbClr val="000000"/>
                </a:solidFill>
                <a:uFillTx/>
                <a:latin typeface="Calibri"/>
              </a:rPr>
              <a:t>Transfer sublimatic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 u="sng">
                <a:solidFill>
                  <a:srgbClr val="000000"/>
                </a:solidFill>
                <a:uFillTx/>
                <a:latin typeface="Calibri"/>
              </a:rPr>
              <a:t>Inchiostri per floccatur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Inchiostri profumat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9280" y="235080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Le fragranze possono essere aggiunte a qualsiasi tipo di inchiostro dando allo stampato una gradevole profumazion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Arredamento, editoria, tipografia, linee aeree etc…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Olografi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Il film plastico viene stampato con inchiostri tradizionali, poi sovrastampato con vernice olografica. Il film passa sotto una macchina speciale che “incide” la vernice dando alla superficie l’effetto 3D olografic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Viene utilizzata soprattutto in imballaggio, banconote, carte di credito, cartotecnic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Inchiostri termocromatic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8000" y="1136520"/>
            <a:ext cx="9069480" cy="1857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ono inchiostri che cambiano colore al variare della tempera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igurine, abbigliamento, giocatto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tolo 1"/>
          <p:cNvSpPr/>
          <p:nvPr/>
        </p:nvSpPr>
        <p:spPr>
          <a:xfrm>
            <a:off x="539640" y="256536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nchiostri per impregn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egnaposto contenuto 2"/>
          <p:cNvSpPr/>
          <p:nvPr/>
        </p:nvSpPr>
        <p:spPr>
          <a:xfrm>
            <a:off x="539640" y="3780000"/>
            <a:ext cx="906948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 stampa su carta e questa viene applicata su pannelli medium density di legno truciolare mediante un bagno in una resina spe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opo asciugatura il pannello risulta decorato ed inattaccabile da alcol e solv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dustria arreda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Transfer fisico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Si effettua la stampa su un support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Avviene un transfer dal supporto e l’inchiostro passa sul supporto finale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Il transfer può avvenire a caldo o a fredd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Utilizzati per tatoo rimovibili, numeri e scritte nella maglieria sportiva, arredamento, finiture di mobili,abbigliament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Transfer sublimatico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9280" y="149364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Si effettua la stampa su un film plastic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La stampa viene trasferita a caldo sul supporto finale (alluminio, poliestere, legno, plastica etc…)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Il trasferimento avviene per “sublimazione” del pigmento contenuto nell’inchiostr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Viene utilizzato nella maglieria sportiva, arredamento, oggettistic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Preparato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-360" y="539640"/>
            <a:ext cx="9070920" cy="282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lvl="1" marL="8175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sieme di due o più sostanze miscelate assi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433760" y="3060720"/>
            <a:ext cx="5286600" cy="3060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079640" y="3060720"/>
            <a:ext cx="2857320" cy="30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Inchiostri per floccatur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Il procedimento di floccatura utilizza delle fibre plastiche che vengono “sparate” mediante l’uso di un campo elettrico sulla superficie da trattar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Tessuto, plastica, legno, produzione di pannelli fono assorbenti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Grazie per l’attenzione!!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611440" y="1851120"/>
            <a:ext cx="4157640" cy="2797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03280" y="1763640"/>
            <a:ext cx="907416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Inchiostro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9440" y="113004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lvl="1" marL="8175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iscela tra vari componenti che danno origine ad un preparato color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s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igmenti (coloranti)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olventi (acqua)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dditi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580000" y="303048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Vernic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-36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Miscela di vari componenti che danno origine ad un preparato non colorat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Resin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Solventi (acqua)</a:t>
            </a:r>
            <a:r>
              <a:rPr b="0" lang="ar-SA" sz="35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Additivi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Tipi di vernic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02920" y="2339640"/>
            <a:ext cx="9215640" cy="273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ernice di Allungamento (Diluente)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ernice di Sovrastampa (Finissaggio)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ernice di Preparazione (Primer)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39640" y="5580000"/>
            <a:ext cx="89996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Ogni sostanza e/o preparato deve essere commercializzato con la specifica scheda di sicurezza come previsto dalla leg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Principali tipi di Inchiostr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9280" y="2340000"/>
            <a:ext cx="3276720" cy="489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Gras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Liquid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U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Plot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Inchiostri Grass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9280" y="347004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Offset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Stampa Tipografic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Idrofughi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Contenuto di solidi molto elevato (circa 100%)</a:t>
            </a:r>
            <a:r>
              <a:rPr b="0" lang="ar-SA" sz="35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Viscosità molto elevat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2340000" y="1440000"/>
            <a:ext cx="772488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Inchiostri liquid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1779120"/>
            <a:ext cx="939636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Stampa con asciugamento ad aria: Flessografia, Rotocalco, Serigrafia, Tampografia, etc..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Contenuto di solidi tra 25% e 40%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Parte solvente molto important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Viscosità di stampa e diluizion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754600" y="4691160"/>
            <a:ext cx="4143600" cy="286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o Visnoviz</dc:creator>
  <dc:description/>
  <dc:language>en-US</dc:language>
  <cp:lastModifiedBy>3m</cp:lastModifiedBy>
  <dcterms:modified xsi:type="dcterms:W3CDTF">2016-02-04T11:42:08Z</dcterms:modified>
  <cp:revision>46</cp:revision>
  <dc:subject/>
  <dc:title>TITOLO:NOME SCUOLA</dc:title>
</cp:coreProperties>
</file>