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7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218511F8-831A-423E-B906-77F77C4EA80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599DA84F-BD1F-4AEA-9865-0E5B31FC327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F76D1C8C-9CE1-4CA9-8129-15FA59A7D0C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FE0F3FA4-6936-4B15-B28E-D434397DF3A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26DEA8F9-62A8-45B9-83AC-D04849F2189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862EDB75-6FCE-465C-B6D8-E6DF8490FBD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365C2D5E-C846-485A-9071-0F8610E403F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32584A87-9AC5-40D9-860B-7F6CD9B7864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2278B3AE-EF93-4C9B-9FDD-BE83D0E3239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E3ED20F7-1C67-4C09-8A35-1D249DC6C54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593DBB0B-8887-43FA-8229-70A15421769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1DF46394-1D3E-46A7-9170-17DB83EFBA0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C8DF-D633-4B47-82BF-30CFE6679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4770-4A28-4485-9BA1-C0A185729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D9F5-938B-4467-B9BC-1D8321124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BF4A-D294-401F-929F-44BD1F895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389DA-5ADA-44D9-A8A2-C67B75FA6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8E9B8-1F33-4BA8-9DDE-BCEFF9F10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327D1-EBB7-43F4-A985-3447E0371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0BCAB-0DC2-479B-9CC1-F9E8FAE1B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2B091-D169-411C-A8D9-F40AC5034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EC683-5A62-4099-9DBF-5CB74EC55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C4C68-B469-4A7F-AE30-954E54107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3EA9-EAC4-483F-9855-A935DCE11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8CB05-8C31-4555-BAF7-E871FF9F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37E71-5522-4C2E-AA16-1D4E25C0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6EACC-53AD-4537-A6EC-35870525E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7A1CE-B3DD-4B53-AAF6-33E5D7D08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73FFB-3D3E-4810-8E93-1B0E7C1E0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ECBC-9438-456F-8241-9DCBA2D39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DB03-923F-4371-AC0E-CEC48138C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03FE-A5A8-4F84-AD97-6178FB8A9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6FAC-B4EE-4792-A467-A1FBF1230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264F-9A2B-4CEB-B39C-8CAAFC9C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9FCD-A8B9-40AD-89B7-0C527C138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F8E1-C0BA-4FAC-9688-A5384D981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-3142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258920" indent="-2509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763640" indent="-2509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7007040"/>
            <a:ext cx="319104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it-IT" sz="1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8A88278C-7A1C-45F1-8CAE-137504423D75}" type="slidenum">
              <a:rPr b="0" lang="it-IT" sz="13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-3142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258920" indent="-2509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763640" indent="-2509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4840" y="7007040"/>
            <a:ext cx="319104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448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it-IT" sz="1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D6A612E9-5537-4C6B-974E-FD69A281D407}" type="slidenum">
              <a:rPr b="0" lang="it-IT" sz="13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5360"/>
                <a:tab algn="l" pos="9058320"/>
                <a:tab algn="l" pos="10064880"/>
              </a:tabLst>
            </a:pPr>
            <a:r>
              <a:rPr b="0" lang="it-IT" sz="4900" spc="-1" strike="noStrike">
                <a:solidFill>
                  <a:srgbClr val="000000"/>
                </a:solidFill>
                <a:latin typeface="Calibri"/>
              </a:rPr>
              <a:t>PRODOTTI DI CONSUMO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60360" y="24807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SOSTANZ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PREPARAT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INCHIOSTR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VERN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113440" y="24807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Ogni industria chimica deve attenersi alle regole del REACh secondo la normativa europea vigen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0920" y="20808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4900" spc="-1" strike="noStrike">
                <a:solidFill>
                  <a:srgbClr val="000000"/>
                </a:solidFill>
                <a:latin typeface="Calibri"/>
              </a:rPr>
              <a:t>Inchiostri e vernici UV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Non possiedono parte volat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Asciugatura tramite “forni” con lampade a emissione raggi U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100% inchiostro applicat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Elevato cos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Elevatissimo grado di brillantezz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Emissioni sgradi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Si possono stampare con tutti i sistemi di stamp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799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6720" y="0"/>
            <a:ext cx="9071280" cy="1171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Meccanismo di “curing” degli inchiostri e delle vernici U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325440" y="1208160"/>
            <a:ext cx="9429840" cy="2428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"/>
          <p:cNvPicPr/>
          <p:nvPr/>
        </p:nvPicPr>
        <p:blipFill>
          <a:blip r:embed="rId2"/>
          <a:stretch/>
        </p:blipFill>
        <p:spPr>
          <a:xfrm>
            <a:off x="2039760" y="4137120"/>
            <a:ext cx="6215400" cy="253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25080" y="707760"/>
            <a:ext cx="906948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5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it-IT" sz="3500" spc="-1" strike="noStrike">
                <a:solidFill>
                  <a:srgbClr val="000000"/>
                </a:solidFill>
                <a:latin typeface="Calibri"/>
              </a:rPr>
              <a:t>Recentemente le tecnologie formulative sono notevolmente migliorate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8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5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it-IT" sz="3500" spc="-1" strike="noStrike">
                <a:solidFill>
                  <a:srgbClr val="000000"/>
                </a:solidFill>
                <a:latin typeface="Calibri"/>
              </a:rPr>
              <a:t>Si ricordano gli scandali legati al Benzofenone (Europa, Nestlè 2005) e al IsopropylThioXanthone (ITX) (Cina, 2008)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8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3500" spc="-1" strike="noStrike">
                <a:solidFill>
                  <a:srgbClr val="000000"/>
                </a:solidFill>
                <a:latin typeface="Calibri"/>
              </a:rPr>
              <a:t>Ora la stampa UV viene pure applicata all’imballaggio alimentare senza alcuna preoccupazione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8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4900" spc="-1" strike="noStrike">
                <a:solidFill>
                  <a:srgbClr val="000000"/>
                </a:solidFill>
                <a:latin typeface="Calibri"/>
              </a:rPr>
              <a:t>Pantone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500" spc="-1" strike="noStrike">
                <a:solidFill>
                  <a:srgbClr val="000000"/>
                </a:solidFill>
                <a:latin typeface="Calibri"/>
              </a:rPr>
              <a:t>Comprende una serie di 14 basi principali più una vernice diluente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1"/>
          <a:stretch/>
        </p:blipFill>
        <p:spPr>
          <a:xfrm>
            <a:off x="2540160" y="2994120"/>
            <a:ext cx="460980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96720" y="415440"/>
            <a:ext cx="4322880" cy="6078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Le basi miscelate tra di loro secondo le formulazioni indicate sulla scala, forniscono le tonalità desider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Le formulazioni sono indicative perché possono cambiare a seconda del supporto e dell’impianto stamp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4822920" y="0"/>
            <a:ext cx="5257800" cy="75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4900" spc="-1" strike="noStrike">
                <a:solidFill>
                  <a:srgbClr val="000000"/>
                </a:solidFill>
                <a:latin typeface="Calibri"/>
              </a:rPr>
              <a:t>Film flessibili- Imballaggio flessibile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-360" y="1279080"/>
            <a:ext cx="5468760" cy="6280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I film flessibili sono pellicole molto sottili (non rigide) prodotte con vari material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Vengono utilizzate per l’imballaggio di tutte le tipologie di prodotti in commerc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Il settore dell’industria grafica che si occupa di questo viene definito IMBALLAGGIO FLESSIBILE (Flexible Packagin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5580000" y="993600"/>
            <a:ext cx="4500720" cy="3429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5897520" y="4441680"/>
            <a:ext cx="3897360" cy="31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68000" y="4279680"/>
            <a:ext cx="9069480" cy="2119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I film vengono lavorati quasi sempre in bobina, per cui le principali tecnologia di stampa utilizzate sono rotocalco e flessografi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Per queste tipologie di stampa vengono usati inchiostri base acqua e base solven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4397400" y="208080"/>
            <a:ext cx="5143320" cy="38574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"/>
          <p:cNvPicPr/>
          <p:nvPr/>
        </p:nvPicPr>
        <p:blipFill>
          <a:blip r:embed="rId2"/>
          <a:stretch/>
        </p:blipFill>
        <p:spPr>
          <a:xfrm>
            <a:off x="682560" y="0"/>
            <a:ext cx="309564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-317520" y="0"/>
            <a:ext cx="10398240" cy="1868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Molti supporti vengono accoppiati con altri supporti per conferire all’imballo un elevato grado di resistenze chimico fisiche, stabilità del prodotto imballato e gradevole all’impatto estetic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"/>
          <p:cNvPicPr/>
          <p:nvPr/>
        </p:nvPicPr>
        <p:blipFill>
          <a:blip r:embed="rId1"/>
          <a:stretch/>
        </p:blipFill>
        <p:spPr>
          <a:xfrm>
            <a:off x="5754600" y="3994200"/>
            <a:ext cx="3900600" cy="33512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182520" y="3780000"/>
            <a:ext cx="4357800" cy="3585960"/>
          </a:xfrm>
          <a:prstGeom prst="rect">
            <a:avLst/>
          </a:prstGeom>
          <a:ln w="0">
            <a:noFill/>
          </a:ln>
        </p:spPr>
      </p:pic>
      <p:sp>
        <p:nvSpPr>
          <p:cNvPr id="137" name="CasellaDiTesto 7"/>
          <p:cNvSpPr/>
          <p:nvPr/>
        </p:nvSpPr>
        <p:spPr>
          <a:xfrm>
            <a:off x="5897520" y="1779480"/>
            <a:ext cx="4183200" cy="21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li inchiostri 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base acqua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vengono utilizzati soprattutto in stampa esterna (no accoppiamento) principalmente su carta e Polietil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CasellaDiTesto 8"/>
          <p:cNvSpPr/>
          <p:nvPr/>
        </p:nvSpPr>
        <p:spPr>
          <a:xfrm>
            <a:off x="0" y="1851120"/>
            <a:ext cx="5897520" cy="17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li inchiostri 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base solvente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vengono utilizzati in stampa esterna ed in accoppiamento. Il 90% degli accoppiati che si producono su scala mondiale è prodotto con inchiostri base solv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0" y="351000"/>
            <a:ext cx="10080720" cy="685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500" spc="-1" strike="noStrike">
                <a:solidFill>
                  <a:srgbClr val="000000"/>
                </a:solidFill>
                <a:latin typeface="Calibri"/>
              </a:rPr>
              <a:t>Carta (CA)                 Cartonicino,Cartone ondulato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500" spc="-1" strike="noStrike">
                <a:solidFill>
                  <a:srgbClr val="000000"/>
                </a:solidFill>
                <a:latin typeface="Calibri"/>
              </a:rPr>
              <a:t>Alluminio foil (AL)            Alluminio rigido (Blister)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500" spc="-1" strike="noStrike">
                <a:solidFill>
                  <a:srgbClr val="000000"/>
                </a:solidFill>
                <a:latin typeface="Calibri"/>
              </a:rPr>
              <a:t>Polietilene (PE)               HDPE,MDPE,LDPE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500" spc="-1" strike="noStrike">
                <a:solidFill>
                  <a:srgbClr val="000000"/>
                </a:solidFill>
                <a:latin typeface="Calibri"/>
              </a:rPr>
              <a:t>Polipropilene (PP)           OPP,COEX,OPP,Opalina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500" spc="-1" strike="noStrike">
                <a:solidFill>
                  <a:srgbClr val="000000"/>
                </a:solidFill>
                <a:latin typeface="Calibri"/>
              </a:rPr>
              <a:t>Poliestere (PET)              APET,PET rigido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500" spc="-1" strike="noStrike">
                <a:solidFill>
                  <a:srgbClr val="000000"/>
                </a:solidFill>
                <a:latin typeface="Calibri"/>
              </a:rPr>
              <a:t>Poliammide (PA)             OPA,BOPA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500" spc="-1" strike="noStrike">
                <a:solidFill>
                  <a:srgbClr val="000000"/>
                </a:solidFill>
                <a:latin typeface="Calibri"/>
              </a:rPr>
              <a:t>Polistirolo (PS)                 OP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500" spc="-1" strike="noStrike">
                <a:solidFill>
                  <a:srgbClr val="000000"/>
                </a:solidFill>
                <a:latin typeface="Calibri"/>
              </a:rPr>
              <a:t>PVC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500" spc="-1" strike="noStrike">
                <a:solidFill>
                  <a:srgbClr val="000000"/>
                </a:solidFill>
                <a:latin typeface="Calibri"/>
              </a:rPr>
              <a:t>AB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500" spc="-1" strike="noStrike">
                <a:solidFill>
                  <a:srgbClr val="000000"/>
                </a:solidFill>
                <a:latin typeface="Calibri"/>
              </a:rPr>
              <a:t>Cellophane (CEL)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0" name="Connettore 2 4"/>
          <p:cNvCxnSpPr/>
          <p:nvPr/>
        </p:nvCxnSpPr>
        <p:spPr>
          <a:xfrm>
            <a:off x="3396960" y="565200"/>
            <a:ext cx="7866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1" name="Connettore 2 5"/>
          <p:cNvCxnSpPr/>
          <p:nvPr/>
        </p:nvCxnSpPr>
        <p:spPr>
          <a:xfrm>
            <a:off x="3897000" y="1208160"/>
            <a:ext cx="7866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2" name="Connettore 2 6"/>
          <p:cNvCxnSpPr/>
          <p:nvPr/>
        </p:nvCxnSpPr>
        <p:spPr>
          <a:xfrm>
            <a:off x="3897000" y="1851120"/>
            <a:ext cx="7866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3" name="Connettore 2 7"/>
          <p:cNvCxnSpPr/>
          <p:nvPr/>
        </p:nvCxnSpPr>
        <p:spPr>
          <a:xfrm>
            <a:off x="3968280" y="2494080"/>
            <a:ext cx="7866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4" name="Connettore 2 8"/>
          <p:cNvCxnSpPr/>
          <p:nvPr/>
        </p:nvCxnSpPr>
        <p:spPr>
          <a:xfrm>
            <a:off x="3968280" y="3137040"/>
            <a:ext cx="7866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5" name="Connettore 2 9"/>
          <p:cNvCxnSpPr/>
          <p:nvPr/>
        </p:nvCxnSpPr>
        <p:spPr>
          <a:xfrm>
            <a:off x="3968280" y="3708000"/>
            <a:ext cx="7866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6" name="Connettore 2 10"/>
          <p:cNvCxnSpPr/>
          <p:nvPr/>
        </p:nvCxnSpPr>
        <p:spPr>
          <a:xfrm>
            <a:off x="3968280" y="4351320"/>
            <a:ext cx="7866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4900" spc="-1" strike="noStrike">
                <a:solidFill>
                  <a:srgbClr val="000000"/>
                </a:solidFill>
                <a:latin typeface="Calibri"/>
              </a:rPr>
              <a:t>Ogni supporto ha il suo inchiostro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68000" y="1564920"/>
            <a:ext cx="906948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Sul mercato esistono molte tipologie e serie di inchiostri e vernici studiati per andare incontro ad ogni esigenz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76200" indent="-376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Bisogna considera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76200" indent="-376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Tipo di impianto stamp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76200" indent="-376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Tipo di supporto da stamp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76200" indent="-376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Scelta tra stampa esterna o accoppiamen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76200" indent="-376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aratteristiche del prodotto da imball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76200" indent="-376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osto del prodotto fini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5360"/>
                <a:tab algn="l" pos="9058320"/>
                <a:tab algn="l" pos="10064880"/>
              </a:tabLst>
            </a:pPr>
            <a:r>
              <a:rPr b="0" lang="it-IT" sz="4900" spc="-1" strike="noStrike">
                <a:solidFill>
                  <a:srgbClr val="000000"/>
                </a:solidFill>
                <a:latin typeface="Calibri"/>
              </a:rPr>
              <a:t>Sostanza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009440" y="441360"/>
            <a:ext cx="9070920" cy="2798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lvl="1" marL="8175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5360"/>
                <a:tab algn="l" pos="9058320"/>
                <a:tab algn="l" pos="1006488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Prodotto formato da un unico tipo di moleco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720720" y="3060720"/>
            <a:ext cx="3959280" cy="3060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2"/>
          <a:stretch/>
        </p:blipFill>
        <p:spPr>
          <a:xfrm>
            <a:off x="5911920" y="2340000"/>
            <a:ext cx="3448080" cy="477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4900" spc="-1" strike="noStrike">
                <a:solidFill>
                  <a:srgbClr val="000000"/>
                </a:solidFill>
                <a:latin typeface="Calibri"/>
              </a:rPr>
              <a:t>Controllo qualità di uno stampato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500" spc="-1" strike="noStrike">
                <a:solidFill>
                  <a:srgbClr val="000000"/>
                </a:solidFill>
                <a:latin typeface="Calibri"/>
              </a:rPr>
              <a:t>Ogni azienda produttrice di stampati possiede un reparto di controllo qualità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500" spc="-1" strike="noStrike">
                <a:solidFill>
                  <a:srgbClr val="000000"/>
                </a:solidFill>
                <a:latin typeface="Calibri"/>
              </a:rPr>
              <a:t>Ogni lotto deve essere controllato confrontandolo con gli standard o con i capitolati aziendali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500" spc="-1" strike="noStrike">
                <a:solidFill>
                  <a:srgbClr val="000000"/>
                </a:solidFill>
                <a:latin typeface="Calibri"/>
              </a:rPr>
              <a:t>È molto importante conservare un campione di ogni produzione nel caso insorgano problematiche durante lo stoccaggio o contestazioni da parte del cliente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4900" spc="-1" strike="noStrike">
                <a:solidFill>
                  <a:srgbClr val="000000"/>
                </a:solidFill>
                <a:latin typeface="Calibri"/>
              </a:rPr>
              <a:t>Test di controllo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0" y="1279440"/>
            <a:ext cx="10080720" cy="578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8000"/>
          </a:bodyPr>
          <a:p>
            <a:pPr marL="370440" indent="-370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Misurazione del colore 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Spettrofotometr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70440" indent="-370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Migrazione del colore        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Test secondo normativa 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(ASTM,GIS, etc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70440" indent="-370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Grado di lucido o opacità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Glossmetr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70440" indent="-370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Grado di scivolosità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Slip test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70440" indent="-370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Resistenza chimica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Test secondo normativ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70440" indent="-370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Resistenza alla luce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Xenotest, Solarbox, Sunte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70440" indent="-370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Resistenza al graffio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Abrasimetr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70440" indent="-370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Barriera all’ossigeno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Misuratore di barrie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70440" indent="-370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Forza di laminazione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dinamomentr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70440" indent="-370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Ritenzione solvente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Gascromatograf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70440" indent="-370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Grado di odore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Test di Robinson/Naso elettonic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70440" indent="-37044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70440" indent="-3704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Connettore 2 4"/>
          <p:cNvCxnSpPr/>
          <p:nvPr/>
        </p:nvCxnSpPr>
        <p:spPr>
          <a:xfrm>
            <a:off x="3539880" y="1422000"/>
            <a:ext cx="12150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4" name="Connettore 2 5"/>
          <p:cNvCxnSpPr/>
          <p:nvPr/>
        </p:nvCxnSpPr>
        <p:spPr>
          <a:xfrm>
            <a:off x="3539880" y="1922040"/>
            <a:ext cx="12150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5" name="Connettore 2 6"/>
          <p:cNvCxnSpPr/>
          <p:nvPr/>
        </p:nvCxnSpPr>
        <p:spPr>
          <a:xfrm>
            <a:off x="3539880" y="2708280"/>
            <a:ext cx="12150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6" name="Connettore 2 7"/>
          <p:cNvCxnSpPr/>
          <p:nvPr/>
        </p:nvCxnSpPr>
        <p:spPr>
          <a:xfrm>
            <a:off x="3539880" y="3208320"/>
            <a:ext cx="12150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7" name="Connettore 2 8"/>
          <p:cNvCxnSpPr/>
          <p:nvPr/>
        </p:nvCxnSpPr>
        <p:spPr>
          <a:xfrm>
            <a:off x="3539880" y="6637320"/>
            <a:ext cx="12150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8" name="Connettore 2 9"/>
          <p:cNvCxnSpPr/>
          <p:nvPr/>
        </p:nvCxnSpPr>
        <p:spPr>
          <a:xfrm>
            <a:off x="3539880" y="5637240"/>
            <a:ext cx="12150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9" name="Connettore 2 10"/>
          <p:cNvCxnSpPr/>
          <p:nvPr/>
        </p:nvCxnSpPr>
        <p:spPr>
          <a:xfrm>
            <a:off x="3539880" y="6137280"/>
            <a:ext cx="12150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0" name="Connettore 2 11"/>
          <p:cNvCxnSpPr/>
          <p:nvPr/>
        </p:nvCxnSpPr>
        <p:spPr>
          <a:xfrm>
            <a:off x="3539880" y="4208040"/>
            <a:ext cx="12150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1" name="Connettore 2 12"/>
          <p:cNvCxnSpPr/>
          <p:nvPr/>
        </p:nvCxnSpPr>
        <p:spPr>
          <a:xfrm>
            <a:off x="3539880" y="4637160"/>
            <a:ext cx="12150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2" name="Connettore 2 13"/>
          <p:cNvCxnSpPr/>
          <p:nvPr/>
        </p:nvCxnSpPr>
        <p:spPr>
          <a:xfrm>
            <a:off x="3539880" y="5137200"/>
            <a:ext cx="12150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3" name="Connettore 2 14"/>
          <p:cNvCxnSpPr/>
          <p:nvPr/>
        </p:nvCxnSpPr>
        <p:spPr>
          <a:xfrm>
            <a:off x="3539880" y="3708000"/>
            <a:ext cx="12150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4900" spc="-1" strike="noStrike">
                <a:solidFill>
                  <a:srgbClr val="000000"/>
                </a:solidFill>
                <a:latin typeface="Calibri"/>
              </a:rPr>
              <a:t>Materiali plastici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0" y="1207800"/>
            <a:ext cx="1008072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Le materie plastiche utilizzate nell’industria grafica sono di derivazione sintetica e si presentano in forma originale sotto forma granulare di colore neutr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Per produrre i film vengono utilizzate delle macchine chiamate ESTRUSORI: fondono i granuli e formano la pellicola che viene avvolta in bob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Per colorare i film si utilizzano i “masterbatches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I film plastici possono essere sottoposti  a metallizzazione: si ottiene un film che sembra allumin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636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4900" spc="-1" strike="noStrike">
                <a:solidFill>
                  <a:srgbClr val="000000"/>
                </a:solidFill>
                <a:latin typeface="Calibri"/>
              </a:rPr>
              <a:t>Accoppiati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-360" y="11365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500" spc="-1" strike="noStrike">
                <a:solidFill>
                  <a:srgbClr val="000000"/>
                </a:solidFill>
                <a:latin typeface="Calibri"/>
              </a:rPr>
              <a:t>Laminazione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500" spc="-1" strike="noStrike">
                <a:solidFill>
                  <a:srgbClr val="000000"/>
                </a:solidFill>
                <a:latin typeface="Calibri"/>
              </a:rPr>
              <a:t>Plastificazione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8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500" spc="-1" strike="noStrike">
                <a:solidFill>
                  <a:srgbClr val="000000"/>
                </a:solidFill>
                <a:latin typeface="Calibri"/>
              </a:rPr>
              <a:t>Diplex, triplex, complex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8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3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3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3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3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3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3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3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3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3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3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3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3500" spc="-1" strike="noStrike">
                <a:solidFill>
                  <a:srgbClr val="000000"/>
                </a:solidFill>
                <a:latin typeface="Calibri"/>
              </a:rPr>
              <a:t>Tetrapack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CasellaDiTesto 3"/>
          <p:cNvSpPr/>
          <p:nvPr/>
        </p:nvSpPr>
        <p:spPr>
          <a:xfrm>
            <a:off x="6754680" y="2779560"/>
            <a:ext cx="42876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325440" y="3565440"/>
            <a:ext cx="946944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4900" spc="-1" strike="noStrike">
                <a:solidFill>
                  <a:srgbClr val="000000"/>
                </a:solidFill>
                <a:latin typeface="Calibri"/>
              </a:rPr>
              <a:t>Inchiostri per applicazioni speciali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500" spc="-1" strike="noStrike" u="sng">
                <a:solidFill>
                  <a:srgbClr val="000000"/>
                </a:solidFill>
                <a:uFillTx/>
                <a:latin typeface="Calibri"/>
              </a:rPr>
              <a:t>Inchiostriprofumati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500" spc="-1" strike="noStrike" u="sng">
                <a:solidFill>
                  <a:srgbClr val="000000"/>
                </a:solidFill>
                <a:uFillTx/>
                <a:latin typeface="Calibri"/>
              </a:rPr>
              <a:t>Olografia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500" spc="-1" strike="noStrike" u="sng">
                <a:solidFill>
                  <a:srgbClr val="000000"/>
                </a:solidFill>
                <a:uFillTx/>
                <a:latin typeface="Calibri"/>
              </a:rPr>
              <a:t>Inchiostri termocromatici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500" spc="-1" strike="noStrike" u="sng">
                <a:solidFill>
                  <a:srgbClr val="000000"/>
                </a:solidFill>
                <a:uFillTx/>
                <a:latin typeface="Calibri"/>
              </a:rPr>
              <a:t>Inchiostri per impregnazione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500" spc="-1" strike="noStrike" u="sng">
                <a:solidFill>
                  <a:srgbClr val="000000"/>
                </a:solidFill>
                <a:uFillTx/>
                <a:latin typeface="Calibri"/>
              </a:rPr>
              <a:t>Transfer fisico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500" spc="-1" strike="noStrike" u="sng">
                <a:solidFill>
                  <a:srgbClr val="000000"/>
                </a:solidFill>
                <a:uFillTx/>
                <a:latin typeface="Calibri"/>
              </a:rPr>
              <a:t>Transfer sublimatico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500" spc="-1" strike="noStrike" u="sng">
                <a:solidFill>
                  <a:srgbClr val="000000"/>
                </a:solidFill>
                <a:uFillTx/>
                <a:latin typeface="Calibri"/>
              </a:rPr>
              <a:t>Inchiostri per floccatura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4900" spc="-1" strike="noStrike">
                <a:solidFill>
                  <a:srgbClr val="000000"/>
                </a:solidFill>
                <a:latin typeface="Calibri"/>
              </a:rPr>
              <a:t>Inchiostri profumati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39280" y="2350800"/>
            <a:ext cx="906948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500" spc="-1" strike="noStrike">
                <a:solidFill>
                  <a:srgbClr val="000000"/>
                </a:solidFill>
                <a:latin typeface="Calibri"/>
              </a:rPr>
              <a:t>Le fragranze possono essere aggiunte a qualsiasi tipo di inchiostro dando allo stampato una gradevole profumazione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500" spc="-1" strike="noStrike">
                <a:solidFill>
                  <a:srgbClr val="000000"/>
                </a:solidFill>
                <a:latin typeface="Calibri"/>
              </a:rPr>
              <a:t>Arredamento, editoria, tipografia, linee aeree etc…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4900" spc="-1" strike="noStrike">
                <a:solidFill>
                  <a:srgbClr val="000000"/>
                </a:solidFill>
                <a:latin typeface="Calibri"/>
              </a:rPr>
              <a:t>Olografia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500" spc="-1" strike="noStrike">
                <a:solidFill>
                  <a:srgbClr val="000000"/>
                </a:solidFill>
                <a:latin typeface="Calibri"/>
              </a:rPr>
              <a:t>Il film plastico viene stampato con inchiostri tradizionali, poi sovrastampato con vernice olografica. Il film passa sotto una macchina speciale che “incide” la vernice dando alla superficie l’effetto 3D olografico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500" spc="-1" strike="noStrike">
                <a:solidFill>
                  <a:srgbClr val="000000"/>
                </a:solidFill>
                <a:latin typeface="Calibri"/>
              </a:rPr>
              <a:t>Viene utilizzata soprattutto in imballaggio, banconote, carte di credito, cartotecnica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4900" spc="-1" strike="noStrike">
                <a:solidFill>
                  <a:srgbClr val="000000"/>
                </a:solidFill>
                <a:latin typeface="Calibri"/>
              </a:rPr>
              <a:t>Inchiostri termocromatici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68000" y="1136520"/>
            <a:ext cx="9069480" cy="1857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Sono inchiostri che cambiano colore al variare della temperatu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Figurine, abbigliamento, giocattol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itolo 1"/>
          <p:cNvSpPr/>
          <p:nvPr/>
        </p:nvSpPr>
        <p:spPr>
          <a:xfrm>
            <a:off x="539640" y="2565360"/>
            <a:ext cx="90694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Inchiostri per impregn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egnaposto contenuto 2"/>
          <p:cNvSpPr/>
          <p:nvPr/>
        </p:nvSpPr>
        <p:spPr>
          <a:xfrm>
            <a:off x="539640" y="3780000"/>
            <a:ext cx="9069480" cy="30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i stampa su carta e questa viene applicata su pannelli medium density di legno truciolare mediante un bagno in una resina speci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Dopo asciugatura il pannello risulta decorato ed inattaccabile da alcol e solve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ndustria arredame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4900" spc="-1" strike="noStrike">
                <a:solidFill>
                  <a:srgbClr val="000000"/>
                </a:solidFill>
                <a:latin typeface="Calibri"/>
              </a:rPr>
              <a:t>Transfer fisico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500" spc="-1" strike="noStrike">
                <a:solidFill>
                  <a:srgbClr val="000000"/>
                </a:solidFill>
                <a:latin typeface="Calibri"/>
              </a:rPr>
              <a:t>Si effettua la stampa su un supporto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500" spc="-1" strike="noStrike">
                <a:solidFill>
                  <a:srgbClr val="000000"/>
                </a:solidFill>
                <a:latin typeface="Calibri"/>
              </a:rPr>
              <a:t>Avviene un transfer dal supporto e l’inchiostro passa sul supporto finale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500" spc="-1" strike="noStrike">
                <a:solidFill>
                  <a:srgbClr val="000000"/>
                </a:solidFill>
                <a:latin typeface="Calibri"/>
              </a:rPr>
              <a:t>Il transfer può avvenire a caldo o a freddo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500" spc="-1" strike="noStrike">
                <a:solidFill>
                  <a:srgbClr val="000000"/>
                </a:solidFill>
                <a:latin typeface="Calibri"/>
              </a:rPr>
              <a:t>Utilizzati per tatoo rimovibili, numeri e scritte nella maglieria sportiva, arredamento, finiture di mobili,abbigliamento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4900" spc="-1" strike="noStrike">
                <a:solidFill>
                  <a:srgbClr val="000000"/>
                </a:solidFill>
                <a:latin typeface="Calibri"/>
              </a:rPr>
              <a:t>Transfer sublimatico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539280" y="1493640"/>
            <a:ext cx="906948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500" spc="-1" strike="noStrike">
                <a:solidFill>
                  <a:srgbClr val="000000"/>
                </a:solidFill>
                <a:latin typeface="Calibri"/>
              </a:rPr>
              <a:t>Si effettua la stampa su un film plastico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500" spc="-1" strike="noStrike">
                <a:solidFill>
                  <a:srgbClr val="000000"/>
                </a:solidFill>
                <a:latin typeface="Calibri"/>
              </a:rPr>
              <a:t>La stampa viene trasferita a caldo sul supporto finale (alluminio, poliestere, legno, plastica etc…)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500" spc="-1" strike="noStrike">
                <a:solidFill>
                  <a:srgbClr val="000000"/>
                </a:solidFill>
                <a:latin typeface="Calibri"/>
              </a:rPr>
              <a:t>Il trasferimento avviene per “sublimazione” del pigmento contenuto nell’inchiostro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500" spc="-1" strike="noStrike">
                <a:solidFill>
                  <a:srgbClr val="000000"/>
                </a:solidFill>
                <a:latin typeface="Calibri"/>
              </a:rPr>
              <a:t>Viene utilizzato nella maglieria sportiva, arredamento, oggettistica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8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5360"/>
                <a:tab algn="l" pos="9058320"/>
                <a:tab algn="l" pos="10064880"/>
              </a:tabLst>
            </a:pPr>
            <a:r>
              <a:rPr b="0" lang="it-IT" sz="4900" spc="-1" strike="noStrike">
                <a:solidFill>
                  <a:srgbClr val="000000"/>
                </a:solidFill>
                <a:latin typeface="Calibri"/>
              </a:rPr>
              <a:t>Preparato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-360" y="539640"/>
            <a:ext cx="9070920" cy="282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lvl="1" marL="8175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5360"/>
                <a:tab algn="l" pos="9058320"/>
                <a:tab algn="l" pos="1006488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Insieme di due o più sostanze miscelate assie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4433760" y="3060720"/>
            <a:ext cx="5286600" cy="3060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2"/>
          <a:stretch/>
        </p:blipFill>
        <p:spPr>
          <a:xfrm>
            <a:off x="1079640" y="3060720"/>
            <a:ext cx="2857320" cy="303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4900" spc="-1" strike="noStrike">
                <a:solidFill>
                  <a:srgbClr val="000000"/>
                </a:solidFill>
                <a:latin typeface="Calibri"/>
              </a:rPr>
              <a:t>Inchiostri per floccatura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500" spc="-1" strike="noStrike">
                <a:solidFill>
                  <a:srgbClr val="000000"/>
                </a:solidFill>
                <a:latin typeface="Calibri"/>
              </a:rPr>
              <a:t>Il procedimento di floccatura utilizza delle fibre plastiche che vengono “sparate” mediante l’uso di un campo elettrico sulla superficie da trattare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500" spc="-1" strike="noStrike">
                <a:solidFill>
                  <a:srgbClr val="000000"/>
                </a:solidFill>
                <a:latin typeface="Calibri"/>
              </a:rPr>
              <a:t>Tessuto, plastica, legno, produzione di pannelli fono assorbenti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4900" spc="-1" strike="noStrike">
                <a:solidFill>
                  <a:srgbClr val="000000"/>
                </a:solidFill>
                <a:latin typeface="Calibri"/>
              </a:rPr>
              <a:t>Grazie per l’attenzione!!!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2611440" y="1851120"/>
            <a:ext cx="4157640" cy="27972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503280" y="1763640"/>
            <a:ext cx="907416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5360"/>
                <a:tab algn="l" pos="9058320"/>
                <a:tab algn="l" pos="10064880"/>
              </a:tabLst>
            </a:pPr>
            <a:r>
              <a:rPr b="0" lang="it-IT" sz="4900" spc="-1" strike="noStrike">
                <a:solidFill>
                  <a:srgbClr val="000000"/>
                </a:solidFill>
                <a:latin typeface="Calibri"/>
              </a:rPr>
              <a:t>Inchiostro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009440" y="1130040"/>
            <a:ext cx="9070920" cy="498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lvl="1" marL="8175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5360"/>
                <a:tab algn="l" pos="9058320"/>
                <a:tab algn="l" pos="1006488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Miscela tra vari componenti che danno origine ad un preparato colora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5360"/>
                <a:tab algn="l" pos="9058320"/>
                <a:tab algn="l" pos="10064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5360"/>
                <a:tab algn="l" pos="9058320"/>
                <a:tab algn="l" pos="10064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-314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5360"/>
                <a:tab algn="l" pos="9058320"/>
                <a:tab algn="l" pos="1006488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Res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-314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5360"/>
                <a:tab algn="l" pos="9058320"/>
                <a:tab algn="l" pos="1006488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Pigmenti (coloranti)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-314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5360"/>
                <a:tab algn="l" pos="9058320"/>
                <a:tab algn="l" pos="1006488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Solventi (acqua)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-314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5360"/>
                <a:tab algn="l" pos="9058320"/>
                <a:tab algn="l" pos="1006488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Additiv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5580000" y="3030480"/>
            <a:ext cx="381024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5360"/>
                <a:tab algn="l" pos="9058320"/>
                <a:tab algn="l" pos="10064880"/>
              </a:tabLst>
            </a:pPr>
            <a:r>
              <a:rPr b="0" lang="it-IT" sz="4900" spc="-1" strike="noStrike">
                <a:solidFill>
                  <a:srgbClr val="000000"/>
                </a:solidFill>
                <a:latin typeface="Calibri"/>
              </a:rPr>
              <a:t>Vernici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-36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5360"/>
                <a:tab algn="l" pos="9058320"/>
                <a:tab algn="l" pos="10064880"/>
              </a:tabLst>
            </a:pPr>
            <a:r>
              <a:rPr b="0" lang="it-IT" sz="3500" spc="-1" strike="noStrike">
                <a:solidFill>
                  <a:srgbClr val="000000"/>
                </a:solidFill>
                <a:latin typeface="Calibri"/>
              </a:rPr>
              <a:t>Miscela di vari componenti che danno origine ad un preparato non colorato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53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5360"/>
                <a:tab algn="l" pos="9058320"/>
                <a:tab algn="l" pos="10064880"/>
              </a:tabLst>
            </a:pPr>
            <a:r>
              <a:rPr b="0" lang="it-IT" sz="3500" spc="-1" strike="noStrike">
                <a:solidFill>
                  <a:srgbClr val="000000"/>
                </a:solidFill>
                <a:latin typeface="Calibri"/>
              </a:rPr>
              <a:t>Resine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5360"/>
                <a:tab algn="l" pos="9058320"/>
                <a:tab algn="l" pos="10064880"/>
              </a:tabLst>
            </a:pPr>
            <a:r>
              <a:rPr b="0" lang="it-IT" sz="3500" spc="-1" strike="noStrike">
                <a:solidFill>
                  <a:srgbClr val="000000"/>
                </a:solidFill>
                <a:latin typeface="Calibri"/>
              </a:rPr>
              <a:t>Solventi (acqua)</a:t>
            </a:r>
            <a:r>
              <a:rPr b="0" lang="ar-SA" sz="3500" spc="-1" strike="noStrike">
                <a:solidFill>
                  <a:srgbClr val="000000"/>
                </a:solidFill>
                <a:latin typeface="Calibri"/>
                <a:ea typeface="Arial"/>
              </a:rPr>
              <a:t>‏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5360"/>
                <a:tab algn="l" pos="9058320"/>
                <a:tab algn="l" pos="10064880"/>
              </a:tabLst>
            </a:pPr>
            <a:r>
              <a:rPr b="0" lang="it-IT" sz="3500" spc="-1" strike="noStrike">
                <a:solidFill>
                  <a:srgbClr val="000000"/>
                </a:solidFill>
                <a:latin typeface="Calibri"/>
              </a:rPr>
              <a:t>Additivi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53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53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5360"/>
                <a:tab algn="l" pos="9058320"/>
                <a:tab algn="l" pos="10064880"/>
              </a:tabLst>
            </a:pPr>
            <a:r>
              <a:rPr b="0" lang="it-IT" sz="4900" spc="-1" strike="noStrike">
                <a:solidFill>
                  <a:srgbClr val="000000"/>
                </a:solidFill>
                <a:latin typeface="Calibri"/>
              </a:rPr>
              <a:t>Tipi di vernici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02920" y="2339640"/>
            <a:ext cx="9215640" cy="273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5360"/>
                <a:tab algn="l" pos="9058320"/>
                <a:tab algn="l" pos="1006488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Vernice di Allungamento (Diluente)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5360"/>
                <a:tab algn="l" pos="9058320"/>
                <a:tab algn="l" pos="1006488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Vernice di Sovrastampa (Finissaggio)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5360"/>
                <a:tab algn="l" pos="9058320"/>
                <a:tab algn="l" pos="1006488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Vernice di Preparazione (Primer)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539640" y="5580000"/>
            <a:ext cx="899964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Ogni sostanza e/o preparato deve essere commercializzato con la specifica scheda di sicurezza come previsto dalla leg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5360"/>
                <a:tab algn="l" pos="9058320"/>
                <a:tab algn="l" pos="10064880"/>
              </a:tabLst>
            </a:pPr>
            <a:r>
              <a:rPr b="0" lang="it-IT" sz="4900" spc="-1" strike="noStrike">
                <a:solidFill>
                  <a:srgbClr val="000000"/>
                </a:solidFill>
                <a:latin typeface="Calibri"/>
              </a:rPr>
              <a:t>Principali tipi di Inchiostri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959280" y="2340000"/>
            <a:ext cx="3276720" cy="489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722160"/>
                <a:tab algn="l" pos="1446120"/>
                <a:tab algn="l" pos="2170080"/>
                <a:tab algn="l" pos="289404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Calibri"/>
              </a:rPr>
              <a:t>Grass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722160"/>
                <a:tab algn="l" pos="1446120"/>
                <a:tab algn="l" pos="2170080"/>
                <a:tab algn="l" pos="289404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Calibri"/>
              </a:rPr>
              <a:t>Liquid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722160"/>
                <a:tab algn="l" pos="1446120"/>
                <a:tab algn="l" pos="2170080"/>
                <a:tab algn="l" pos="289404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Calibri"/>
              </a:rPr>
              <a:t>U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722160"/>
                <a:tab algn="l" pos="1446120"/>
                <a:tab algn="l" pos="2170080"/>
                <a:tab algn="l" pos="289404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Calibri"/>
              </a:rPr>
              <a:t>Plott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5360"/>
                <a:tab algn="l" pos="9058320"/>
                <a:tab algn="l" pos="10064880"/>
              </a:tabLst>
            </a:pPr>
            <a:r>
              <a:rPr b="0" lang="it-IT" sz="4900" spc="-1" strike="noStrike">
                <a:solidFill>
                  <a:srgbClr val="000000"/>
                </a:solidFill>
                <a:latin typeface="Calibri"/>
              </a:rPr>
              <a:t>Inchiostri Grassi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9280" y="3470040"/>
            <a:ext cx="9070920" cy="498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5360"/>
                <a:tab algn="l" pos="9058320"/>
                <a:tab algn="l" pos="10064880"/>
              </a:tabLst>
            </a:pPr>
            <a:r>
              <a:rPr b="0" lang="it-IT" sz="3500" spc="-1" strike="noStrike">
                <a:solidFill>
                  <a:srgbClr val="000000"/>
                </a:solidFill>
                <a:latin typeface="Calibri"/>
              </a:rPr>
              <a:t>Offset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5360"/>
                <a:tab algn="l" pos="9058320"/>
                <a:tab algn="l" pos="10064880"/>
              </a:tabLst>
            </a:pPr>
            <a:r>
              <a:rPr b="0" lang="it-IT" sz="3500" spc="-1" strike="noStrike">
                <a:solidFill>
                  <a:srgbClr val="000000"/>
                </a:solidFill>
                <a:latin typeface="Calibri"/>
              </a:rPr>
              <a:t>Stampa Tipografica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5360"/>
                <a:tab algn="l" pos="9058320"/>
                <a:tab algn="l" pos="10064880"/>
              </a:tabLst>
            </a:pPr>
            <a:r>
              <a:rPr b="0" lang="it-IT" sz="3500" spc="-1" strike="noStrike">
                <a:solidFill>
                  <a:srgbClr val="000000"/>
                </a:solidFill>
                <a:latin typeface="Calibri"/>
              </a:rPr>
              <a:t>Idrofughi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5360"/>
                <a:tab algn="l" pos="9058320"/>
                <a:tab algn="l" pos="10064880"/>
              </a:tabLst>
            </a:pPr>
            <a:r>
              <a:rPr b="0" lang="it-IT" sz="3500" spc="-1" strike="noStrike">
                <a:solidFill>
                  <a:srgbClr val="000000"/>
                </a:solidFill>
                <a:latin typeface="Calibri"/>
              </a:rPr>
              <a:t>Contenuto di solidi molto elevato (circa 100%)</a:t>
            </a:r>
            <a:r>
              <a:rPr b="0" lang="ar-SA" sz="3500" spc="-1" strike="noStrike">
                <a:solidFill>
                  <a:srgbClr val="000000"/>
                </a:solidFill>
                <a:latin typeface="Calibri"/>
                <a:ea typeface="Arial"/>
              </a:rPr>
              <a:t>‏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5360"/>
                <a:tab algn="l" pos="9058320"/>
                <a:tab algn="l" pos="10064880"/>
              </a:tabLst>
            </a:pPr>
            <a:r>
              <a:rPr b="0" lang="it-IT" sz="3500" spc="-1" strike="noStrike">
                <a:solidFill>
                  <a:srgbClr val="000000"/>
                </a:solidFill>
                <a:latin typeface="Calibri"/>
              </a:rPr>
              <a:t>Viscosità molto elevata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2340000" y="1440000"/>
            <a:ext cx="7724880" cy="25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5360"/>
                <a:tab algn="l" pos="9058320"/>
                <a:tab algn="l" pos="10064880"/>
              </a:tabLst>
            </a:pPr>
            <a:r>
              <a:rPr b="0" lang="it-IT" sz="4900" spc="-1" strike="noStrike">
                <a:solidFill>
                  <a:srgbClr val="000000"/>
                </a:solidFill>
                <a:latin typeface="Calibri"/>
              </a:rPr>
              <a:t>Inchiostri liquidi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-360" y="1779120"/>
            <a:ext cx="9396360" cy="489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5360"/>
                <a:tab algn="l" pos="9058320"/>
                <a:tab algn="l" pos="10064880"/>
              </a:tabLst>
            </a:pPr>
            <a:r>
              <a:rPr b="0" lang="it-IT" sz="3500" spc="-1" strike="noStrike">
                <a:solidFill>
                  <a:srgbClr val="000000"/>
                </a:solidFill>
                <a:latin typeface="Calibri"/>
              </a:rPr>
              <a:t>Stampa con asciugamento ad aria: Flessografia, Rotocalco, Serigrafia, Tampografia, etc..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5360"/>
                <a:tab algn="l" pos="9058320"/>
                <a:tab algn="l" pos="10064880"/>
              </a:tabLst>
            </a:pPr>
            <a:r>
              <a:rPr b="0" lang="it-IT" sz="3500" spc="-1" strike="noStrike">
                <a:solidFill>
                  <a:srgbClr val="000000"/>
                </a:solidFill>
                <a:latin typeface="Calibri"/>
              </a:rPr>
              <a:t>Contenuto di solidi tra 25% e 40%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5360"/>
                <a:tab algn="l" pos="9058320"/>
                <a:tab algn="l" pos="10064880"/>
              </a:tabLst>
            </a:pPr>
            <a:r>
              <a:rPr b="0" lang="it-IT" sz="3500" spc="-1" strike="noStrike">
                <a:solidFill>
                  <a:srgbClr val="000000"/>
                </a:solidFill>
                <a:latin typeface="Calibri"/>
              </a:rPr>
              <a:t>Parte solvente molto importante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5360"/>
                <a:tab algn="l" pos="9058320"/>
                <a:tab algn="l" pos="10064880"/>
              </a:tabLst>
            </a:pPr>
            <a:r>
              <a:rPr b="0" lang="it-IT" sz="3500" spc="-1" strike="noStrike">
                <a:solidFill>
                  <a:srgbClr val="000000"/>
                </a:solidFill>
                <a:latin typeface="Calibri"/>
              </a:rPr>
              <a:t>Viscosità di stampa e diluizione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53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5754600" y="4691160"/>
            <a:ext cx="4143600" cy="286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co Visnoviz</dc:creator>
  <dc:description/>
  <dc:language>en-US</dc:language>
  <cp:lastModifiedBy>3m</cp:lastModifiedBy>
  <dcterms:modified xsi:type="dcterms:W3CDTF">2016-02-04T11:42:08Z</dcterms:modified>
  <cp:revision>46</cp:revision>
  <dc:subject/>
  <dc:title>TITOLO:NOME SCUOLA</dc:title>
</cp:coreProperties>
</file>