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971-719A-479B-9A8D-04153F04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DF3-1977-4FD9-B37F-A0EDC0D5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151-A5CF-407D-B778-62E039D1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201-4E89-4EE3-9A54-CDF27B26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D7C9-645C-4E79-AEBB-FD20B910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36B8-089F-4FA9-98FF-ECDE2BE9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31C0-C2DF-4E52-B22C-E8B36D5E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33F5-648F-4127-BAC8-A2B06DAB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00BF-C2B3-41F2-8D3A-B9C54AB4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DFFE-7A61-43FB-9FB3-ABC880C6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6AB1-218F-4BEA-9B08-C07363DA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F37-1647-4E28-BC76-58BD8ECF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7762-9772-40DE-8581-FEC38D57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04EC-B7B2-4764-8FA4-89F3C00E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83CE-6551-4BC5-BBB0-C40EAF07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AB9A-B32F-49F0-BE5B-A12F60DD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F1E7-03D7-46A5-8BA6-2951EB36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30816-6A56-4E7D-BDB0-7E13E736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3E5A-1224-4E63-9937-F8ABAFF7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1996-DD39-42FD-8A91-1AA20DAE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3EDD-28FF-4275-A213-E4A2DB45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58B2-74AF-4478-A20C-C739CC16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843-AE7F-42FE-B980-8D3F8077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7B28-64DC-405A-8AB1-C61C1E2B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83BE-E642-4118-BF88-255C0BFD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12E0-AF0F-477A-A01D-0A33D152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3405C-3C9F-4471-919B-70ACC91D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4C73-56CB-4D52-82F2-6CA293D6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FE0D-A2C2-48BB-89B6-900258D5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347A-DB1E-46C7-B8C6-750F1949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66D-D163-451F-AE3C-CD03E53C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D7C-0B98-4BD9-A151-18E57D53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5B0-D78A-4B61-8A2B-9836884E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328-F8FE-4E79-99FD-805052EE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BE1-AE6C-42FD-9AAC-DE119BC2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659-68F2-44FE-AB77-350DC0E7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B443-2FBD-4579-AAE5-46C71C7B69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C3DF-02E2-4A00-AA53-87D2AB4EC8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B06E-A4F5-4FE5-B95D-E3A714D83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           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              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Candy Round BTN Lt"/>
              </a:rPr>
              <a:t>6 April 2012, Friday</a:t>
            </a:r>
            <a:br>
              <a:rPr sz="1600"/>
            </a:b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andy Round BTN Lt"/>
              </a:rPr>
              <a:t>      </a:t>
            </a:r>
            <a:r>
              <a:rPr b="1" lang="en-US" sz="4800" spc="-1" strike="noStrike">
                <a:solidFill>
                  <a:srgbClr val="000066"/>
                </a:solidFill>
                <a:latin typeface="Candy Round BTN Lt"/>
              </a:rPr>
              <a:t>Esselunga’s Fair Trad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4392360" cy="2341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076720" y="3141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24360" y="6410880"/>
            <a:ext cx="33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ff00"/>
                </a:solidFill>
                <a:latin typeface="Monotype Corsiva"/>
              </a:rPr>
              <a:t>Elena &amp; Ro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13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Candy Round BTN Lt"/>
              </a:rPr>
              <a:t>Brazi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2138400" cy="3291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368800" cy="2592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9280" y="18900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16178" y="3837"/>
                </a:moveTo>
                <a:lnTo>
                  <a:pt x="18755" y="6448"/>
                </a:lnTo>
                <a:lnTo>
                  <a:pt x="18755" y="4707"/>
                </a:lnTo>
                <a:lnTo>
                  <a:pt x="20530" y="4707"/>
                </a:lnTo>
                <a:lnTo>
                  <a:pt x="20530" y="8224"/>
                </a:lnTo>
                <a:lnTo>
                  <a:pt x="23141" y="10800"/>
                </a:lnTo>
                <a:lnTo>
                  <a:pt x="21488" y="10800"/>
                </a:lnTo>
                <a:lnTo>
                  <a:pt x="21488" y="17989"/>
                </a:lnTo>
                <a:lnTo>
                  <a:pt x="10869" y="17989"/>
                </a:lnTo>
                <a:lnTo>
                  <a:pt x="10869" y="10800"/>
                </a:lnTo>
                <a:lnTo>
                  <a:pt x="9215" y="10800"/>
                </a:lnTo>
                <a:close/>
              </a:path>
              <a:path fill="darkenLess" w="32357" h="21600">
                <a:moveTo>
                  <a:pt x="18755" y="6448"/>
                </a:moveTo>
                <a:lnTo>
                  <a:pt x="18755" y="4707"/>
                </a:lnTo>
                <a:lnTo>
                  <a:pt x="20530" y="4707"/>
                </a:lnTo>
                <a:lnTo>
                  <a:pt x="20530" y="8224"/>
                </a:lnTo>
                <a:close/>
              </a:path>
              <a:path fill="darkenLess" w="32357" h="21600">
                <a:moveTo>
                  <a:pt x="15256" y="14299"/>
                </a:moveTo>
                <a:lnTo>
                  <a:pt x="17101" y="14299"/>
                </a:lnTo>
                <a:lnTo>
                  <a:pt x="17101" y="17989"/>
                </a:lnTo>
                <a:lnTo>
                  <a:pt x="21488" y="17989"/>
                </a:lnTo>
                <a:lnTo>
                  <a:pt x="21488" y="10800"/>
                </a:lnTo>
                <a:lnTo>
                  <a:pt x="10869" y="10800"/>
                </a:lnTo>
                <a:lnTo>
                  <a:pt x="10869" y="17989"/>
                </a:lnTo>
                <a:lnTo>
                  <a:pt x="1525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372360" y="3500280"/>
            <a:ext cx="2382840" cy="2552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276720" y="3500280"/>
            <a:ext cx="2365200" cy="2552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16360" y="436464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neakerhead BTN Outline"/>
              </a:rPr>
              <a:t>Guarani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95920" y="2348640"/>
            <a:ext cx="446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Sauce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                </a:t>
            </a: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ondime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ndy Round BTN Lt"/>
              </a:rPr>
              <a:t>                                  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Candy Round BTN Lt"/>
              </a:rPr>
              <a:t>Ital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andy Round BTN Lt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ndy Round BTN Lt"/>
              </a:rPr>
              <a:t>Sicily &amp; Pu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653760" cy="3024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952560" cy="2265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908000" y="907920"/>
            <a:ext cx="1459080" cy="2187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140360" y="4292640"/>
            <a:ext cx="3276360" cy="2414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5508720" y="1773360"/>
            <a:ext cx="3168720" cy="2262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1320" y="345276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5157000"/>
            <a:ext cx="36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Sneakerhead BTN Outline"/>
              </a:rPr>
              <a:t>tomato sauc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55760" y="335664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2197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cc"/>
                </a:solidFill>
                <a:latin typeface="Candy Round BTN Lt"/>
              </a:rPr>
              <a:t>... </a:t>
            </a:r>
            <a:r>
              <a:rPr b="1" lang="en" sz="4400" spc="-1" strike="noStrike">
                <a:solidFill>
                  <a:srgbClr val="0066cc"/>
                </a:solidFill>
                <a:latin typeface="Candy Round BTN Lt"/>
              </a:rPr>
              <a:t>Not only food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1720800" cy="2481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1444680" cy="2235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780000" y="189000"/>
            <a:ext cx="5126040" cy="1665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143240" y="3141720"/>
            <a:ext cx="5000760" cy="1512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2411280" y="4221000"/>
            <a:ext cx="1554120" cy="2210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3643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Sneakerhead BTN Outline"/>
              </a:rPr>
              <a:t>hygiene</a:t>
            </a:r>
            <a:r>
              <a:rPr b="1" lang="it-IT" sz="2400" spc="-1" strike="noStrike">
                <a:solidFill>
                  <a:srgbClr val="000000"/>
                </a:solidFill>
                <a:latin typeface="Sneakerhead BTN Outlin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91600" y="184356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Sneakerhead BTN Outline"/>
              </a:rPr>
              <a:t>clothes</a:t>
            </a:r>
            <a:r>
              <a:rPr b="1" lang="it-IT" sz="2400" spc="-1" strike="noStrike">
                <a:solidFill>
                  <a:srgbClr val="000000"/>
                </a:solidFill>
                <a:latin typeface="Sneakerhead BTN Outlin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64000" y="465300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neakerhead BTN Outline"/>
              </a:rPr>
              <a:t>accessories of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6280" y="5660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Sneakerhead BTN Outline"/>
              </a:rPr>
              <a:t>deterge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333000"/>
            <a:ext cx="7913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andy Round BTN Lt"/>
              </a:rPr>
              <a:t>The</a:t>
            </a:r>
            <a:r>
              <a:rPr b="1" lang="en-US" sz="4400" spc="-1" strike="noStrike">
                <a:solidFill>
                  <a:srgbClr val="333399"/>
                </a:solidFill>
                <a:latin typeface="Candy Round BTN Lt"/>
              </a:rPr>
              <a:t> fair </a:t>
            </a:r>
            <a:r>
              <a:rPr b="0" lang="en-US" sz="4400" spc="-1" strike="noStrike">
                <a:solidFill>
                  <a:srgbClr val="333399"/>
                </a:solidFill>
                <a:latin typeface="Candy Round BTN Lt"/>
              </a:rPr>
              <a:t>trade</a:t>
            </a:r>
            <a:r>
              <a:rPr b="1" lang="en-US" sz="4400" spc="-1" strike="noStrike">
                <a:solidFill>
                  <a:srgbClr val="333399"/>
                </a:solidFill>
                <a:latin typeface="Candy Round BTN Lt"/>
              </a:rPr>
              <a:t> are </a:t>
            </a:r>
            <a:r>
              <a:rPr b="0" lang="en-US" sz="4400" spc="-1" strike="noStrike">
                <a:solidFill>
                  <a:srgbClr val="333399"/>
                </a:solidFill>
                <a:latin typeface="Candy Round BTN Lt"/>
              </a:rPr>
              <a:t>produced</a:t>
            </a:r>
            <a:r>
              <a:rPr b="1" lang="en-US" sz="4400" spc="-1" strike="noStrike">
                <a:solidFill>
                  <a:srgbClr val="333399"/>
                </a:solidFill>
                <a:latin typeface="Candy Round BTN Lt"/>
              </a:rPr>
              <a:t> especially </a:t>
            </a:r>
            <a:r>
              <a:rPr b="0" lang="en-US" sz="4400" spc="-1" strike="noStrike">
                <a:solidFill>
                  <a:srgbClr val="333399"/>
                </a:solidFill>
                <a:latin typeface="Candy Round BTN Lt"/>
              </a:rPr>
              <a:t>in</a:t>
            </a:r>
            <a:r>
              <a:rPr b="1" lang="en-US" sz="4400" spc="-1" strike="noStrike">
                <a:solidFill>
                  <a:srgbClr val="333399"/>
                </a:solidFill>
                <a:latin typeface="Candy Round BTN Lt"/>
              </a:rPr>
              <a:t> 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009999"/>
                </a:solidFill>
                <a:uFillTx/>
                <a:latin typeface="Candy Round BTN Lt"/>
                <a:hlinkClick r:id="rId2" action="ppaction://hlinksldjump"/>
              </a:rPr>
              <a:t>Latin America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Candy Round BTN Lt"/>
                <a:hlinkClick r:id="rId3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Candy Round BTN Lt"/>
                <a:hlinkClick r:id="rId4" action="ppaction://hlinksldjump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009999"/>
                </a:solidFill>
                <a:uFillTx/>
                <a:latin typeface="Candy Round BTN Lt"/>
                <a:hlinkClick r:id="rId5" action="ppaction://hlinksldjump"/>
              </a:rPr>
              <a:t>Paraguay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Candy Round BTN Lt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009999"/>
                </a:solidFill>
                <a:uFillTx/>
                <a:latin typeface="Candy Round BTN Lt"/>
                <a:hlinkClick r:id="rId7" action="ppaction://hlinksldjump"/>
              </a:rPr>
              <a:t>Thailand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Candy Round BTN Lt"/>
                <a:hlinkClick r:id="rId8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009999"/>
                </a:solidFill>
                <a:uFillTx/>
                <a:latin typeface="Candy Round BTN Lt"/>
                <a:hlinkClick r:id="rId9" action="ppaction://hlinksldjump"/>
              </a:rPr>
              <a:t>Bolivia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Candy Round BTN Lt"/>
                <a:hlinkClick r:id="rId10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Candy Round BTN Lt"/>
              </a:rPr>
              <a:t>Ecuador</a:t>
            </a:r>
            <a:r>
              <a:rPr b="1" lang="it-IT" sz="2800" spc="-1" strike="noStrike">
                <a:solidFill>
                  <a:srgbClr val="000000"/>
                </a:solidFill>
                <a:latin typeface="Candy Round BTN L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Candy Round BTN Lt"/>
              </a:rPr>
              <a:t>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157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Candy Round BTN Lt"/>
              </a:rPr>
              <a:t>Brazil</a:t>
            </a:r>
            <a:r>
              <a:rPr b="0" lang="it-IT" sz="2800" spc="-1" strike="noStrike">
                <a:solidFill>
                  <a:srgbClr val="000000"/>
                </a:solidFill>
                <a:latin typeface="Candy Round BTN L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2916360" y="1916280"/>
            <a:ext cx="5962680" cy="39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5400" spc="-1" strike="noStrike">
                <a:solidFill>
                  <a:srgbClr val="008000"/>
                </a:solidFill>
                <a:latin typeface="Candy Round BTN Lt"/>
              </a:rPr>
              <a:t>Latin</a:t>
            </a:r>
            <a:r>
              <a:rPr b="1" i="1" lang="en" sz="5400" spc="-1" strike="noStrike">
                <a:solidFill>
                  <a:srgbClr val="008000"/>
                </a:solidFill>
                <a:latin typeface="Candy Round BTN Lt"/>
              </a:rPr>
              <a:t> </a:t>
            </a:r>
            <a:r>
              <a:rPr b="1" lang="en" sz="5400" spc="-1" strike="noStrike">
                <a:solidFill>
                  <a:srgbClr val="008000"/>
                </a:solidFill>
                <a:latin typeface="Candy Round BTN Lt"/>
              </a:rPr>
              <a:t>Ame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93080" y="404640"/>
            <a:ext cx="1876320" cy="2857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1830240" cy="2519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2068560" cy="3057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643280" y="2997360"/>
            <a:ext cx="1998720" cy="284148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6" action="ppaction://hlinksldjump"/>
          </p:cNvPr>
          <p:cNvSpPr/>
          <p:nvPr/>
        </p:nvSpPr>
        <p:spPr>
          <a:xfrm>
            <a:off x="8317080" y="6165720"/>
            <a:ext cx="682560" cy="46692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68" h="21600">
                <a:moveTo>
                  <a:pt x="15784" y="3837"/>
                </a:moveTo>
                <a:lnTo>
                  <a:pt x="18360" y="6448"/>
                </a:lnTo>
                <a:lnTo>
                  <a:pt x="18360" y="4707"/>
                </a:lnTo>
                <a:lnTo>
                  <a:pt x="20136" y="4707"/>
                </a:lnTo>
                <a:lnTo>
                  <a:pt x="20136" y="8224"/>
                </a:lnTo>
                <a:lnTo>
                  <a:pt x="22747" y="10800"/>
                </a:lnTo>
                <a:lnTo>
                  <a:pt x="21093" y="10800"/>
                </a:lnTo>
                <a:lnTo>
                  <a:pt x="21093" y="17989"/>
                </a:lnTo>
                <a:lnTo>
                  <a:pt x="10475" y="17989"/>
                </a:lnTo>
                <a:lnTo>
                  <a:pt x="10475" y="10800"/>
                </a:lnTo>
                <a:lnTo>
                  <a:pt x="8821" y="10800"/>
                </a:lnTo>
                <a:close/>
              </a:path>
              <a:path fill="darkenLess" w="31568" h="21600">
                <a:moveTo>
                  <a:pt x="18360" y="6448"/>
                </a:moveTo>
                <a:lnTo>
                  <a:pt x="18360" y="4707"/>
                </a:lnTo>
                <a:lnTo>
                  <a:pt x="20136" y="4707"/>
                </a:lnTo>
                <a:lnTo>
                  <a:pt x="20136" y="8224"/>
                </a:lnTo>
                <a:close/>
              </a:path>
              <a:path fill="darkenLess" w="31568" h="21600">
                <a:moveTo>
                  <a:pt x="14861" y="14299"/>
                </a:moveTo>
                <a:lnTo>
                  <a:pt x="16707" y="14299"/>
                </a:lnTo>
                <a:lnTo>
                  <a:pt x="16707" y="17989"/>
                </a:lnTo>
                <a:lnTo>
                  <a:pt x="21093" y="17989"/>
                </a:lnTo>
                <a:lnTo>
                  <a:pt x="21093" y="10800"/>
                </a:lnTo>
                <a:lnTo>
                  <a:pt x="10475" y="10800"/>
                </a:lnTo>
                <a:lnTo>
                  <a:pt x="10475" y="17989"/>
                </a:lnTo>
                <a:lnTo>
                  <a:pt x="1486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00" y="3356640"/>
            <a:ext cx="18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ook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0560" y="573300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hip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7640" y="5228280"/>
            <a:ext cx="22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hocolat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9880" y="220428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offee</a:t>
            </a:r>
            <a:r>
              <a:rPr b="0" lang="it-IT" sz="3200" spc="-1" strike="noStrike">
                <a:solidFill>
                  <a:srgbClr val="000000"/>
                </a:solidFill>
                <a:latin typeface="Sneakerhead BTN Outlin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ndy Round BTN Lt"/>
              </a:rPr>
              <a:t>Ind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2590560" cy="3809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492360" y="2133720"/>
            <a:ext cx="5080320" cy="38098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8459640" y="18900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11718" y="3837"/>
                </a:moveTo>
                <a:lnTo>
                  <a:pt x="14294" y="6448"/>
                </a:lnTo>
                <a:lnTo>
                  <a:pt x="14294" y="4707"/>
                </a:lnTo>
                <a:lnTo>
                  <a:pt x="16070" y="4707"/>
                </a:lnTo>
                <a:lnTo>
                  <a:pt x="16070" y="8224"/>
                </a:lnTo>
                <a:lnTo>
                  <a:pt x="18681" y="10800"/>
                </a:lnTo>
                <a:lnTo>
                  <a:pt x="17027" y="10800"/>
                </a:lnTo>
                <a:lnTo>
                  <a:pt x="17027" y="17989"/>
                </a:lnTo>
                <a:lnTo>
                  <a:pt x="6409" y="17989"/>
                </a:lnTo>
                <a:lnTo>
                  <a:pt x="6409" y="10800"/>
                </a:lnTo>
                <a:lnTo>
                  <a:pt x="4755" y="10800"/>
                </a:lnTo>
                <a:close/>
              </a:path>
              <a:path fill="darkenLess" w="23436" h="21600">
                <a:moveTo>
                  <a:pt x="14294" y="6448"/>
                </a:moveTo>
                <a:lnTo>
                  <a:pt x="14294" y="4707"/>
                </a:lnTo>
                <a:lnTo>
                  <a:pt x="16070" y="4707"/>
                </a:lnTo>
                <a:lnTo>
                  <a:pt x="16070" y="8224"/>
                </a:lnTo>
                <a:close/>
              </a:path>
              <a:path fill="darkenLess" w="23436" h="21600">
                <a:moveTo>
                  <a:pt x="10795" y="14299"/>
                </a:moveTo>
                <a:lnTo>
                  <a:pt x="12641" y="14299"/>
                </a:lnTo>
                <a:lnTo>
                  <a:pt x="12641" y="17989"/>
                </a:lnTo>
                <a:lnTo>
                  <a:pt x="17027" y="17989"/>
                </a:lnTo>
                <a:lnTo>
                  <a:pt x="17027" y="10800"/>
                </a:lnTo>
                <a:lnTo>
                  <a:pt x="6409" y="10800"/>
                </a:lnTo>
                <a:lnTo>
                  <a:pt x="6409" y="17989"/>
                </a:lnTo>
                <a:lnTo>
                  <a:pt x="107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7880" y="47235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Tea</a:t>
            </a:r>
            <a:r>
              <a:rPr b="0" lang="it-IT" sz="3200" spc="-1" strike="noStrike">
                <a:solidFill>
                  <a:srgbClr val="000000"/>
                </a:solidFill>
                <a:latin typeface="Sneakerhead BTN Outlin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51080" y="148356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Papad</a:t>
            </a:r>
            <a:r>
              <a:rPr b="1" lang="it-IT" sz="3200" spc="-1" strike="noStrike">
                <a:solidFill>
                  <a:srgbClr val="000000"/>
                </a:solidFill>
                <a:latin typeface="Sneakerhead BTN Outlin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880" y="333000"/>
            <a:ext cx="7913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andy Round BTN Lt"/>
              </a:rPr>
              <a:t>                       </a:t>
            </a:r>
            <a:r>
              <a:rPr b="1" lang="en-US" sz="6000" spc="-1" strike="noStrike">
                <a:solidFill>
                  <a:srgbClr val="660066"/>
                </a:solidFill>
                <a:latin typeface="Candy Round BTN Lt"/>
              </a:rPr>
              <a:t>Paragu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198680" cy="5184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1989000"/>
            <a:ext cx="3098880" cy="3794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675640" y="18900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10800" y="5048"/>
                </a:moveTo>
                <a:lnTo>
                  <a:pt x="13376" y="7659"/>
                </a:lnTo>
                <a:lnTo>
                  <a:pt x="13376" y="5918"/>
                </a:lnTo>
                <a:lnTo>
                  <a:pt x="15152" y="5918"/>
                </a:lnTo>
                <a:lnTo>
                  <a:pt x="15152" y="9434"/>
                </a:lnTo>
                <a:lnTo>
                  <a:pt x="17763" y="12011"/>
                </a:lnTo>
                <a:lnTo>
                  <a:pt x="16109" y="12011"/>
                </a:lnTo>
                <a:lnTo>
                  <a:pt x="16109" y="19200"/>
                </a:lnTo>
                <a:lnTo>
                  <a:pt x="5491" y="19200"/>
                </a:lnTo>
                <a:lnTo>
                  <a:pt x="5491" y="12011"/>
                </a:lnTo>
                <a:lnTo>
                  <a:pt x="3837" y="12011"/>
                </a:lnTo>
                <a:close/>
              </a:path>
              <a:path fill="darkenLess" w="21600" h="24021">
                <a:moveTo>
                  <a:pt x="13376" y="7659"/>
                </a:moveTo>
                <a:lnTo>
                  <a:pt x="13376" y="5918"/>
                </a:lnTo>
                <a:lnTo>
                  <a:pt x="15152" y="5918"/>
                </a:lnTo>
                <a:lnTo>
                  <a:pt x="15152" y="9434"/>
                </a:lnTo>
                <a:close/>
              </a:path>
              <a:path fill="darkenLess" w="21600" h="24021">
                <a:moveTo>
                  <a:pt x="9877" y="15510"/>
                </a:moveTo>
                <a:lnTo>
                  <a:pt x="11723" y="15510"/>
                </a:lnTo>
                <a:lnTo>
                  <a:pt x="11723" y="19200"/>
                </a:lnTo>
                <a:lnTo>
                  <a:pt x="16109" y="19200"/>
                </a:lnTo>
                <a:lnTo>
                  <a:pt x="16109" y="12011"/>
                </a:lnTo>
                <a:lnTo>
                  <a:pt x="5491" y="12011"/>
                </a:lnTo>
                <a:lnTo>
                  <a:pt x="5491" y="19200"/>
                </a:lnTo>
                <a:lnTo>
                  <a:pt x="9877" y="19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76960" y="594900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Pudding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5400" spc="-1" strike="noStrike">
                <a:solidFill>
                  <a:srgbClr val="929cf6"/>
                </a:solidFill>
                <a:latin typeface="Candy Round BTN Lt"/>
              </a:rPr>
              <a:t>Thai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3108240" cy="374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435640" y="1989000"/>
            <a:ext cx="3189240" cy="4600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317080" y="189000"/>
            <a:ext cx="537840" cy="431640"/>
          </a:xfrm>
          <a:custGeom>
            <a:avLst/>
            <a:gdLst>
              <a:gd name="textAreaLeft" fmla="*/ 27720 w 537840"/>
              <a:gd name="textAreaRight" fmla="*/ 510120 w 5378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10" h="21600">
                <a:moveTo>
                  <a:pt x="0" y="0"/>
                </a:moveTo>
                <a:lnTo>
                  <a:pt x="26910" y="0"/>
                </a:lnTo>
                <a:lnTo>
                  <a:pt x="26910" y="21600"/>
                </a:lnTo>
                <a:lnTo>
                  <a:pt x="0" y="21600"/>
                </a:lnTo>
                <a:close/>
              </a:path>
              <a:path fill="lightenLess" w="26910" h="21600">
                <a:moveTo>
                  <a:pt x="0" y="0"/>
                </a:moveTo>
                <a:lnTo>
                  <a:pt x="26910" y="0"/>
                </a:lnTo>
                <a:lnTo>
                  <a:pt x="25510" y="1400"/>
                </a:lnTo>
                <a:lnTo>
                  <a:pt x="1400" y="1400"/>
                </a:lnTo>
                <a:close/>
              </a:path>
              <a:path fill="darken" w="26910" h="21600">
                <a:moveTo>
                  <a:pt x="26910" y="0"/>
                </a:moveTo>
                <a:lnTo>
                  <a:pt x="26910" y="21600"/>
                </a:lnTo>
                <a:lnTo>
                  <a:pt x="25510" y="20200"/>
                </a:lnTo>
                <a:lnTo>
                  <a:pt x="25510" y="1400"/>
                </a:lnTo>
                <a:close/>
              </a:path>
              <a:path fill="darkenLess" w="26910" h="21600">
                <a:moveTo>
                  <a:pt x="26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0" y="20200"/>
                </a:lnTo>
                <a:close/>
              </a:path>
              <a:path fill="lighten" w="26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0" h="21600">
                <a:moveTo>
                  <a:pt x="13455" y="3837"/>
                </a:moveTo>
                <a:lnTo>
                  <a:pt x="16031" y="6448"/>
                </a:lnTo>
                <a:lnTo>
                  <a:pt x="16031" y="4707"/>
                </a:lnTo>
                <a:lnTo>
                  <a:pt x="17807" y="4707"/>
                </a:lnTo>
                <a:lnTo>
                  <a:pt x="17807" y="8224"/>
                </a:lnTo>
                <a:lnTo>
                  <a:pt x="20418" y="10800"/>
                </a:lnTo>
                <a:lnTo>
                  <a:pt x="18764" y="10800"/>
                </a:lnTo>
                <a:lnTo>
                  <a:pt x="18764" y="17989"/>
                </a:lnTo>
                <a:lnTo>
                  <a:pt x="8146" y="17989"/>
                </a:lnTo>
                <a:lnTo>
                  <a:pt x="8146" y="10800"/>
                </a:lnTo>
                <a:lnTo>
                  <a:pt x="6492" y="10800"/>
                </a:lnTo>
                <a:close/>
              </a:path>
              <a:path fill="darkenLess" w="26910" h="21600">
                <a:moveTo>
                  <a:pt x="16031" y="6448"/>
                </a:moveTo>
                <a:lnTo>
                  <a:pt x="16031" y="4707"/>
                </a:lnTo>
                <a:lnTo>
                  <a:pt x="17807" y="4707"/>
                </a:lnTo>
                <a:lnTo>
                  <a:pt x="17807" y="8224"/>
                </a:lnTo>
                <a:close/>
              </a:path>
              <a:path fill="darkenLess" w="26910" h="21600">
                <a:moveTo>
                  <a:pt x="12532" y="14299"/>
                </a:moveTo>
                <a:lnTo>
                  <a:pt x="14378" y="14299"/>
                </a:lnTo>
                <a:lnTo>
                  <a:pt x="14378" y="17989"/>
                </a:lnTo>
                <a:lnTo>
                  <a:pt x="18764" y="17989"/>
                </a:lnTo>
                <a:lnTo>
                  <a:pt x="18764" y="10800"/>
                </a:lnTo>
                <a:lnTo>
                  <a:pt x="8146" y="10800"/>
                </a:lnTo>
                <a:lnTo>
                  <a:pt x="8146" y="17989"/>
                </a:lnTo>
                <a:lnTo>
                  <a:pt x="1253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9040" y="285192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Ric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0240" y="5949000"/>
            <a:ext cx="43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ereal for breakfa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78989"/>
                </a:solidFill>
                <a:latin typeface="Candy Round BTN Lt"/>
              </a:rPr>
              <a:t>     </a:t>
            </a:r>
            <a:r>
              <a:rPr b="1" lang="en-US" sz="6600" spc="-1" strike="noStrike">
                <a:solidFill>
                  <a:srgbClr val="f78989"/>
                </a:solidFill>
                <a:latin typeface="Candy Round BTN Lt"/>
              </a:rPr>
              <a:t>Boliv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3640" cy="3241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804000" y="620640"/>
            <a:ext cx="2038320" cy="2857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067280" y="3645000"/>
            <a:ext cx="1904760" cy="2857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459640" y="6308640"/>
            <a:ext cx="540000" cy="395280"/>
          </a:xfrm>
          <a:custGeom>
            <a:avLst/>
            <a:gdLst>
              <a:gd name="textAreaLeft" fmla="*/ 25560 w 540000"/>
              <a:gd name="textAreaRight" fmla="*/ 514440 w 54000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9501" h="21600">
                <a:moveTo>
                  <a:pt x="0" y="0"/>
                </a:moveTo>
                <a:lnTo>
                  <a:pt x="29501" y="0"/>
                </a:lnTo>
                <a:lnTo>
                  <a:pt x="29501" y="21600"/>
                </a:lnTo>
                <a:lnTo>
                  <a:pt x="0" y="21600"/>
                </a:lnTo>
                <a:close/>
              </a:path>
              <a:path fill="lightenLess" w="29501" h="21600">
                <a:moveTo>
                  <a:pt x="0" y="0"/>
                </a:moveTo>
                <a:lnTo>
                  <a:pt x="29501" y="0"/>
                </a:lnTo>
                <a:lnTo>
                  <a:pt x="28101" y="1400"/>
                </a:lnTo>
                <a:lnTo>
                  <a:pt x="1400" y="1400"/>
                </a:lnTo>
                <a:close/>
              </a:path>
              <a:path fill="darken" w="29501" h="21600">
                <a:moveTo>
                  <a:pt x="29501" y="0"/>
                </a:moveTo>
                <a:lnTo>
                  <a:pt x="29501" y="21600"/>
                </a:lnTo>
                <a:lnTo>
                  <a:pt x="28101" y="20200"/>
                </a:lnTo>
                <a:lnTo>
                  <a:pt x="28101" y="1400"/>
                </a:lnTo>
                <a:close/>
              </a:path>
              <a:path fill="darkenLess" w="29501" h="21600">
                <a:moveTo>
                  <a:pt x="2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01" y="20200"/>
                </a:lnTo>
                <a:close/>
              </a:path>
              <a:path fill="lighten" w="2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01" h="21600">
                <a:moveTo>
                  <a:pt x="14751" y="3837"/>
                </a:moveTo>
                <a:lnTo>
                  <a:pt x="17327" y="6448"/>
                </a:lnTo>
                <a:lnTo>
                  <a:pt x="17327" y="4707"/>
                </a:lnTo>
                <a:lnTo>
                  <a:pt x="19102" y="4707"/>
                </a:lnTo>
                <a:lnTo>
                  <a:pt x="19102" y="8224"/>
                </a:lnTo>
                <a:lnTo>
                  <a:pt x="21713" y="10800"/>
                </a:lnTo>
                <a:lnTo>
                  <a:pt x="20060" y="10800"/>
                </a:lnTo>
                <a:lnTo>
                  <a:pt x="20060" y="17989"/>
                </a:lnTo>
                <a:lnTo>
                  <a:pt x="9441" y="17989"/>
                </a:lnTo>
                <a:lnTo>
                  <a:pt x="9441" y="10800"/>
                </a:lnTo>
                <a:lnTo>
                  <a:pt x="7788" y="10800"/>
                </a:lnTo>
                <a:close/>
              </a:path>
              <a:path fill="darkenLess" w="29501" h="21600">
                <a:moveTo>
                  <a:pt x="17327" y="6448"/>
                </a:moveTo>
                <a:lnTo>
                  <a:pt x="17327" y="4707"/>
                </a:lnTo>
                <a:lnTo>
                  <a:pt x="19102" y="4707"/>
                </a:lnTo>
                <a:lnTo>
                  <a:pt x="19102" y="8224"/>
                </a:lnTo>
                <a:close/>
              </a:path>
              <a:path fill="darkenLess" w="29501" h="21600">
                <a:moveTo>
                  <a:pt x="13828" y="14299"/>
                </a:moveTo>
                <a:lnTo>
                  <a:pt x="15673" y="14299"/>
                </a:lnTo>
                <a:lnTo>
                  <a:pt x="15673" y="17989"/>
                </a:lnTo>
                <a:lnTo>
                  <a:pt x="20060" y="17989"/>
                </a:lnTo>
                <a:lnTo>
                  <a:pt x="20060" y="10800"/>
                </a:lnTo>
                <a:lnTo>
                  <a:pt x="9441" y="10800"/>
                </a:lnTo>
                <a:lnTo>
                  <a:pt x="9441" y="17989"/>
                </a:lnTo>
                <a:lnTo>
                  <a:pt x="1382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5760" y="414900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Cocoa powde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21840" y="4245120"/>
            <a:ext cx="13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neakerhead BTN Outline"/>
              </a:rPr>
              <a:t>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600" spc="-1" strike="noStrike">
                <a:solidFill>
                  <a:srgbClr val="da5800"/>
                </a:solidFill>
                <a:latin typeface="Candy Round BTN Lt"/>
              </a:rPr>
              <a:t>        </a:t>
            </a:r>
            <a:r>
              <a:rPr b="1" lang="en" sz="6600" spc="-1" strike="noStrike">
                <a:solidFill>
                  <a:srgbClr val="da5800"/>
                </a:solidFill>
                <a:latin typeface="Candy Round BTN Lt"/>
              </a:rPr>
              <a:t>Ecuad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357360" cy="4962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2586240" cy="4083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9280" y="189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360" y="60919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Jam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3320" y="602064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Sugar can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f18e"/>
                </a:solidFill>
                <a:latin typeface="Candy Round BTN Lt"/>
              </a:rPr>
              <a:t>Mex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2886120" cy="3578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68760" cy="3809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9280" y="189000"/>
            <a:ext cx="358920" cy="431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72">
                <a:moveTo>
                  <a:pt x="0" y="0"/>
                </a:moveTo>
                <a:lnTo>
                  <a:pt x="21600" y="0"/>
                </a:lnTo>
                <a:lnTo>
                  <a:pt x="21600" y="25972"/>
                </a:lnTo>
                <a:lnTo>
                  <a:pt x="0" y="25972"/>
                </a:lnTo>
                <a:close/>
              </a:path>
              <a:path fill="lightenLess" w="21600" h="25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2">
                <a:moveTo>
                  <a:pt x="21600" y="0"/>
                </a:moveTo>
                <a:lnTo>
                  <a:pt x="21600" y="25972"/>
                </a:lnTo>
                <a:lnTo>
                  <a:pt x="20200" y="24572"/>
                </a:lnTo>
                <a:lnTo>
                  <a:pt x="20200" y="1400"/>
                </a:lnTo>
                <a:close/>
              </a:path>
              <a:path fill="darkenLess" w="21600" h="25972">
                <a:moveTo>
                  <a:pt x="21600" y="25972"/>
                </a:moveTo>
                <a:lnTo>
                  <a:pt x="0" y="25972"/>
                </a:lnTo>
                <a:lnTo>
                  <a:pt x="1400" y="24572"/>
                </a:lnTo>
                <a:lnTo>
                  <a:pt x="20200" y="24572"/>
                </a:lnTo>
                <a:close/>
              </a:path>
              <a:path fill="lighten" w="21600" h="25972">
                <a:moveTo>
                  <a:pt x="0" y="25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2"/>
                </a:lnTo>
                <a:close/>
              </a:path>
              <a:path fill="darken" w="21600" h="25972">
                <a:moveTo>
                  <a:pt x="10800" y="6023"/>
                </a:moveTo>
                <a:lnTo>
                  <a:pt x="13376" y="8634"/>
                </a:ln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lnTo>
                  <a:pt x="17763" y="12986"/>
                </a:lnTo>
                <a:lnTo>
                  <a:pt x="16109" y="12986"/>
                </a:lnTo>
                <a:lnTo>
                  <a:pt x="16109" y="20175"/>
                </a:lnTo>
                <a:lnTo>
                  <a:pt x="5491" y="20175"/>
                </a:lnTo>
                <a:lnTo>
                  <a:pt x="5491" y="12986"/>
                </a:lnTo>
                <a:lnTo>
                  <a:pt x="3837" y="12986"/>
                </a:lnTo>
                <a:close/>
              </a:path>
              <a:path fill="darkenLess" w="21600" h="25972">
                <a:moveTo>
                  <a:pt x="13376" y="8634"/>
                </a:moveTo>
                <a:lnTo>
                  <a:pt x="13376" y="6893"/>
                </a:lnTo>
                <a:lnTo>
                  <a:pt x="15152" y="6893"/>
                </a:lnTo>
                <a:lnTo>
                  <a:pt x="15152" y="10410"/>
                </a:lnTo>
                <a:close/>
              </a:path>
              <a:path fill="darkenLess" w="21600" h="25972">
                <a:moveTo>
                  <a:pt x="9877" y="16485"/>
                </a:moveTo>
                <a:lnTo>
                  <a:pt x="11723" y="16485"/>
                </a:lnTo>
                <a:lnTo>
                  <a:pt x="11723" y="20175"/>
                </a:lnTo>
                <a:lnTo>
                  <a:pt x="16109" y="20175"/>
                </a:lnTo>
                <a:lnTo>
                  <a:pt x="16109" y="12986"/>
                </a:lnTo>
                <a:lnTo>
                  <a:pt x="5491" y="12986"/>
                </a:lnTo>
                <a:lnTo>
                  <a:pt x="5491" y="20175"/>
                </a:lnTo>
                <a:lnTo>
                  <a:pt x="9877" y="20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1400" y="472356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Sneakerhead BTN Outline"/>
              </a:rPr>
              <a:t>Hone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5600" y="573300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neakerhead BTN Outline"/>
              </a:rPr>
              <a:t>Amaranth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1:00:49Z</dcterms:created>
  <dc:creator>Administrator</dc:creator>
  <dc:description/>
  <dc:language>en-US</dc:language>
  <cp:lastModifiedBy>Administrator</cp:lastModifiedBy>
  <dcterms:modified xsi:type="dcterms:W3CDTF">2012-05-03T16:10:42Z</dcterms:modified>
  <cp:revision>22</cp:revision>
  <dc:subject/>
  <dc:title>                                     6 April 2012, Friday   Esselunga's fair trade</dc:title>
</cp:coreProperties>
</file>