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467-AD2E-4A7E-98A3-C6EFAFCE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151-5BDD-4F80-8E12-0C9A42C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288-D883-47F7-99D0-275249E6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86E-124B-4053-B688-FE10202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97D5-044E-40AE-B1DE-D07BC5D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7AD1-9202-4E20-868E-C63FD3F7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11B6-E730-46B2-A63D-F67C7976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3D46-DE1E-412E-8C9E-C7E9958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BDD-5AD9-461C-B302-C74BFA4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913A-735D-43AA-8E86-107B21B5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42A4-A20B-4983-B33F-C49773A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64E-8A98-4AE3-8714-1573D60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98C2-32C3-4213-A6B8-25E22030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A0A6-6E44-4794-B8BB-B1B09223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B9B7-706E-481E-BC7C-EA2B8F5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6B14-0CAD-4BBC-A309-43DA2D85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C70D-0F08-41CA-9E02-D9F26762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A8BC-8DDC-4F28-892C-1AF0CE21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B26B-A6D1-42E0-8AC2-D47DCA5F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F184-A21A-460C-B26C-3E3A013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A20E-CA21-4EC3-9F21-A48AFAA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262A-A8C4-4BFF-A1D3-088D6AA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449-9279-40CE-9C2D-95114D7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88A2-7280-4173-8557-DFDE8D03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725C-32C5-4542-B544-0EE8822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3B72-A0D3-4ED9-9503-C74AD45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EE5C-BEA5-4B05-ACEF-CF1743F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A7A0-4D6E-4BB1-9AD2-6B926B3D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ACD6-1813-4C20-BCD3-FC2CC8D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956E-70CF-4299-9F33-D4A9E285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D53-7190-451D-A9A3-5B00ED8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341-4126-4A13-9E33-A38142F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72D-8945-4519-8452-73B8EB0D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E93-C2FB-430A-B83F-BD64D7C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C48-CCE5-4CA6-AE19-FA4A17B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2DC-E909-45F3-92FD-F77FFEEE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A96C-0670-4E91-B617-3995EC3DBF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A813-9616-4129-96C1-40F1D47376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9F9-E1DA-4E9C-A8A6-F6EA2073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andy Round BTN Lt"/>
              </a:rPr>
              <a:t>6 April 2012, Friday</a:t>
            </a:r>
            <a:br>
              <a:rPr sz="1600"/>
            </a:b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ndy Round BTN Lt"/>
              </a:rPr>
              <a:t>      </a:t>
            </a:r>
            <a:r>
              <a:rPr b="1" lang="en-US" sz="4800" spc="-1" strike="noStrike">
                <a:solidFill>
                  <a:srgbClr val="000066"/>
                </a:solidFill>
                <a:latin typeface="Candy Round BTN Lt"/>
              </a:rPr>
              <a:t>Esselunga’s Fair Trad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4392360" cy="2341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3141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24360" y="6410880"/>
            <a:ext cx="33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ff00"/>
                </a:solidFill>
                <a:latin typeface="Monotype Corsiva"/>
              </a:rPr>
              <a:t>Elena &amp; Ro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1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Candy Round BTN Lt"/>
              </a:rPr>
              <a:t>Brazi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2138400" cy="3291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368800" cy="2592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9280" y="18900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16178" y="3837"/>
                </a:moveTo>
                <a:lnTo>
                  <a:pt x="18755" y="6448"/>
                </a:lnTo>
                <a:lnTo>
                  <a:pt x="18755" y="4707"/>
                </a:lnTo>
                <a:lnTo>
                  <a:pt x="20530" y="4707"/>
                </a:lnTo>
                <a:lnTo>
                  <a:pt x="20530" y="8224"/>
                </a:lnTo>
                <a:lnTo>
                  <a:pt x="23141" y="10800"/>
                </a:lnTo>
                <a:lnTo>
                  <a:pt x="21488" y="10800"/>
                </a:lnTo>
                <a:lnTo>
                  <a:pt x="21488" y="17989"/>
                </a:lnTo>
                <a:lnTo>
                  <a:pt x="10869" y="17989"/>
                </a:lnTo>
                <a:lnTo>
                  <a:pt x="10869" y="10800"/>
                </a:lnTo>
                <a:lnTo>
                  <a:pt x="9215" y="10800"/>
                </a:lnTo>
                <a:close/>
              </a:path>
              <a:path fill="darkenLess" w="32357" h="21600">
                <a:moveTo>
                  <a:pt x="18755" y="6448"/>
                </a:moveTo>
                <a:lnTo>
                  <a:pt x="18755" y="4707"/>
                </a:lnTo>
                <a:lnTo>
                  <a:pt x="20530" y="4707"/>
                </a:lnTo>
                <a:lnTo>
                  <a:pt x="20530" y="8224"/>
                </a:lnTo>
                <a:close/>
              </a:path>
              <a:path fill="darkenLess" w="32357" h="21600">
                <a:moveTo>
                  <a:pt x="15256" y="14299"/>
                </a:moveTo>
                <a:lnTo>
                  <a:pt x="17101" y="14299"/>
                </a:lnTo>
                <a:lnTo>
                  <a:pt x="17101" y="17989"/>
                </a:lnTo>
                <a:lnTo>
                  <a:pt x="21488" y="17989"/>
                </a:lnTo>
                <a:lnTo>
                  <a:pt x="21488" y="10800"/>
                </a:lnTo>
                <a:lnTo>
                  <a:pt x="10869" y="10800"/>
                </a:lnTo>
                <a:lnTo>
                  <a:pt x="10869" y="17989"/>
                </a:lnTo>
                <a:lnTo>
                  <a:pt x="1525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372360" y="3500280"/>
            <a:ext cx="2382840" cy="2552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276720" y="3500280"/>
            <a:ext cx="2365200" cy="2552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16360" y="436464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eakerhead BTN Outline"/>
              </a:rPr>
              <a:t>Guarani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95920" y="2348640"/>
            <a:ext cx="446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Sauce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                </a:t>
            </a: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ndime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ndy Round BTN Lt"/>
              </a:rPr>
              <a:t>                            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Candy Round BTN Lt"/>
              </a:rPr>
              <a:t>Ital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ndy Round BTN Lt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ndy Round BTN Lt"/>
              </a:rPr>
              <a:t>Sicily &amp; Pu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653760" cy="3024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952560" cy="2265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908000" y="907920"/>
            <a:ext cx="1459080" cy="2187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140360" y="4292640"/>
            <a:ext cx="3276360" cy="2414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5508720" y="1773360"/>
            <a:ext cx="3168720" cy="2262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1320" y="34527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5157000"/>
            <a:ext cx="36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tomato sauc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55760" y="335664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197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Candy Round BTN Lt"/>
              </a:rPr>
              <a:t>... </a:t>
            </a:r>
            <a:r>
              <a:rPr b="1" lang="en" sz="4400" spc="-1" strike="noStrike">
                <a:solidFill>
                  <a:srgbClr val="0066cc"/>
                </a:solidFill>
                <a:latin typeface="Candy Round BTN Lt"/>
              </a:rPr>
              <a:t>Not only food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1720800" cy="248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1444680" cy="2235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780000" y="189000"/>
            <a:ext cx="5126040" cy="1665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143240" y="3141720"/>
            <a:ext cx="5000760" cy="151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411280" y="4221000"/>
            <a:ext cx="1554120" cy="2210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364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hygiene</a:t>
            </a:r>
            <a:r>
              <a:rPr b="1" lang="it-IT" sz="24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91600" y="18435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clothes</a:t>
            </a:r>
            <a:r>
              <a:rPr b="1" lang="it-IT" sz="24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0" y="46530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neakerhead BTN Outline"/>
              </a:rPr>
              <a:t>accessories of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6280" y="5660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deterge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33000"/>
            <a:ext cx="791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The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fair </a:t>
            </a: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trade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are </a:t>
            </a: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produced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especially </a:t>
            </a: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in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2" action="ppaction://hlinksldjump"/>
              </a:rPr>
              <a:t>Latin America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4" action="ppaction://hlinksldjump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5" action="ppaction://hlinksldjump"/>
              </a:rPr>
              <a:t>Paraguay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7" action="ppaction://hlinksldjump"/>
              </a:rPr>
              <a:t>Thailand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9" action="ppaction://hlinksldjump"/>
              </a:rPr>
              <a:t>Bolivia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10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Candy Round BTN Lt"/>
              </a:rPr>
              <a:t>Ecuador</a:t>
            </a:r>
            <a:r>
              <a:rPr b="1" lang="it-IT" sz="2800" spc="-1" strike="noStrike">
                <a:solidFill>
                  <a:srgbClr val="000000"/>
                </a:solidFill>
                <a:latin typeface="Candy Round BTN 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Candy Round BTN Lt"/>
              </a:rPr>
              <a:t>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Candy Round BTN Lt"/>
              </a:rPr>
              <a:t>Brazil</a:t>
            </a:r>
            <a:r>
              <a:rPr b="0" lang="it-IT" sz="2800" spc="-1" strike="noStrike">
                <a:solidFill>
                  <a:srgbClr val="000000"/>
                </a:solidFill>
                <a:latin typeface="Candy Round BTN 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2916360" y="1916280"/>
            <a:ext cx="5962680" cy="39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5400" spc="-1" strike="noStrike">
                <a:solidFill>
                  <a:srgbClr val="008000"/>
                </a:solidFill>
                <a:latin typeface="Candy Round BTN Lt"/>
              </a:rPr>
              <a:t>Latin</a:t>
            </a:r>
            <a:r>
              <a:rPr b="1" i="1" lang="en" sz="5400" spc="-1" strike="noStrike">
                <a:solidFill>
                  <a:srgbClr val="008000"/>
                </a:solidFill>
                <a:latin typeface="Candy Round BTN Lt"/>
              </a:rPr>
              <a:t> </a:t>
            </a:r>
            <a:r>
              <a:rPr b="1" lang="en" sz="5400" spc="-1" strike="noStrike">
                <a:solidFill>
                  <a:srgbClr val="008000"/>
                </a:solidFill>
                <a:latin typeface="Candy Round BTN Lt"/>
              </a:rPr>
              <a:t>Ame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93080" y="404640"/>
            <a:ext cx="187632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1830240" cy="251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068560" cy="3057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643280" y="2997360"/>
            <a:ext cx="1998720" cy="284148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8317080" y="6165720"/>
            <a:ext cx="682560" cy="46692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15784" y="3837"/>
                </a:moveTo>
                <a:lnTo>
                  <a:pt x="18360" y="6448"/>
                </a:ln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lnTo>
                  <a:pt x="22747" y="10800"/>
                </a:lnTo>
                <a:lnTo>
                  <a:pt x="21093" y="10800"/>
                </a:lnTo>
                <a:lnTo>
                  <a:pt x="21093" y="17989"/>
                </a:lnTo>
                <a:lnTo>
                  <a:pt x="10475" y="17989"/>
                </a:lnTo>
                <a:lnTo>
                  <a:pt x="10475" y="10800"/>
                </a:lnTo>
                <a:lnTo>
                  <a:pt x="8821" y="10800"/>
                </a:lnTo>
                <a:close/>
              </a:path>
              <a:path fill="darkenLess" w="31568" h="21600">
                <a:moveTo>
                  <a:pt x="18360" y="6448"/>
                </a:move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close/>
              </a:path>
              <a:path fill="darkenLess" w="31568" h="21600">
                <a:moveTo>
                  <a:pt x="14861" y="14299"/>
                </a:moveTo>
                <a:lnTo>
                  <a:pt x="16707" y="14299"/>
                </a:lnTo>
                <a:lnTo>
                  <a:pt x="16707" y="17989"/>
                </a:lnTo>
                <a:lnTo>
                  <a:pt x="21093" y="17989"/>
                </a:lnTo>
                <a:lnTo>
                  <a:pt x="21093" y="10800"/>
                </a:lnTo>
                <a:lnTo>
                  <a:pt x="10475" y="10800"/>
                </a:lnTo>
                <a:lnTo>
                  <a:pt x="10475" y="17989"/>
                </a:lnTo>
                <a:lnTo>
                  <a:pt x="1486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00" y="335664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ok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560" y="573300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hip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7640" y="522828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hocolat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9880" y="220428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ffee</a:t>
            </a:r>
            <a:r>
              <a:rPr b="0" lang="it-IT" sz="32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y Round BTN Lt"/>
              </a:rPr>
              <a:t>Ind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590560" cy="3809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492360" y="2133720"/>
            <a:ext cx="508032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8459640" y="18900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11718" y="3837"/>
                </a:moveTo>
                <a:lnTo>
                  <a:pt x="14294" y="6448"/>
                </a:lnTo>
                <a:lnTo>
                  <a:pt x="14294" y="4707"/>
                </a:lnTo>
                <a:lnTo>
                  <a:pt x="16070" y="4707"/>
                </a:lnTo>
                <a:lnTo>
                  <a:pt x="16070" y="8224"/>
                </a:lnTo>
                <a:lnTo>
                  <a:pt x="18681" y="10800"/>
                </a:lnTo>
                <a:lnTo>
                  <a:pt x="17027" y="10800"/>
                </a:lnTo>
                <a:lnTo>
                  <a:pt x="17027" y="17989"/>
                </a:lnTo>
                <a:lnTo>
                  <a:pt x="6409" y="17989"/>
                </a:lnTo>
                <a:lnTo>
                  <a:pt x="6409" y="10800"/>
                </a:lnTo>
                <a:lnTo>
                  <a:pt x="4755" y="10800"/>
                </a:lnTo>
                <a:close/>
              </a:path>
              <a:path fill="darkenLess" w="23436" h="21600">
                <a:moveTo>
                  <a:pt x="14294" y="6448"/>
                </a:moveTo>
                <a:lnTo>
                  <a:pt x="14294" y="4707"/>
                </a:lnTo>
                <a:lnTo>
                  <a:pt x="16070" y="4707"/>
                </a:lnTo>
                <a:lnTo>
                  <a:pt x="16070" y="8224"/>
                </a:lnTo>
                <a:close/>
              </a:path>
              <a:path fill="darkenLess" w="23436" h="21600">
                <a:moveTo>
                  <a:pt x="10795" y="14299"/>
                </a:moveTo>
                <a:lnTo>
                  <a:pt x="12641" y="14299"/>
                </a:lnTo>
                <a:lnTo>
                  <a:pt x="12641" y="17989"/>
                </a:lnTo>
                <a:lnTo>
                  <a:pt x="17027" y="17989"/>
                </a:lnTo>
                <a:lnTo>
                  <a:pt x="17027" y="10800"/>
                </a:lnTo>
                <a:lnTo>
                  <a:pt x="6409" y="10800"/>
                </a:lnTo>
                <a:lnTo>
                  <a:pt x="6409" y="17989"/>
                </a:lnTo>
                <a:lnTo>
                  <a:pt x="107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880" y="47235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Tea</a:t>
            </a:r>
            <a:r>
              <a:rPr b="0" lang="it-IT" sz="32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51080" y="148356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Papad</a:t>
            </a:r>
            <a:r>
              <a:rPr b="1" lang="it-IT" sz="32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880" y="333000"/>
            <a:ext cx="791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andy Round BTN Lt"/>
              </a:rPr>
              <a:t>                       </a:t>
            </a:r>
            <a:r>
              <a:rPr b="1" lang="en-US" sz="6000" spc="-1" strike="noStrike">
                <a:solidFill>
                  <a:srgbClr val="660066"/>
                </a:solidFill>
                <a:latin typeface="Candy Round BTN Lt"/>
              </a:rPr>
              <a:t>Paragu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198680" cy="518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3098880" cy="379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675640" y="18900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10800" y="5048"/>
                </a:moveTo>
                <a:lnTo>
                  <a:pt x="13376" y="7659"/>
                </a:lnTo>
                <a:lnTo>
                  <a:pt x="13376" y="5918"/>
                </a:lnTo>
                <a:lnTo>
                  <a:pt x="15152" y="5918"/>
                </a:lnTo>
                <a:lnTo>
                  <a:pt x="15152" y="9434"/>
                </a:lnTo>
                <a:lnTo>
                  <a:pt x="17763" y="12011"/>
                </a:lnTo>
                <a:lnTo>
                  <a:pt x="16109" y="12011"/>
                </a:lnTo>
                <a:lnTo>
                  <a:pt x="16109" y="19200"/>
                </a:lnTo>
                <a:lnTo>
                  <a:pt x="5491" y="19200"/>
                </a:lnTo>
                <a:lnTo>
                  <a:pt x="5491" y="12011"/>
                </a:lnTo>
                <a:lnTo>
                  <a:pt x="3837" y="12011"/>
                </a:lnTo>
                <a:close/>
              </a:path>
              <a:path fill="darkenLess" w="21600" h="24021">
                <a:moveTo>
                  <a:pt x="13376" y="7659"/>
                </a:moveTo>
                <a:lnTo>
                  <a:pt x="13376" y="5918"/>
                </a:lnTo>
                <a:lnTo>
                  <a:pt x="15152" y="5918"/>
                </a:lnTo>
                <a:lnTo>
                  <a:pt x="15152" y="9434"/>
                </a:lnTo>
                <a:close/>
              </a:path>
              <a:path fill="darkenLess" w="21600" h="24021">
                <a:moveTo>
                  <a:pt x="9877" y="15510"/>
                </a:moveTo>
                <a:lnTo>
                  <a:pt x="11723" y="15510"/>
                </a:lnTo>
                <a:lnTo>
                  <a:pt x="11723" y="19200"/>
                </a:lnTo>
                <a:lnTo>
                  <a:pt x="16109" y="19200"/>
                </a:lnTo>
                <a:lnTo>
                  <a:pt x="16109" y="12011"/>
                </a:lnTo>
                <a:lnTo>
                  <a:pt x="5491" y="12011"/>
                </a:lnTo>
                <a:lnTo>
                  <a:pt x="5491" y="19200"/>
                </a:lnTo>
                <a:lnTo>
                  <a:pt x="9877" y="19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76960" y="59490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Pudding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5400" spc="-1" strike="noStrike">
                <a:solidFill>
                  <a:srgbClr val="929cf6"/>
                </a:solidFill>
                <a:latin typeface="Candy Round BTN Lt"/>
              </a:rPr>
              <a:t>Thai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108240" cy="37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3189240" cy="4600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317080" y="189000"/>
            <a:ext cx="537840" cy="431640"/>
          </a:xfrm>
          <a:custGeom>
            <a:avLst/>
            <a:gdLst>
              <a:gd name="textAreaLeft" fmla="*/ 27720 w 537840"/>
              <a:gd name="textAreaRight" fmla="*/ 510120 w 5378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10" h="21600">
                <a:moveTo>
                  <a:pt x="0" y="0"/>
                </a:moveTo>
                <a:lnTo>
                  <a:pt x="26910" y="0"/>
                </a:lnTo>
                <a:lnTo>
                  <a:pt x="26910" y="21600"/>
                </a:lnTo>
                <a:lnTo>
                  <a:pt x="0" y="21600"/>
                </a:lnTo>
                <a:close/>
              </a:path>
              <a:path fill="lightenLess" w="26910" h="21600">
                <a:moveTo>
                  <a:pt x="0" y="0"/>
                </a:moveTo>
                <a:lnTo>
                  <a:pt x="26910" y="0"/>
                </a:lnTo>
                <a:lnTo>
                  <a:pt x="25510" y="1400"/>
                </a:lnTo>
                <a:lnTo>
                  <a:pt x="1400" y="1400"/>
                </a:lnTo>
                <a:close/>
              </a:path>
              <a:path fill="darken" w="26910" h="21600">
                <a:moveTo>
                  <a:pt x="26910" y="0"/>
                </a:moveTo>
                <a:lnTo>
                  <a:pt x="26910" y="21600"/>
                </a:lnTo>
                <a:lnTo>
                  <a:pt x="25510" y="20200"/>
                </a:lnTo>
                <a:lnTo>
                  <a:pt x="25510" y="1400"/>
                </a:lnTo>
                <a:close/>
              </a:path>
              <a:path fill="darkenLess" w="26910" h="21600">
                <a:moveTo>
                  <a:pt x="26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0" y="20200"/>
                </a:lnTo>
                <a:close/>
              </a:path>
              <a:path fill="lighten" w="26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0" h="21600">
                <a:moveTo>
                  <a:pt x="13455" y="3837"/>
                </a:moveTo>
                <a:lnTo>
                  <a:pt x="16031" y="6448"/>
                </a:lnTo>
                <a:lnTo>
                  <a:pt x="16031" y="4707"/>
                </a:lnTo>
                <a:lnTo>
                  <a:pt x="17807" y="4707"/>
                </a:lnTo>
                <a:lnTo>
                  <a:pt x="17807" y="8224"/>
                </a:lnTo>
                <a:lnTo>
                  <a:pt x="20418" y="10800"/>
                </a:lnTo>
                <a:lnTo>
                  <a:pt x="18764" y="10800"/>
                </a:lnTo>
                <a:lnTo>
                  <a:pt x="18764" y="17989"/>
                </a:lnTo>
                <a:lnTo>
                  <a:pt x="8146" y="17989"/>
                </a:lnTo>
                <a:lnTo>
                  <a:pt x="8146" y="10800"/>
                </a:lnTo>
                <a:lnTo>
                  <a:pt x="6492" y="10800"/>
                </a:lnTo>
                <a:close/>
              </a:path>
              <a:path fill="darkenLess" w="26910" h="21600">
                <a:moveTo>
                  <a:pt x="16031" y="6448"/>
                </a:moveTo>
                <a:lnTo>
                  <a:pt x="16031" y="4707"/>
                </a:lnTo>
                <a:lnTo>
                  <a:pt x="17807" y="4707"/>
                </a:lnTo>
                <a:lnTo>
                  <a:pt x="17807" y="8224"/>
                </a:lnTo>
                <a:close/>
              </a:path>
              <a:path fill="darkenLess" w="26910" h="21600">
                <a:moveTo>
                  <a:pt x="12532" y="14299"/>
                </a:moveTo>
                <a:lnTo>
                  <a:pt x="14378" y="14299"/>
                </a:lnTo>
                <a:lnTo>
                  <a:pt x="14378" y="17989"/>
                </a:lnTo>
                <a:lnTo>
                  <a:pt x="18764" y="17989"/>
                </a:lnTo>
                <a:lnTo>
                  <a:pt x="18764" y="10800"/>
                </a:lnTo>
                <a:lnTo>
                  <a:pt x="8146" y="10800"/>
                </a:lnTo>
                <a:lnTo>
                  <a:pt x="8146" y="17989"/>
                </a:lnTo>
                <a:lnTo>
                  <a:pt x="1253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9040" y="28519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Ric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0240" y="594900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ereal for breakfa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78989"/>
                </a:solidFill>
                <a:latin typeface="Candy Round BTN Lt"/>
              </a:rPr>
              <a:t>     </a:t>
            </a:r>
            <a:r>
              <a:rPr b="1" lang="en-US" sz="6600" spc="-1" strike="noStrike">
                <a:solidFill>
                  <a:srgbClr val="f78989"/>
                </a:solidFill>
                <a:latin typeface="Candy Round BTN Lt"/>
              </a:rPr>
              <a:t>Boliv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3640" cy="3241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804000" y="620640"/>
            <a:ext cx="2038320" cy="2857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459640" y="6308640"/>
            <a:ext cx="540000" cy="395280"/>
          </a:xfrm>
          <a:custGeom>
            <a:avLst/>
            <a:gdLst>
              <a:gd name="textAreaLeft" fmla="*/ 25560 w 540000"/>
              <a:gd name="textAreaRight" fmla="*/ 514440 w 540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9501" h="21600">
                <a:moveTo>
                  <a:pt x="0" y="0"/>
                </a:moveTo>
                <a:lnTo>
                  <a:pt x="29501" y="0"/>
                </a:lnTo>
                <a:lnTo>
                  <a:pt x="29501" y="21600"/>
                </a:lnTo>
                <a:lnTo>
                  <a:pt x="0" y="21600"/>
                </a:lnTo>
                <a:close/>
              </a:path>
              <a:path fill="lightenLess" w="29501" h="21600">
                <a:moveTo>
                  <a:pt x="0" y="0"/>
                </a:moveTo>
                <a:lnTo>
                  <a:pt x="29501" y="0"/>
                </a:lnTo>
                <a:lnTo>
                  <a:pt x="28101" y="1400"/>
                </a:lnTo>
                <a:lnTo>
                  <a:pt x="1400" y="1400"/>
                </a:lnTo>
                <a:close/>
              </a:path>
              <a:path fill="darken" w="29501" h="21600">
                <a:moveTo>
                  <a:pt x="29501" y="0"/>
                </a:moveTo>
                <a:lnTo>
                  <a:pt x="29501" y="21600"/>
                </a:lnTo>
                <a:lnTo>
                  <a:pt x="28101" y="20200"/>
                </a:lnTo>
                <a:lnTo>
                  <a:pt x="28101" y="1400"/>
                </a:lnTo>
                <a:close/>
              </a:path>
              <a:path fill="darkenLess" w="29501" h="21600">
                <a:moveTo>
                  <a:pt x="2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01" y="20200"/>
                </a:lnTo>
                <a:close/>
              </a:path>
              <a:path fill="lighten" w="2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01" h="21600">
                <a:moveTo>
                  <a:pt x="14751" y="3837"/>
                </a:moveTo>
                <a:lnTo>
                  <a:pt x="17327" y="6448"/>
                </a:lnTo>
                <a:lnTo>
                  <a:pt x="17327" y="4707"/>
                </a:lnTo>
                <a:lnTo>
                  <a:pt x="19102" y="4707"/>
                </a:lnTo>
                <a:lnTo>
                  <a:pt x="19102" y="8224"/>
                </a:lnTo>
                <a:lnTo>
                  <a:pt x="21713" y="10800"/>
                </a:lnTo>
                <a:lnTo>
                  <a:pt x="20060" y="10800"/>
                </a:lnTo>
                <a:lnTo>
                  <a:pt x="20060" y="17989"/>
                </a:lnTo>
                <a:lnTo>
                  <a:pt x="9441" y="17989"/>
                </a:lnTo>
                <a:lnTo>
                  <a:pt x="9441" y="10800"/>
                </a:lnTo>
                <a:lnTo>
                  <a:pt x="7788" y="10800"/>
                </a:lnTo>
                <a:close/>
              </a:path>
              <a:path fill="darkenLess" w="29501" h="21600">
                <a:moveTo>
                  <a:pt x="17327" y="6448"/>
                </a:moveTo>
                <a:lnTo>
                  <a:pt x="17327" y="4707"/>
                </a:lnTo>
                <a:lnTo>
                  <a:pt x="19102" y="4707"/>
                </a:lnTo>
                <a:lnTo>
                  <a:pt x="19102" y="8224"/>
                </a:lnTo>
                <a:close/>
              </a:path>
              <a:path fill="darkenLess" w="29501" h="21600">
                <a:moveTo>
                  <a:pt x="13828" y="14299"/>
                </a:moveTo>
                <a:lnTo>
                  <a:pt x="15673" y="14299"/>
                </a:lnTo>
                <a:lnTo>
                  <a:pt x="15673" y="17989"/>
                </a:lnTo>
                <a:lnTo>
                  <a:pt x="20060" y="17989"/>
                </a:lnTo>
                <a:lnTo>
                  <a:pt x="20060" y="10800"/>
                </a:lnTo>
                <a:lnTo>
                  <a:pt x="9441" y="10800"/>
                </a:lnTo>
                <a:lnTo>
                  <a:pt x="9441" y="17989"/>
                </a:lnTo>
                <a:lnTo>
                  <a:pt x="1382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5760" y="414900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coa powd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1840" y="424512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eakerhead BTN Outline"/>
              </a:rPr>
              <a:t>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600" spc="-1" strike="noStrike">
                <a:solidFill>
                  <a:srgbClr val="da5800"/>
                </a:solidFill>
                <a:latin typeface="Candy Round BTN Lt"/>
              </a:rPr>
              <a:t>        </a:t>
            </a:r>
            <a:r>
              <a:rPr b="1" lang="en" sz="6600" spc="-1" strike="noStrike">
                <a:solidFill>
                  <a:srgbClr val="da5800"/>
                </a:solidFill>
                <a:latin typeface="Candy Round BTN Lt"/>
              </a:rPr>
              <a:t>Ecuad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357360" cy="4962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586240" cy="4083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80" y="189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360" y="6091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Jam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3320" y="602064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Sugar can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f18e"/>
                </a:solidFill>
                <a:latin typeface="Candy Round BTN Lt"/>
              </a:rPr>
              <a:t>Mex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2886120" cy="3578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68760" cy="3809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9280" y="18900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1400" y="47235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Hone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5600" y="573300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neakerhead BTN Outline"/>
              </a:rPr>
              <a:t>Amaranth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1:00:49Z</dcterms:created>
  <dc:creator>Administrator</dc:creator>
  <dc:description/>
  <dc:language>en-US</dc:language>
  <cp:lastModifiedBy>Administrator</cp:lastModifiedBy>
  <dcterms:modified xsi:type="dcterms:W3CDTF">2012-05-03T16:10:42Z</dcterms:modified>
  <cp:revision>22</cp:revision>
  <dc:subject/>
  <dc:title>                                     6 April 2012, Friday   Esselunga's fair trade</dc:title>
</cp:coreProperties>
</file>