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7BF-EEE1-4597-B3AC-2C313120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2D4-AF58-4D38-AEBD-8F0B9E07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D48-80E5-4E1B-8D61-E9ACBAFF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9D6-6D85-4B83-9C89-76B3E660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3FFF-B901-4956-BEFC-C30BA98E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5B52-2F04-4F04-AE32-25C43F9A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7B5B-3625-4A7F-98D8-86E7EE98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F3D8-9009-4988-A4F4-334043A5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E700-94ED-441F-ACD9-06094D32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2607-CCBD-4A97-B8F3-4916557F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E8D2-DCDD-4927-B705-AA89723C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D8B-9B8C-4E03-AAEA-5FBE51E8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C664-6A6E-48EF-9DF0-4E9631D5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3FB6-61B3-497F-8983-0D7A22BD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356A-2DA7-4C2A-A8AC-68BAAF07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45CB-12CE-448A-95A8-6A140FBB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407B-356C-4B74-AD68-C2898DD6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88D-F8AD-4833-84EC-8E45B11F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BD5-109D-4BF9-90E4-C86E7D96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192-A7B4-42D1-B75E-49BBD5B3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203-BE29-4EB0-B155-15F1A769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FC7-C922-4393-A206-D058440F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F91-9A93-4C60-887E-F2362876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C8D-ABE5-4532-9FF7-75A0E876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6D7F-C7CF-4D20-A0A8-778B1389A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6D86-B84D-489E-BC7E-C07F4048E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88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0" name="tapemeasure" descr=""/>
          <p:cNvPicPr/>
          <p:nvPr/>
        </p:nvPicPr>
        <p:blipFill>
          <a:blip r:embed="rId1"/>
          <a:stretch/>
        </p:blipFill>
        <p:spPr>
          <a:xfrm>
            <a:off x="4562640" y="465120"/>
            <a:ext cx="2000160" cy="2251080"/>
          </a:xfrm>
          <a:prstGeom prst="rect">
            <a:avLst/>
          </a:prstGeom>
          <a:ln w="0">
            <a:noFill/>
          </a:ln>
        </p:spPr>
      </p:pic>
      <p:pic>
        <p:nvPicPr>
          <p:cNvPr id="91" name="orologio" descr=""/>
          <p:cNvPicPr/>
          <p:nvPr/>
        </p:nvPicPr>
        <p:blipFill>
          <a:blip r:embed="rId2"/>
          <a:stretch/>
        </p:blipFill>
        <p:spPr>
          <a:xfrm>
            <a:off x="819000" y="1378080"/>
            <a:ext cx="3892680" cy="434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93840" y="30034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nkGothic Lt BT"/>
              </a:rPr>
              <a:t>Cenni di matematica e geometria per la fis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triangolo" descr=""/>
          <p:cNvPicPr/>
          <p:nvPr/>
        </p:nvPicPr>
        <p:blipFill>
          <a:blip r:embed="rId3"/>
          <a:stretch/>
        </p:blipFill>
        <p:spPr>
          <a:xfrm>
            <a:off x="6424560" y="1654200"/>
            <a:ext cx="210348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anatomia_homem_leonardo" descr=""/>
          <p:cNvPicPr/>
          <p:nvPr/>
        </p:nvPicPr>
        <p:blipFill>
          <a:blip r:embed="rId4"/>
          <a:stretch/>
        </p:blipFill>
        <p:spPr>
          <a:xfrm>
            <a:off x="295200" y="181080"/>
            <a:ext cx="1863720" cy="253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86280" y="4743360"/>
            <a:ext cx="346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276880" y="5000760"/>
            <a:ext cx="2209680" cy="70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0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0016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quadro 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380880"/>
            <a:ext cx="260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tiamo rispondendo alla domanda: quant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stanno in u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8760" y="5438880"/>
            <a:ext cx="826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m x 1 dm = 1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spost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 sono 100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923760"/>
            <a:ext cx="3190680" cy="2895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4520" y="19810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 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10040" y="3952800"/>
            <a:ext cx="781200" cy="466920"/>
          </a:xfrm>
          <a:prstGeom prst="rightArrow">
            <a:avLst>
              <a:gd name="adj1" fmla="val 50000"/>
              <a:gd name="adj2" fmla="val 4182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47720" y="4743360"/>
            <a:ext cx="13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033280" y="2997000"/>
            <a:ext cx="209520" cy="3149640"/>
          </a:xfrm>
          <a:custGeom>
            <a:avLst/>
            <a:gdLst>
              <a:gd name="textAreaLeft" fmla="*/ 133920 w 209520"/>
              <a:gd name="textAreaRight" fmla="*/ 209880 w 209520"/>
              <a:gd name="textAreaTop" fmla="*/ 82080 h 3149640"/>
              <a:gd name="textAreaBottom" fmla="*/ 3067560 h 314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66560" y="3876840"/>
            <a:ext cx="3376800" cy="377640"/>
            <a:chOff x="466560" y="3876840"/>
            <a:chExt cx="3376800" cy="377640"/>
          </a:xfrm>
        </p:grpSpPr>
        <p:sp>
          <p:nvSpPr>
            <p:cNvPr id="214" name=""/>
            <p:cNvSpPr/>
            <p:nvPr/>
          </p:nvSpPr>
          <p:spPr>
            <a:xfrm>
              <a:off x="533520" y="3876840"/>
              <a:ext cx="31896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2480" y="3876840"/>
              <a:ext cx="31896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71440" y="3876840"/>
              <a:ext cx="3175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88960" y="3876840"/>
              <a:ext cx="3193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08280" y="3876840"/>
              <a:ext cx="3175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25800" y="3876840"/>
              <a:ext cx="31896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44760" y="3876840"/>
              <a:ext cx="3175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00560" y="3876840"/>
              <a:ext cx="3175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81240" y="3876840"/>
              <a:ext cx="3193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62280" y="3876840"/>
              <a:ext cx="31896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6560" y="392580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4720" y="393552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90440" y="39355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07960" y="392580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5200" y="392580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41560" y="3916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8440" y="3916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76600" y="3916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92320" y="3916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19560" y="3916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3760" y="816120"/>
            <a:ext cx="1326240" cy="3042720"/>
            <a:chOff x="3803760" y="816120"/>
            <a:chExt cx="1326240" cy="3042720"/>
          </a:xfrm>
        </p:grpSpPr>
        <p:sp>
          <p:nvSpPr>
            <p:cNvPr id="235" name=""/>
            <p:cNvSpPr/>
            <p:nvPr/>
          </p:nvSpPr>
          <p:spPr>
            <a:xfrm rot="16200000">
              <a:off x="3849120" y="3466080"/>
              <a:ext cx="2869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3848760" y="317880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3849120" y="2891880"/>
              <a:ext cx="2869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3848760" y="260460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3849840" y="2318400"/>
              <a:ext cx="2854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3848760" y="203148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3849120" y="1744560"/>
              <a:ext cx="2869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3848760" y="88308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3849120" y="1170360"/>
              <a:ext cx="2869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3848760" y="145728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3755160" y="348480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4294080" y="1958400"/>
              <a:ext cx="12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0 d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4393800" y="933120"/>
              <a:ext cx="209160" cy="2839680"/>
            </a:xfrm>
            <a:custGeom>
              <a:avLst/>
              <a:gdLst>
                <a:gd name="textAreaLeft" fmla="*/ 133560 w 209160"/>
                <a:gd name="textAreaRight" fmla="*/ 209520 w 209160"/>
                <a:gd name="textAreaTop" fmla="*/ 73800 h 2839680"/>
                <a:gd name="textAreaBottom" fmla="*/ 2765880 h 28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6200000">
              <a:off x="3764520" y="320832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3764520" y="292248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3755160" y="263664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3755160" y="234252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3745800" y="206532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3745800" y="177120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3745800" y="149400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3745800" y="120816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3745800" y="91368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238720" y="2867040"/>
            <a:ext cx="3191040" cy="2144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181480" y="2867040"/>
            <a:ext cx="3376800" cy="318600"/>
            <a:chOff x="5181480" y="2867040"/>
            <a:chExt cx="3376800" cy="318600"/>
          </a:xfrm>
        </p:grpSpPr>
        <p:sp>
          <p:nvSpPr>
            <p:cNvPr id="259" name=""/>
            <p:cNvSpPr/>
            <p:nvPr/>
          </p:nvSpPr>
          <p:spPr>
            <a:xfrm>
              <a:off x="5248440" y="2867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67400" y="2867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86360" y="2867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03880" y="28670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23200" y="2867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40720" y="2867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59680" y="2867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15480" y="2867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96160" y="28670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7200" y="2867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81480" y="29019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89640" y="29091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05360" y="2909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22880" y="2904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50120" y="2904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56480" y="28947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83360" y="28947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28947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7240" y="28947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34480" y="28947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181480" y="3149640"/>
            <a:ext cx="3376800" cy="320760"/>
            <a:chOff x="5181480" y="3149640"/>
            <a:chExt cx="3376800" cy="320760"/>
          </a:xfrm>
        </p:grpSpPr>
        <p:sp>
          <p:nvSpPr>
            <p:cNvPr id="280" name=""/>
            <p:cNvSpPr/>
            <p:nvPr/>
          </p:nvSpPr>
          <p:spPr>
            <a:xfrm>
              <a:off x="5248440" y="3149640"/>
              <a:ext cx="31896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67400" y="3149640"/>
              <a:ext cx="31896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86360" y="3149640"/>
              <a:ext cx="3175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3880" y="3149640"/>
              <a:ext cx="3193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23200" y="3149640"/>
              <a:ext cx="3175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40720" y="3149640"/>
              <a:ext cx="31896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59680" y="3149640"/>
              <a:ext cx="3175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15480" y="3149640"/>
              <a:ext cx="3175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6160" y="3149640"/>
              <a:ext cx="3193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77200" y="3149640"/>
              <a:ext cx="31896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81480" y="3188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9640" y="319392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05360" y="31939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22880" y="31856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50120" y="31881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56480" y="31809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3360" y="31809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91520" y="31809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07240" y="31809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34480" y="31809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181480" y="3430440"/>
            <a:ext cx="3376800" cy="318600"/>
            <a:chOff x="5181480" y="3430440"/>
            <a:chExt cx="3376800" cy="318600"/>
          </a:xfrm>
        </p:grpSpPr>
        <p:sp>
          <p:nvSpPr>
            <p:cNvPr id="301" name=""/>
            <p:cNvSpPr/>
            <p:nvPr/>
          </p:nvSpPr>
          <p:spPr>
            <a:xfrm>
              <a:off x="5248440" y="3430440"/>
              <a:ext cx="31896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67400" y="3430440"/>
              <a:ext cx="31896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86360" y="3430440"/>
              <a:ext cx="3175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03880" y="3430440"/>
              <a:ext cx="3193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23200" y="3430440"/>
              <a:ext cx="3175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40720" y="3430440"/>
              <a:ext cx="31896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59680" y="3430440"/>
              <a:ext cx="3175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15480" y="3430440"/>
              <a:ext cx="3175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96160" y="3430440"/>
              <a:ext cx="3193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77200" y="3430440"/>
              <a:ext cx="31896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34642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89640" y="34725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05360" y="3472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22880" y="34657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50120" y="34642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56480" y="34585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83360" y="34585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91520" y="34585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07240" y="34585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34480" y="34585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81480" y="3713040"/>
            <a:ext cx="3376800" cy="318600"/>
            <a:chOff x="5181480" y="3713040"/>
            <a:chExt cx="3376800" cy="318600"/>
          </a:xfrm>
        </p:grpSpPr>
        <p:sp>
          <p:nvSpPr>
            <p:cNvPr id="322" name=""/>
            <p:cNvSpPr/>
            <p:nvPr/>
          </p:nvSpPr>
          <p:spPr>
            <a:xfrm>
              <a:off x="5248440" y="3713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7400" y="3713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86360" y="3713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03880" y="37130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23200" y="3713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40720" y="3713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59680" y="3713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15480" y="3713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96160" y="37130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77200" y="3713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37490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89640" y="37551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05360" y="3755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22880" y="3750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50120" y="37490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56480" y="374220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83360" y="374220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91520" y="374220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07240" y="374220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4480" y="374220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181480" y="3995640"/>
            <a:ext cx="3376800" cy="319680"/>
            <a:chOff x="5181480" y="3995640"/>
            <a:chExt cx="3376800" cy="319680"/>
          </a:xfrm>
        </p:grpSpPr>
        <p:sp>
          <p:nvSpPr>
            <p:cNvPr id="343" name=""/>
            <p:cNvSpPr/>
            <p:nvPr/>
          </p:nvSpPr>
          <p:spPr>
            <a:xfrm>
              <a:off x="5248440" y="39956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67400" y="39956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86360" y="39956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03880" y="39956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23200" y="39956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720" y="39956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59680" y="39956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15480" y="39956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96160" y="39956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77200" y="39956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4030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89640" y="403884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5360" y="40388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2880" y="4030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50120" y="40316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56480" y="40233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83360" y="40233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91520" y="40233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07240" y="40233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34480" y="40233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181480" y="4284720"/>
            <a:ext cx="3376800" cy="318600"/>
            <a:chOff x="5181480" y="4284720"/>
            <a:chExt cx="3376800" cy="318600"/>
          </a:xfrm>
        </p:grpSpPr>
        <p:sp>
          <p:nvSpPr>
            <p:cNvPr id="364" name=""/>
            <p:cNvSpPr/>
            <p:nvPr/>
          </p:nvSpPr>
          <p:spPr>
            <a:xfrm>
              <a:off x="5248440" y="42847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7400" y="42847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86360" y="42847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03880" y="42847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23200" y="42847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40720" y="42847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59680" y="42847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15480" y="42847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96160" y="42847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77200" y="42847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81480" y="4322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89640" y="432684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05360" y="43268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22880" y="4322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50120" y="43196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56480" y="4312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3360" y="4312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91520" y="4312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07240" y="4312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34480" y="4312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181480" y="4567320"/>
            <a:ext cx="3376800" cy="319680"/>
            <a:chOff x="5181480" y="4567320"/>
            <a:chExt cx="3376800" cy="319680"/>
          </a:xfrm>
        </p:grpSpPr>
        <p:sp>
          <p:nvSpPr>
            <p:cNvPr id="385" name=""/>
            <p:cNvSpPr/>
            <p:nvPr/>
          </p:nvSpPr>
          <p:spPr>
            <a:xfrm>
              <a:off x="5248440" y="4567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67400" y="4567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86360" y="4567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03880" y="45673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23200" y="4567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40720" y="4567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59680" y="4567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15480" y="4567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96160" y="45673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77200" y="4567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6033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89640" y="461052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05360" y="46105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22880" y="46033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50120" y="46033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56480" y="4597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83360" y="4597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91520" y="4597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7240" y="4597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34480" y="4597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181480" y="4849920"/>
            <a:ext cx="3376800" cy="319680"/>
            <a:chOff x="5181480" y="4849920"/>
            <a:chExt cx="3376800" cy="319680"/>
          </a:xfrm>
        </p:grpSpPr>
        <p:sp>
          <p:nvSpPr>
            <p:cNvPr id="406" name=""/>
            <p:cNvSpPr/>
            <p:nvPr/>
          </p:nvSpPr>
          <p:spPr>
            <a:xfrm>
              <a:off x="5248440" y="4849920"/>
              <a:ext cx="31896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67400" y="4849920"/>
              <a:ext cx="31896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86360" y="4849920"/>
              <a:ext cx="3175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03880" y="4849920"/>
              <a:ext cx="3193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23200" y="4849920"/>
              <a:ext cx="3175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40720" y="4849920"/>
              <a:ext cx="31896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59680" y="4849920"/>
              <a:ext cx="3175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15480" y="4849920"/>
              <a:ext cx="3175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96160" y="4849920"/>
              <a:ext cx="3193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477200" y="4849920"/>
              <a:ext cx="31896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81480" y="48873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89640" y="489312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05360" y="48931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22880" y="48873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50120" y="48873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56480" y="48790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83360" y="48790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91520" y="48790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07240" y="48790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34480" y="48790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181480" y="5130720"/>
            <a:ext cx="3376800" cy="320040"/>
            <a:chOff x="5181480" y="5130720"/>
            <a:chExt cx="3376800" cy="320040"/>
          </a:xfrm>
        </p:grpSpPr>
        <p:sp>
          <p:nvSpPr>
            <p:cNvPr id="427" name=""/>
            <p:cNvSpPr/>
            <p:nvPr/>
          </p:nvSpPr>
          <p:spPr>
            <a:xfrm>
              <a:off x="5248440" y="5130720"/>
              <a:ext cx="31896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67400" y="5130720"/>
              <a:ext cx="31896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6360" y="5130720"/>
              <a:ext cx="3175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03880" y="5130720"/>
              <a:ext cx="3193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23200" y="5130720"/>
              <a:ext cx="3175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40720" y="5130720"/>
              <a:ext cx="31896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59680" y="5130720"/>
              <a:ext cx="3175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15480" y="5130720"/>
              <a:ext cx="3175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96160" y="5130720"/>
              <a:ext cx="3193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77200" y="5130720"/>
              <a:ext cx="31896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81480" y="5168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9640" y="517428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05360" y="51742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22880" y="5164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50120" y="5164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56480" y="5163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3360" y="5163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163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07240" y="5163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34480" y="5163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181480" y="5413320"/>
            <a:ext cx="3376800" cy="318600"/>
            <a:chOff x="5181480" y="5413320"/>
            <a:chExt cx="3376800" cy="318600"/>
          </a:xfrm>
        </p:grpSpPr>
        <p:sp>
          <p:nvSpPr>
            <p:cNvPr id="448" name=""/>
            <p:cNvSpPr/>
            <p:nvPr/>
          </p:nvSpPr>
          <p:spPr>
            <a:xfrm>
              <a:off x="5248440" y="5413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67400" y="5413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86360" y="5413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03880" y="54133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23200" y="5413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40720" y="5413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59680" y="5413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115480" y="5413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96160" y="54133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77200" y="5413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81480" y="54493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89640" y="54543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05360" y="5455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22880" y="54493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50120" y="54493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56480" y="5442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83360" y="5442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91520" y="5442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07240" y="5442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34480" y="5442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6238800" y="2143080"/>
            <a:ext cx="20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 d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05400" y="39718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 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47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quadro 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7360" y="8190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ra  se  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sono 100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1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saranno 1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così via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biamo scoperto che nelle equivalenze fra multipli (e sottomultipli) del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er passare da un’unità all’altra bisogna moltiplicare per 10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4080" y="2556000"/>
            <a:ext cx="344520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000.0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.0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0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0000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41800" y="2556000"/>
            <a:ext cx="325440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00001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001 h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1 d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.0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000.000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478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quadro 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34000" y="78120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06720" y="4349880"/>
            <a:ext cx="51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gola pratica: se mi sposto 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posti verso l’alto (o verso il basso) nella scala, sposterò la virgola a sinistra (o a destra) 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=4x2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ti (o zeri)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2440" y="698400"/>
            <a:ext cx="1892160" cy="225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.000.0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.0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da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c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00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00000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1800" y="2975040"/>
            <a:ext cx="1882800" cy="225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00001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001 h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1 da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0 d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.000 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.000.000 m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95640" y="1419120"/>
            <a:ext cx="3000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d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7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3 h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3 m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k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62400" y="1390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    (+2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43480" y="1943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0007  (+4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38880" y="24955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300.000.000 (+8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67480" y="3067200"/>
            <a:ext cx="319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0 000 000 000 00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+12 zeri, in totale 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49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cub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560" y="990720"/>
            <a:ext cx="30672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Il metro cubo è l’unità di misura dei volumi, dove per volume intendiamo lo spazio tridimensionale occupato da un oggetto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è un cubo di spigolo 1m. 1 d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un cubo di spigolo 1d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Quanti cubetti da 1 dm</a:t>
            </a:r>
            <a:r>
              <a:rPr b="0" lang="it-IT" sz="2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stanno in 1m</a:t>
            </a:r>
            <a:r>
              <a:rPr b="0" lang="it-IT" sz="20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22920" y="299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0080" y="2990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22920" y="276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0080" y="276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83360" y="2984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311960" y="2984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83360" y="276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11960" y="275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39120" y="2978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767720" y="29782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39120" y="2755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67720" y="27496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37360" y="2959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178840" y="30607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037360" y="2736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78840" y="2832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67520" y="23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94320" y="23097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2920" y="2533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0080" y="2533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2920" y="23097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0080" y="230364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83360" y="2527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11960" y="2527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83360" y="230364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1960" y="22971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39120" y="2521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767720" y="25210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539120" y="22971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67720" y="229068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37360" y="25020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78840" y="2603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037360" y="2278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78840" y="2374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67520" y="2081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94320" y="2081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67520" y="185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94320" y="185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2920" y="2075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0080" y="2075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2920" y="185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0080" y="1846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83360" y="206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11960" y="206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83360" y="1846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311960" y="183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39120" y="2062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67720" y="20620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39120" y="1839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67720" y="1833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37360" y="20430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178840" y="2144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37360" y="182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78840" y="191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67520" y="1623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94320" y="1623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67520" y="14000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94320" y="1393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22920" y="1617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0080" y="1617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2920" y="1393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32440" y="138744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083360" y="161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11960" y="161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66080" y="138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92880" y="13809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539120" y="160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767720" y="1604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521480" y="13809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705800" y="1419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037360" y="158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178840" y="168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037360" y="136224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178840" y="1459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16480" y="1146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43640" y="1146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30800" y="1025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57960" y="1019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72240" y="1139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99400" y="1139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86560" y="10191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13720" y="1012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132680" y="1133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61280" y="1133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47000" y="1012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275600" y="10065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588080" y="1127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816680" y="1127160"/>
            <a:ext cx="20196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02400" y="1006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729560" y="1000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037360" y="1133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178840" y="1235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951680" y="1012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178840" y="1006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2920" y="3244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2920" y="3016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6560" y="32385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83360" y="3238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656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83360" y="300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311960" y="3232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539120" y="3232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11960" y="300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539120" y="3003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61240" y="3238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037360" y="3213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761240" y="3016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37360" y="2984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2920" y="2787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2920" y="2558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56560" y="2781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83360" y="278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6560" y="2558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83360" y="2552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1960" y="277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539120" y="277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11960" y="2552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39120" y="2546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761240" y="278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037360" y="275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761240" y="2558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037360" y="2527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40360" y="23353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67520" y="2335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40360" y="2112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67520" y="2106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4320" y="2328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22920" y="2328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94320" y="2106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2920" y="2100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6560" y="23223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3360" y="2322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56560" y="2100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83360" y="2093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311960" y="23162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39120" y="23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311960" y="2093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39120" y="2087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761240" y="2322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037360" y="22971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761240" y="2100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037360" y="206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940360" y="1878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67520" y="1878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40360" y="1655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67520" y="1649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94320" y="1871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22920" y="1871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94320" y="1649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2920" y="1643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6560" y="1865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083360" y="1865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6560" y="1643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083360" y="1636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1960" y="185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39120" y="185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311960" y="1636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539120" y="1630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761240" y="1865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037360" y="183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761240" y="1643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037360" y="161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40360" y="1425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67520" y="1425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989680" y="1177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16480" y="117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94320" y="14191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22920" y="14191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43640" y="117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672240" y="116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856560" y="1413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83360" y="1413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05520" y="116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32680" y="1158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311960" y="1406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539120" y="1406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61280" y="1158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88080" y="1152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761240" y="1413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037360" y="1387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810560" y="1165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037360" y="1158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61000" y="3290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61000" y="30607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94640" y="3284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23240" y="3284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94640" y="30607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023240" y="3054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0040" y="3278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77200" y="3278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50040" y="3054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77200" y="3048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99320" y="3284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889760" y="33606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99320" y="30607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889760" y="3130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561000" y="2832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61000" y="2603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94640" y="282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023240" y="282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94640" y="2603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23240" y="2597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0040" y="2819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477200" y="2819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250040" y="2597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477200" y="2590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99320" y="2825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89760" y="2901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99320" y="2603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89760" y="2673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78440" y="2381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105600" y="2381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78440" y="2157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105600" y="2151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34200" y="2374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61000" y="2374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34200" y="2151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561000" y="2144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94640" y="236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23240" y="236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94640" y="2144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23240" y="2138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50040" y="2362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77200" y="2362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250040" y="2138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77200" y="2131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99320" y="2368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889760" y="2444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699320" y="2144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889760" y="221472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78440" y="1922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105600" y="1922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78440" y="1700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105600" y="1693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334200" y="191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61000" y="1916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34200" y="1693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61000" y="1687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794640" y="190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23240" y="190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94640" y="168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23240" y="168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50040" y="1903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477200" y="1903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50040" y="1681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77200" y="1674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99320" y="19098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89760" y="1986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99320" y="1687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889760" y="1757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78440" y="1471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05600" y="1471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35600" y="1317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62760" y="1311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34200" y="1465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61000" y="1465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91360" y="13111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518160" y="1305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94640" y="1459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023240" y="1459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51800" y="1305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980400" y="12985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50040" y="14508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77200" y="145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207200" y="1298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434360" y="12924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99320" y="14590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889760" y="1535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656480" y="1305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89760" y="1305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56748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9464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567480" y="3316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94640" y="3309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023240" y="3532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50040" y="3532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23240" y="3309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50040" y="3303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472520" y="35384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699320" y="3538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472520" y="33163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99320" y="3309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67480" y="3079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794640" y="3079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67480" y="285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94640" y="285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023240" y="3073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50040" y="30733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23240" y="285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50040" y="2844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472520" y="307980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99320" y="30798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72520" y="28576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99320" y="2851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567480" y="2622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94640" y="2622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567480" y="2400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94640" y="2394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023240" y="2616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50040" y="2616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023240" y="2394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250040" y="2387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472520" y="26226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699320" y="2622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472520" y="24004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99320" y="23940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51640" y="21765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78440" y="2176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51640" y="19540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878440" y="1947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105600" y="2170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34200" y="2170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105600" y="1947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4200" y="1941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567480" y="216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794640" y="216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567480" y="1941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794640" y="1935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023240" y="2157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250040" y="2157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023240" y="1935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250040" y="1928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472520" y="216360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9320" y="2163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72520" y="1941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699320" y="19350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651640" y="1725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78440" y="1725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51640" y="15033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78440" y="1496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05600" y="1719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334200" y="1719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5600" y="1496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334200" y="1490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567480" y="1712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794640" y="1712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567480" y="1490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794640" y="1484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23240" y="1706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250040" y="1706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023240" y="1484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250040" y="1477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472520" y="1712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699320" y="1712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72520" y="14907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99320" y="1484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08600" y="3386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935760" y="3386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708600" y="31622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35760" y="315612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164360" y="3379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391520" y="3379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64360" y="315612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91520" y="31496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613640" y="3386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54760" y="3487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13640" y="3162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754760" y="32576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708600" y="2927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935760" y="2927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708600" y="2705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935760" y="2698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164360" y="2921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391520" y="2921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164360" y="2698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391520" y="2692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13640" y="2927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754760" y="302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13640" y="2705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75476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92760" y="2259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19920" y="2252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246720" y="2252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475320" y="22464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708600" y="2470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935760" y="2470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8600" y="22464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35760" y="2239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164360" y="2463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391520" y="2463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64360" y="2239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391520" y="2233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613640" y="2470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754760" y="2571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13640" y="2246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754760" y="2341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792760" y="20239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019920" y="2023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92760" y="18018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19920" y="1795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246720" y="20178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475320" y="20178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6720" y="1795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75320" y="1789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8600" y="2011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935760" y="2011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8600" y="1789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935760" y="1782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4360" y="2004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391520" y="2004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164360" y="1782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1776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613640" y="2011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54760" y="2112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613640" y="1789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54760" y="1884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92760" y="1573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9920" y="1573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705640" y="145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934240" y="1444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46720" y="1566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75320" y="1566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161040" y="1444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389640" y="143820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708600" y="1560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35760" y="1560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622920" y="14382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0080" y="14320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164360" y="1554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391520" y="155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078680" y="1432080"/>
            <a:ext cx="2016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305840" y="1425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13640" y="1560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54760" y="1662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526160" y="14382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54760" y="143208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08600" y="3639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708600" y="3411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935760" y="3633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164360" y="3633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935760" y="3411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164360" y="3405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385040" y="3639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13640" y="3639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385040" y="3417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13640" y="3411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08600" y="31813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08600" y="2952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35760" y="3174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64360" y="3174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935760" y="2952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164360" y="2946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385040" y="3181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613640" y="3181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385040" y="2959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613640" y="2952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708600" y="2724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08600" y="2495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35760" y="2717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164360" y="2717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935760" y="2495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164360" y="2489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385040" y="272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13640" y="272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85040" y="2502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13640" y="2495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564160" y="2278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792760" y="2278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564160" y="2055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792760" y="20494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19920" y="2271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246720" y="2271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19920" y="2049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246720" y="20430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481800" y="2265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708600" y="2265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81800" y="2043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708600" y="2036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935760" y="2259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164360" y="2259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935760" y="2036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164360" y="2030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85040" y="2265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13640" y="2265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385040" y="2043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13640" y="2036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564160" y="182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792760" y="182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564160" y="160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92760" y="159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19920" y="1820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246720" y="182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019920" y="1598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246720" y="159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481800" y="1814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08600" y="1814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81800" y="159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708600" y="158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5760" y="1808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164360" y="1808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935760" y="158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64360" y="1579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385040" y="1814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13640" y="1814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385040" y="159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613640" y="1585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647040" y="3684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647040" y="3456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3678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102440" y="3678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75640" y="3456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102440" y="3449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324560" y="36846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466040" y="3786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324560" y="34624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466040" y="3557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47040" y="322596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47040" y="2997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875640" y="3219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102440" y="3219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75640" y="2997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102440" y="299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324560" y="3225960"/>
            <a:ext cx="2016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66040" y="3328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324560" y="3003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466040" y="30988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647040" y="2768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647040" y="2540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75640" y="276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102440" y="276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75640" y="2540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102440" y="2533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324560" y="27687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466040" y="2870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324560" y="25462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6040" y="2641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504040" y="23223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30840" y="2322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504040" y="21002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730840" y="2093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958000" y="23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186600" y="23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58000" y="2093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186600" y="2087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419880" y="23097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647040" y="23097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419880" y="2087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647040" y="2081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75640" y="230364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02440" y="230364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875640" y="2081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102440" y="2075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324560" y="23097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466040" y="2413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324560" y="20876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466040" y="2182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504040" y="18716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30840" y="1871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6560" y="1751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645160" y="1744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58000" y="1865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86600" y="1865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72320" y="1744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9120" y="1738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419880" y="185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647040" y="185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34200" y="1738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61000" y="1731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875640" y="1852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102440" y="185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88160" y="1731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016760" y="1725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324560" y="18590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466040" y="1960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237440" y="1738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466040" y="1731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393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875640" y="393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647040" y="3710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75640" y="3703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95960" y="393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324560" y="39387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095960" y="3716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24560" y="37101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647040" y="3475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875640" y="3475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647040" y="32511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875640" y="3244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095960" y="3481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324560" y="34815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095960" y="32576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324560" y="32511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64704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7564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647040" y="2793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875640" y="278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095960" y="302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324560" y="302256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09596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324560" y="279396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75440" y="23544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504040" y="23479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30840" y="2347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958000" y="2341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192720" y="234144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419880" y="2335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647040" y="2558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875640" y="2558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647040" y="2335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75640" y="2328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095960" y="2565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324560" y="256536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095960" y="2341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24560" y="23353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275440" y="2125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504040" y="21258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75440" y="1903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504040" y="18972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30840" y="2119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958000" y="2119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730840" y="1897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958000" y="1890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2720" y="21128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19880" y="2112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92720" y="18907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19880" y="1884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647040" y="2106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875640" y="2106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647040" y="1884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875640" y="1878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095960" y="2112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324560" y="21128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095960" y="1890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324560" y="18842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5133960" y="2023920"/>
            <a:ext cx="2250720" cy="2284200"/>
            <a:chOff x="5133960" y="2023920"/>
            <a:chExt cx="2250720" cy="2284200"/>
          </a:xfrm>
        </p:grpSpPr>
        <p:sp>
          <p:nvSpPr>
            <p:cNvPr id="1120" name=""/>
            <p:cNvSpPr/>
            <p:nvPr/>
          </p:nvSpPr>
          <p:spPr>
            <a:xfrm>
              <a:off x="700992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09920" y="233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09920" y="209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948360" y="260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75880" y="2602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948360" y="237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175880" y="2373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948360" y="214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75880" y="21445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2084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94836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720840" y="2634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948360" y="262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175880" y="2850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75880" y="2628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20840" y="2399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48360" y="2399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2084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48360" y="217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75880" y="2392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175880" y="2170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6232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08984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86232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08984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6232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8984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86232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634440" y="295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862320" y="295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634440" y="2736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86232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089840" y="295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08984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634440" y="250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862320" y="250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634440" y="227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86232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089840" y="249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08984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63444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86232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089840" y="203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73240" y="300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800760" y="300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573240" y="278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00760" y="2774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028280" y="2997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28280" y="2774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73240" y="254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800760" y="254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57324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00760" y="231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028280" y="2539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028280" y="2316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573240" y="208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00760" y="208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28280" y="2081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45720" y="325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573240" y="325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345720" y="303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573240" y="302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800760" y="325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028280" y="3251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800760" y="302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028280" y="3022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45720" y="280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573240" y="280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45720" y="2577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73240" y="2571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800760" y="279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028280" y="2793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00760" y="2571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28280" y="2564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345720" y="2341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573240" y="2341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345720" y="2118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73240" y="2112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800760" y="233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28280" y="2335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800760" y="2112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028280" y="2106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025680" y="3150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53200" y="3150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025680" y="292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25320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481080" y="3143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08600" y="3143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48108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708600" y="291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942240" y="3137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69760" y="3137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942240" y="291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169760" y="290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25680" y="269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253200" y="269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2568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25320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81080" y="268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708600" y="268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48108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708600" y="2456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942240" y="267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69760" y="267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942240" y="2456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169760" y="2450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25680" y="223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53200" y="223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81080" y="222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708600" y="222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942240" y="222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169760" y="222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9816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2568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8160" y="318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2568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53200" y="3398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481080" y="3398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5320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48108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14720" y="339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942240" y="339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1472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942240" y="316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69760" y="3385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169760" y="316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816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2568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8160" y="272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02568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53200" y="294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81080" y="294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5320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108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1472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94224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71472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94224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169760" y="292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16976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816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2568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816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25680" y="225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5320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48108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53200" y="225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481080" y="225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71472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4224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714720" y="225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94224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6976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16976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8160" y="203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25680" y="203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5320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48108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36600" y="344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64120" y="344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36600" y="3226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64120" y="3220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191640" y="3443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419160" y="3443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191640" y="3220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19160" y="321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53160" y="343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880680" y="3436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653160" y="321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880680" y="3207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108200" y="3430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108200" y="3207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36600" y="299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64120" y="299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36600" y="2768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964120" y="276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191640" y="298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419160" y="298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91640" y="276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419160" y="275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53160" y="2978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80680" y="2978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53160" y="275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80680" y="2749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108200" y="2971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108200" y="2749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36600" y="253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64120" y="253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36600" y="231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964120" y="230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91640" y="252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419160" y="252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191640" y="230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19160" y="229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653160" y="2520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80680" y="2520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653160" y="229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80680" y="22910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08200" y="2513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08200" y="22910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36600" y="207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964120" y="207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191640" y="206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419160" y="206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53160" y="206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880680" y="2061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108200" y="2055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509080" y="3704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36600" y="3704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509080" y="3481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36600" y="3474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64120" y="3697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91640" y="3697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964120" y="3474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191640" y="3468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25640" y="3691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653160" y="3691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425640" y="3468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653160" y="346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80680" y="3684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108200" y="3684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880680" y="3462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108200" y="3455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09080" y="3245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36600" y="3245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509080" y="3022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736600" y="301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64120" y="323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191640" y="323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964120" y="301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91640" y="3010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425640" y="323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53160" y="323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425640" y="3010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653160" y="300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880680" y="3226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08200" y="3226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880680" y="3003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108200" y="2997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9080" y="2787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36600" y="2787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509080" y="2564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73660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64120" y="278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191640" y="278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6412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191640" y="255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425640" y="2774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53160" y="2774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5640" y="255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53160" y="254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880680" y="2768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108200" y="2768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880680" y="2545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108200" y="2539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50908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73660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9080" y="2106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736600" y="209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96412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19164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964120" y="209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91640" y="209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25640" y="231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53160" y="231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425640" y="209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53160" y="208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880680" y="2310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108200" y="2310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880680" y="2087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108200" y="2081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650560" y="355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78080" y="355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50560" y="3328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878080" y="332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105600" y="354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33480" y="354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05600" y="332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333480" y="331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566760" y="3538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794640" y="3538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566760" y="331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794640" y="330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022160" y="3531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022160" y="330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650560" y="3093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78080" y="3093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650560" y="2870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78080" y="286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10560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33348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105600" y="286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3348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66760" y="3080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794640" y="3080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6676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79464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022160" y="3073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02216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650560" y="2634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78080" y="2634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65056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7808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105600" y="262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333480" y="262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10560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333480" y="2399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6676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79464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566760" y="2399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9464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02216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02216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65056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7808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105600" y="217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333480" y="217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66760" y="216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94640" y="216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22160" y="2157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423040" y="380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650560" y="380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423040" y="358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650560" y="357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878080" y="379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105600" y="379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78080" y="357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105600" y="357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339240" y="379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566760" y="379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39240" y="357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566760" y="3564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794640" y="3786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022160" y="3786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94640" y="3564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022160" y="355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23040" y="334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650560" y="334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423040" y="312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650560" y="311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78080" y="334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105600" y="334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878080" y="311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10560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39240" y="333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566760" y="333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33924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566760" y="3105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794640" y="3328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22160" y="3328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94640" y="3105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022160" y="309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23040" y="288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50560" y="288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423040" y="266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50560" y="266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878080" y="288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105600" y="288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78080" y="266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10560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3924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6676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3924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6676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794640" y="2870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22160" y="2870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79464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02216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423040" y="2431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650560" y="2431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423040" y="2208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50560" y="220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878080" y="2424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105600" y="2424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878080" y="220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105600" y="2195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3924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56676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39240" y="2195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56676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9464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02216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79464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022160" y="218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361480" y="3850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89000" y="3850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361480" y="3627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589000" y="3621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816520" y="3844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044040" y="3844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816520" y="3621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044040" y="361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278040" y="3837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505560" y="3837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278040" y="361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505560" y="3608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733080" y="3831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960600" y="3831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733080" y="3608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960600" y="3601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82000" y="3837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82000" y="361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361480" y="339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589000" y="339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36148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589000" y="316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816520" y="3385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044040" y="3385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816520" y="316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044040" y="315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278040" y="3379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505560" y="3379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278040" y="315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505560" y="3150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33080" y="3372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960600" y="3372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33080" y="3150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960600" y="3143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182000" y="3379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182000" y="315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6148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58900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36148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58900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816520" y="292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044040" y="292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81652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4404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7804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50556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27804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505560" y="269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33080" y="2914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60600" y="2914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33080" y="2692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60600" y="2685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18200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18200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36148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58900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361480" y="225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58900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1652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04404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81652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04404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7804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0556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7804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505560" y="223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733080" y="2456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60600" y="2456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733080" y="2233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60600" y="2227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18200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18200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36148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8900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133960" y="4104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361480" y="4104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133960" y="388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61480" y="3875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589000" y="4098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816520" y="4098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589000" y="3875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816520" y="386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050520" y="409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278040" y="409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50520" y="386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278040" y="386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505560" y="4085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733080" y="4085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505560" y="386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33080" y="3856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54480" y="409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82000" y="409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54480" y="386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82000" y="386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133960" y="364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361480" y="364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133960" y="342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361480" y="3417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589000" y="3640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816520" y="3640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589000" y="3417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816520" y="3411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50520" y="363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78040" y="363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050520" y="3411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27804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505560" y="3627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733080" y="3627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50556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733080" y="3398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954480" y="363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82000" y="363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954480" y="3411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200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33960" y="318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361480" y="318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133960" y="296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361480" y="295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589000" y="318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816520" y="318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589000" y="295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16520" y="295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05052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27804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50520" y="295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27804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50556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733080" y="3169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50556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733080" y="2940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95448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18200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954480" y="295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18200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13396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36148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133960" y="2507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61480" y="250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89000" y="272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816520" y="272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589000" y="250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816520" y="249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05052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27804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050520" y="249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27804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50556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733080" y="2710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50556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733080" y="2481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95448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18200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954480" y="249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18200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133960" y="227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361480" y="227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133960" y="205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361480" y="204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8900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81652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589000" y="204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1652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05052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27804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05052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278040" y="203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05560" y="225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733080" y="2259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505560" y="203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733080" y="20300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95448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18200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95448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182000" y="203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4979880" y="2176560"/>
            <a:ext cx="2250720" cy="2283840"/>
            <a:chOff x="4979880" y="2176560"/>
            <a:chExt cx="2250720" cy="2283840"/>
          </a:xfrm>
        </p:grpSpPr>
        <p:sp>
          <p:nvSpPr>
            <p:cNvPr id="1679" name=""/>
            <p:cNvSpPr/>
            <p:nvPr/>
          </p:nvSpPr>
          <p:spPr>
            <a:xfrm>
              <a:off x="685584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855840" y="2487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55840" y="225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794280" y="275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21800" y="2755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794280" y="253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21800" y="2526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94280" y="229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21800" y="2297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566760" y="300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794280" y="300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566760" y="2787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94280" y="2780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021800" y="3003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021800" y="2780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566760" y="255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94280" y="255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56676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79428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21800" y="25452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21800" y="2322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70824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93576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708240" y="263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93576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70824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93576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70824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48036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70824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480360" y="2889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708240" y="288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935760" y="310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935760" y="288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48036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70824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480360" y="243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708240" y="242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93576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935760" y="242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48036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70824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93576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419160" y="3156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646680" y="3156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41916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46680" y="292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874200" y="3150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874200" y="2927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1916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64668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41916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64668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874200" y="2691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74200" y="2469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41916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64668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874200" y="2233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191640" y="341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419160" y="341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191640" y="3187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419160" y="318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4668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874200" y="34045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646680" y="318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874200" y="3175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191640" y="295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419160" y="295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19164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419160" y="2723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646680" y="2946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874200" y="2946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646680" y="2723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874200" y="2717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191640" y="2494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419160" y="2494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19164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41916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646680" y="2487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874200" y="2487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64668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874200" y="2259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71600" y="330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099120" y="330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71600" y="307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09912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327000" y="3296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54520" y="3296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32700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554520" y="3067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788160" y="329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015680" y="329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788160" y="3067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015680" y="306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871600" y="284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099120" y="284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87160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09912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327000" y="2837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554520" y="2837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32700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554520" y="2608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788160" y="283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15680" y="283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788160" y="2608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015680" y="2602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871600" y="238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099120" y="238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327000" y="237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554520" y="237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788160" y="237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015680" y="237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64408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87160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644080" y="333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87160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099120" y="355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27000" y="355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09912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27000" y="332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560640" y="3544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788160" y="3544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560640" y="332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788160" y="331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015680" y="353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015680" y="331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64408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87160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64408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7160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099120" y="309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327000" y="309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09912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327000" y="286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6064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78816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560640" y="286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78816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015680" y="307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01568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64408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87160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64408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87160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099120" y="263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327000" y="263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09912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32700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56064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78816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56064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78816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01568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01568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644080" y="218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871600" y="218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09912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2700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582520" y="3601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810040" y="3601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582520" y="3378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10040" y="3372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037560" y="359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265080" y="359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037560" y="3372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265080" y="3366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99080" y="3588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726600" y="3588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99080" y="3366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726600" y="3359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954120" y="3582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954120" y="3359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582520" y="3143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810040" y="3143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582520" y="2920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10040" y="291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037560" y="313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265080" y="313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037560" y="291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265080" y="290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99080" y="3130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726600" y="3130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499080" y="290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726600" y="2901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954120" y="3124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954120" y="2901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582520" y="268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810040" y="268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58252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810040" y="245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037560" y="267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265080" y="267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037560" y="245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265080" y="244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499080" y="267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726600" y="2672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99080" y="244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726600" y="2443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954120" y="2666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954120" y="2443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582520" y="2226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810040" y="2226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037560" y="222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265080" y="222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99080" y="221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726600" y="2214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954120" y="2208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355000" y="3856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582520" y="3856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355000" y="363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582520" y="3627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810040" y="3849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037560" y="3849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810040" y="3627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037560" y="362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271560" y="384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499080" y="384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271560" y="362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499080" y="361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726600" y="3837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954120" y="3837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26600" y="3614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954120" y="3608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355000" y="339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582520" y="339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35500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58252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10040" y="3391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037560" y="3391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1004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37560" y="316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271560" y="338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499080" y="338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271560" y="316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499080" y="3156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26600" y="3378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954120" y="3378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726600" y="3156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54120" y="3150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355000" y="294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582520" y="294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355000" y="271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58252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81004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03756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81004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03756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271560" y="292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499080" y="292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27156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49908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726600" y="2920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954120" y="2920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726600" y="26982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954120" y="2691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35500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58252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55000" y="2259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82520" y="225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81004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03756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810040" y="225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03756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27156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9908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27156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49908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726600" y="24627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54120" y="24627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726600" y="2239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954120" y="2233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96480" y="3703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724000" y="3703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96480" y="348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724000" y="347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951520" y="3697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179400" y="3697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951520" y="347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179400" y="3468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412680" y="369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640560" y="369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412680" y="3468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640560" y="346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868080" y="368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868080" y="346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96480" y="324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724000" y="324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96480" y="302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24000" y="3016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951520" y="3238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79400" y="3238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951520" y="3016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179400" y="300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412680" y="323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640560" y="323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412680" y="300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640560" y="300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868080" y="3226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868080" y="300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496480" y="2787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724000" y="2787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496480" y="2564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72400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951520" y="2780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179400" y="2780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95152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179400" y="255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412680" y="277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640560" y="277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412680" y="255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640560" y="2545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868080" y="276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868080" y="2545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49648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72400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95152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17940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412680" y="2316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640560" y="2316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868080" y="2309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268960" y="395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496480" y="395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268960" y="373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96480" y="372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724000" y="395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951520" y="395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724000" y="372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951520" y="372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185160" y="394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412680" y="394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85160" y="372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412680" y="371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40560" y="393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68080" y="393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640560" y="371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868080" y="370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268960" y="349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96480" y="349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268960" y="3277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96480" y="3270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724000" y="349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951520" y="349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724000" y="3270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951520" y="326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185160" y="3486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412680" y="3486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185160" y="326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412680" y="325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640560" y="348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68080" y="348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640560" y="325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868080" y="3251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268960" y="3041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96480" y="3041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268960" y="281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496480" y="281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724000" y="3035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951520" y="3035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724000" y="281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951520" y="2806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185160" y="302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412680" y="302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185160" y="2806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412680" y="280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640560" y="302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868080" y="302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640560" y="280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868080" y="279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68960" y="258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6480" y="258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268960" y="236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496480" y="235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24000" y="2577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951520" y="2577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724000" y="235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951520" y="2348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185160" y="2570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412680" y="2570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185160" y="2348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412680" y="2341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564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868080" y="2564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40560" y="2341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868080" y="233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07400" y="4002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434920" y="4002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207400" y="3780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434920" y="3773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662440" y="3996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889960" y="3996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662440" y="3773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889960" y="376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123960" y="398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51480" y="398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123960" y="376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351480" y="376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79000" y="3983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806520" y="3983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79000" y="3760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806520" y="3754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027920" y="398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027920" y="376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207400" y="3544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434920" y="3544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207400" y="332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434920" y="331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62440" y="353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889960" y="353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662440" y="331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889960" y="3308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123960" y="353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51480" y="353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123960" y="3308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351480" y="330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79000" y="3525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806520" y="3525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79000" y="3302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806520" y="3296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27920" y="353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27920" y="3308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20740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43492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207400" y="286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43492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662440" y="307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89960" y="307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66244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88996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12396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35148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12396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351480" y="284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579000" y="30672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06520" y="30672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579000" y="2844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06520" y="2837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02792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2792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0740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43492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20740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43492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66244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88996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66244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88996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12396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35148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12396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351480" y="238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579000" y="2608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06520" y="2608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579000" y="2386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806520" y="2379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2792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2792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0740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43492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79880" y="4257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207400" y="4257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79880" y="4034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207400" y="402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434920" y="425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662440" y="425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434920" y="402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662440" y="402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896440" y="424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23960" y="424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896440" y="402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123960" y="401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351480" y="4237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579000" y="4237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351480" y="401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579000" y="4008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800400" y="424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027920" y="424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0400" y="402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027920" y="401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979880" y="3798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07400" y="3798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979880" y="3576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07400" y="3569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434920" y="379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62440" y="379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34920" y="3569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662440" y="356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896440" y="378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123960" y="378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896440" y="356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12396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351480" y="3780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579000" y="3780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35148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579000" y="35510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800400" y="378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027920" y="378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800400" y="356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02792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979880" y="334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207400" y="334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979880" y="3117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20740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434920" y="333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662440" y="333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3492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662440" y="310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89644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12396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96440" y="310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12396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351480" y="332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579000" y="3321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35148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79000" y="30927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80040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02792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800400" y="310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02792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979880" y="288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207400" y="288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979880" y="2659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20740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43492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66244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43492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6244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89644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12396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89644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12396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351480" y="286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579000" y="2863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5148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579000" y="2634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80040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2792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80040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2792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979880" y="243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207400" y="243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979880" y="2208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207400" y="220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434920" y="242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662440" y="242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434920" y="220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66244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89644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12396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89644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12396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5148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579000" y="2412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35148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579000" y="2182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80040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02792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80040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2792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7" name=""/>
          <p:cNvSpPr/>
          <p:nvPr/>
        </p:nvSpPr>
        <p:spPr>
          <a:xfrm>
            <a:off x="6715080" y="2870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715080" y="2646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715080" y="2411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653160" y="2914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880320" y="2914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653160" y="26906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880320" y="2684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653160" y="2455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6880320" y="2455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426360" y="31687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653160" y="3168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426360" y="29462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653160" y="2940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880320" y="3162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880320" y="2940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426360" y="27097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653160" y="27097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426360" y="24876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653160" y="2481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880320" y="270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880320" y="2481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56748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79464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567480" y="2793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794640" y="278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567480" y="255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794640" y="255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567480" y="2335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338880" y="32702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567480" y="32702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6338880" y="3048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567480" y="3041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794640" y="3263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794640" y="3041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6338880" y="2813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567480" y="2813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338880" y="2589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567480" y="25830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6794640" y="2806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94640" y="25830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338880" y="2354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567480" y="2354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794640" y="2347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278400" y="3314880"/>
            <a:ext cx="2016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505560" y="33148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278400" y="309240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505560" y="308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732720" y="3308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732720" y="308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278400" y="28576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505560" y="285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278400" y="26337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505560" y="2627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732720" y="285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732720" y="2627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278400" y="23986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505560" y="2398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732720" y="2392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049800" y="3570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278400" y="357012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049800" y="3346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278400" y="334008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6505560" y="3564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732720" y="3564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505560" y="3340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732720" y="333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049800" y="3111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278400" y="3111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049800" y="2889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278400" y="2882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505560" y="3105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732720" y="3105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505560" y="2882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732720" y="2876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049800" y="2652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278400" y="265284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049800" y="2430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6278400" y="24242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505560" y="26463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732720" y="26463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6505560" y="24242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6732720" y="2417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730840" y="3460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958000" y="3460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30840" y="323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958000" y="3232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184800" y="345456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413400" y="345456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184800" y="3232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6413400" y="3225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647040" y="3448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873840" y="3448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647040" y="3225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73840" y="32194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730840" y="3003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5958000" y="3003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5730840" y="278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5958000" y="277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6184800" y="299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6413400" y="299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6184800" y="277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413400" y="276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647040" y="2990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73840" y="299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647040" y="2768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873840" y="276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730840" y="2544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958000" y="2544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184800" y="2538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413400" y="2538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647040" y="253224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873840" y="253224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502240" y="3716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730840" y="3716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502240" y="3494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730840" y="3487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958000" y="3710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184800" y="3710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958000" y="3487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184800" y="3481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419880" y="3703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647040" y="3703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419880" y="3481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647040" y="3473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873840" y="3697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873840" y="34732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502240" y="3257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730840" y="3257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502240" y="3035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730840" y="302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958000" y="3251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184800" y="3251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5958000" y="302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184800" y="302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419880" y="3244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647040" y="3244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419880" y="3022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64704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873840" y="323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873840" y="3016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550224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73084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502240" y="2576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730840" y="25700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958000" y="2793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184800" y="2793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5958000" y="25700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84800" y="2563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419880" y="278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647040" y="278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419880" y="25639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6647040" y="255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873840" y="278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873840" y="2557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502240" y="234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730840" y="234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958000" y="2335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184800" y="233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442120" y="3760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5668920" y="3760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44212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5668920" y="3532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896080" y="3754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124680" y="3754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5896080" y="3532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124680" y="3525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357960" y="3747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585120" y="3747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357960" y="3525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585120" y="3519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813720" y="3741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813720" y="3519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442120" y="33019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5668920" y="3301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442120" y="307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5668920" y="3073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896080" y="32958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124680" y="32958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5896080" y="3073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124680" y="3067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357960" y="3289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6585120" y="3289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357960" y="3067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585120" y="3060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813720" y="3282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6813720" y="3060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442120" y="2844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668920" y="2844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442120" y="262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68920" y="2614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896080" y="2838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6124680" y="2838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896080" y="2614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124680" y="26082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357960" y="2832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585120" y="2832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357960" y="26082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585120" y="26020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813720" y="282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813720" y="26020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5442120" y="2386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668920" y="23860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5896080" y="23796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124680" y="23796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357960" y="2373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585120" y="2373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813720" y="2367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213520" y="4014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442120" y="4014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213520" y="3792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442120" y="3786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668920" y="4008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5896080" y="4008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668920" y="3786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5896080" y="3780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130800" y="40021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357960" y="4002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6130800" y="37800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357960" y="3773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585120" y="399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813720" y="399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585120" y="3773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813720" y="3767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213520" y="3557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442120" y="3557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13520" y="333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442120" y="3327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668920" y="3551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896080" y="3551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668920" y="3327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896080" y="3321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130800" y="35449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6357960" y="3544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6130800" y="332100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6357960" y="33148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658512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81372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585120" y="33148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813720" y="3308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213520" y="3098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442120" y="3098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5213520" y="2876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5442120" y="2870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668920" y="3092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5896080" y="3092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668920" y="2870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5896080" y="2863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6130800" y="30862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357960" y="308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130800" y="286380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357960" y="285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6585120" y="307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6813720" y="307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585120" y="285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813720" y="285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213520" y="26398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442120" y="26398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5213520" y="2417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442120" y="2411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668920" y="26337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896080" y="26337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668920" y="2411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896080" y="2405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6130800" y="262728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357960" y="2627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130800" y="24051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357960" y="2398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585120" y="262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6813720" y="262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585120" y="2398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6813720" y="2392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354640" y="3862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5583240" y="3862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5354640" y="3639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5583240" y="3633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5810400" y="3855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6037200" y="3855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5810400" y="3633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6037200" y="3627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272280" y="3849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6499080" y="3849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6272280" y="3627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499080" y="3621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726240" y="3843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6726240" y="36212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354640" y="3403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5583240" y="3403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354640" y="3181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583240" y="3174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5810400" y="3397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6037200" y="33973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5810400" y="3174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6037200" y="3168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272280" y="3390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499080" y="3390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272280" y="3168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6499080" y="3162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726240" y="338472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726240" y="3162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354640" y="2946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583240" y="2946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354640" y="272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583240" y="2717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810400" y="2940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037200" y="2940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810400" y="2717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037200" y="27097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272280" y="2933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499080" y="2933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272280" y="27097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499080" y="2703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726240" y="2927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26240" y="270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354640" y="2487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583240" y="2487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810400" y="2481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037200" y="2481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6272280" y="2475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6499080" y="24750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726240" y="2468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127480" y="41162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354640" y="41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127480" y="3894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5354640" y="3887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5583240" y="4110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5810400" y="4110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5583240" y="3887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810400" y="3881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6043680" y="41036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6272280" y="41036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6043680" y="3881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6272280" y="3875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6499080" y="40971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726240" y="40971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499080" y="3875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726240" y="3868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5127480" y="3659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5354640" y="3659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127480" y="343548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5354640" y="3429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5583240" y="3652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5810400" y="3652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5583240" y="3429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810400" y="3422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6043680" y="3646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6272280" y="3646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043680" y="3422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272280" y="3416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499080" y="3639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726240" y="3639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499080" y="34164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726240" y="34099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5127480" y="3200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5354640" y="3200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127480" y="2978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354640" y="2971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5583240" y="3193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5810400" y="3193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5583240" y="2971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810400" y="2965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043680" y="3187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6272280" y="3187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6043680" y="2965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6272280" y="2959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6499080" y="3181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6726240" y="3181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6499080" y="2959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6726240" y="2952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5127480" y="2743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5354640" y="2743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127480" y="25192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354640" y="251316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583240" y="2736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5810400" y="2736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583240" y="251316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5810400" y="2506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6043680" y="2730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6272280" y="2730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6043680" y="2506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6272280" y="2500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6499080" y="2724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6726240" y="272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499080" y="2500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6726240" y="2494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5065560" y="41608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294160" y="41608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065560" y="393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294160" y="393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5521320" y="4154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5748480" y="4154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521320" y="393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748480" y="3925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983200" y="4148280"/>
            <a:ext cx="2016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210360" y="41482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983200" y="392580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210360" y="3919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6437160" y="41418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665760" y="41418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6437160" y="3919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665760" y="3913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886440" y="414828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6886440" y="392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5065560" y="3703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5294160" y="3703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5065560" y="3481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5294160" y="34732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5521320" y="3697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5748480" y="3697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521320" y="3473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748480" y="34671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5983200" y="36910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210360" y="3691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983200" y="34671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210360" y="3460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437160" y="3684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665760" y="3684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6437160" y="3460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6665760" y="345456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886440" y="36910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886440" y="34671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065560" y="3244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294160" y="3244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5065560" y="302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5294160" y="3016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521320" y="3238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748480" y="3238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52132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5748480" y="3009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5983200" y="32320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6210360" y="3232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983200" y="30099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210360" y="3003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437160" y="3225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6665760" y="3225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437160" y="3003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665760" y="299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6886440" y="3232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6886440" y="300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5065560" y="2787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294160" y="2787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065560" y="2563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294160" y="2557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5521320" y="2781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5748480" y="2781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5521320" y="255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748480" y="25509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5983200" y="2774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210360" y="277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983200" y="25509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6210360" y="2544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6437160" y="276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6665760" y="276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6437160" y="2544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6665760" y="2538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6886440" y="277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6886440" y="25509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5065560" y="233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5294160" y="233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4838760" y="4416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5065560" y="44164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838760" y="41925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5065560" y="4186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294160" y="44100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5521320" y="4410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294160" y="4186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521320" y="41799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754600" y="4403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5983200" y="44038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754600" y="41799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983200" y="417348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6210360" y="4397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6437160" y="4397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6210360" y="4173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6437160" y="416736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6659640" y="4403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6886440" y="4403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6659640" y="41799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6886440" y="4173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4838760" y="395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065560" y="3957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838760" y="3735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065560" y="3728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294160" y="395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521320" y="3951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5294160" y="3728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5521320" y="3722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5754600" y="394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983200" y="3944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5754600" y="3722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5983200" y="37162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6210360" y="3938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6437160" y="393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6210360" y="3716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6437160" y="3710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6659640" y="394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6886440" y="394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659640" y="3722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6886440" y="3716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4838760" y="3500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5065560" y="3500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4838760" y="32767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5065560" y="3270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5294160" y="3494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5521320" y="3494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5294160" y="3270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5521320" y="3263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5754600" y="3487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5983200" y="34876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5754600" y="3263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5983200" y="32576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6210360" y="3481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6437160" y="3481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6210360" y="3257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6437160" y="3251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6659640" y="3487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6886440" y="3487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6659640" y="3263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6886440" y="3257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838760" y="3041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5065560" y="3041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4838760" y="2819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065560" y="2813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5294160" y="3035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5521320" y="3035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5294160" y="2813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5521320" y="2806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5754600" y="302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5983200" y="30290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5754600" y="2806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5983200" y="28004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6210360" y="3022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6437160" y="302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6210360" y="2800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437160" y="2793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6659640" y="302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6886440" y="302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6659640" y="2806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688644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838760" y="2589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5065560" y="25891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4838760" y="2367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5065560" y="2360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5294160" y="258300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21320" y="25830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294160" y="2360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521320" y="2354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5754600" y="2576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5983200" y="25765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5754600" y="2354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5983200" y="23479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210360" y="25700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437160" y="25700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6210360" y="2347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437160" y="234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659640" y="2576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6886440" y="2576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6659640" y="2354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6886440" y="2347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rot="16200000">
            <a:off x="5857920" y="3745080"/>
            <a:ext cx="209520" cy="2225520"/>
          </a:xfrm>
          <a:custGeom>
            <a:avLst/>
            <a:gdLst>
              <a:gd name="textAreaLeft" fmla="*/ 133920 w 209520"/>
              <a:gd name="textAreaRight" fmla="*/ 209880 w 209520"/>
              <a:gd name="textAreaTop" fmla="*/ 57960 h 2225520"/>
              <a:gd name="textAreaBottom" fmla="*/ 2167560 h 222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4543560" y="2354400"/>
            <a:ext cx="209520" cy="2282760"/>
          </a:xfrm>
          <a:custGeom>
            <a:avLst/>
            <a:gdLst>
              <a:gd name="textAreaLeft" fmla="*/ 133920 w 209520"/>
              <a:gd name="textAreaRight" fmla="*/ 209880 w 209520"/>
              <a:gd name="textAreaTop" fmla="*/ 59400 h 2282760"/>
              <a:gd name="textAreaBottom" fmla="*/ 2223360 h 22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 rot="13419600">
            <a:off x="7851240" y="3122640"/>
            <a:ext cx="209880" cy="2000160"/>
          </a:xfrm>
          <a:custGeom>
            <a:avLst/>
            <a:gdLst>
              <a:gd name="textAreaLeft" fmla="*/ 134280 w 209880"/>
              <a:gd name="textAreaRight" fmla="*/ 210240 w 209880"/>
              <a:gd name="textAreaTop" fmla="*/ 51840 h 2000160"/>
              <a:gd name="textAreaBottom" fmla="*/ 194832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572080" y="506736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638520" y="325764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7924680" y="420048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5276880" y="299088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 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600120" y="5724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x 10 x 10 = 1000 cubetti da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ogn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4201560" y="1338120"/>
            <a:ext cx="6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d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371840" y="10810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7572240" y="5724360"/>
            <a:ext cx="809640" cy="476280"/>
          </a:xfrm>
          <a:prstGeom prst="rightArrow">
            <a:avLst>
              <a:gd name="adj1" fmla="val 50000"/>
              <a:gd name="adj2" fmla="val 42498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0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9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cubo 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466560" y="1209600"/>
            <a:ext cx="809640" cy="476280"/>
          </a:xfrm>
          <a:prstGeom prst="rightArrow">
            <a:avLst>
              <a:gd name="adj1" fmla="val 50000"/>
              <a:gd name="adj2" fmla="val 42498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154160" y="1704960"/>
            <a:ext cx="606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biamo scoperto che nelle equivalenze fra multipli (e sottomultipli) del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er passare da un’unità all’altra bisogna moltiplicare per 100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676520" y="120960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cubetti da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ogn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679320" y="3127320"/>
            <a:ext cx="3444840" cy="3180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.000.000.00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00.00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da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0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c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000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508640" y="3137040"/>
            <a:ext cx="3749400" cy="3180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 000 0001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0001 h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da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00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00.00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.000.000.000 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1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8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cubo 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527040" y="1403280"/>
            <a:ext cx="2120760" cy="194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000.000.00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000.00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a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00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c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000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000000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517680" y="3470400"/>
            <a:ext cx="2130120" cy="194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 000 0001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0001 h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1 da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000 d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000.000 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000.000.000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3139920" y="4606920"/>
            <a:ext cx="51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gola pratica: se mi sposto 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posti verso l’alto (o verso il basso) nella scala, sposterò la virgola a sinistra (o a destra) 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=4x3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ti (o zeri)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095640" y="1419120"/>
            <a:ext cx="3000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7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h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3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5162400" y="1390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    (+3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5343480" y="1943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000007  (+6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5400720" y="2571840"/>
            <a:ext cx="35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3.000.000.000.000 (+12 zer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4734000" y="78120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676840" y="3048120"/>
            <a:ext cx="3467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0 000 000 000 000 000 00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+18 zeri, in totale 2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8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29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1" name=""/>
          <p:cNvSpPr/>
          <p:nvPr/>
        </p:nvSpPr>
        <p:spPr>
          <a:xfrm>
            <a:off x="352440" y="171360"/>
            <a:ext cx="86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litro e quella del metro cub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533520" y="933480"/>
            <a:ext cx="79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 il litro che il metro cubo misurano volumi. Allora che relazione esiste fra le due unità di misura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819520" y="1981080"/>
            <a:ext cx="239076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 =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m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542880" y="26478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conseguenza se 1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0,0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r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è 0,001 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533520" y="3505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584280" y="3336840"/>
            <a:ext cx="4454280" cy="3180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hl  = 100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 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dal = 10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 = 1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dl = 0,1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l = 0,01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0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l = 0,001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00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257800" y="5524560"/>
            <a:ext cx="752400" cy="704880"/>
          </a:xfrm>
          <a:prstGeom prst="rightArrow">
            <a:avLst>
              <a:gd name="adj1" fmla="val 50000"/>
              <a:gd name="adj2" fmla="val 26685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210360" y="5581800"/>
            <a:ext cx="23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ml è 1 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4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2" name=""/>
          <p:cNvSpPr/>
          <p:nvPr/>
        </p:nvSpPr>
        <p:spPr>
          <a:xfrm>
            <a:off x="609480" y="162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second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533520" y="93348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cala dei secondi non è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i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Questa è un’importante differenza perché per passare da un’unità della scala ad un’altra dobbiamo moltiplicare o dividere per 60 (scal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ssagesi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57200" y="2428920"/>
            <a:ext cx="3476520" cy="2346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h = 60 min = 3600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min = 60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s = 10 ds (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decimi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s = 100 cs (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centesimi di secondo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s = 1000 ms (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millisecondi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447840" y="5048280"/>
            <a:ext cx="302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tto il secondo (s) la scala è deci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5619600" y="2295360"/>
            <a:ext cx="29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4295880" y="2781360"/>
            <a:ext cx="46479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,5 h = min (3,5 x 60) = 210 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,4 min = s (0,4 x 60) = 24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,5 s = ms (0,5 x 1000) = 500 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6 min = h (6 : 60) = 0,1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,4 ds = s (0,4 : 10) = 0,04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,036 s = min (0,04 : 60) = 0,0006 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5 s = h ( 5 : 3600) = 0,00139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5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2" name=""/>
          <p:cNvSpPr/>
          <p:nvPr/>
        </p:nvSpPr>
        <p:spPr>
          <a:xfrm>
            <a:off x="628560" y="297180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5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7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981000" y="1123920"/>
            <a:ext cx="636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os’è un’equazio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Un’equazione è una richiesta.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800280" y="2295360"/>
            <a:ext cx="7534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esempio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va quel numero (lo chiameremo x, cioè sconosciuto, come Mister X) che sommato a 3 mi dà 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 risposta 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O meglio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=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la risposta alla richies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 soluzione di un’equazione è una rispos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’ importante osservare che possiamo esprimere la richiesta (l’equazione) in una forma matemat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=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 è semplice sapere qual è la risposta giusta, 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143080" y="5229360"/>
            <a:ext cx="123840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629160" y="5105520"/>
            <a:ext cx="123804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152360" y="5334120"/>
            <a:ext cx="11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memb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4229280" y="5181480"/>
            <a:ext cx="13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memb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99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434960"/>
            <a:ext cx="6972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e si ti sono note le equivalenze dalle elementari, ripassiamo insieme l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cale metriche decimal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iungendo qualche precisazi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llo che sai già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2880" y="3022560"/>
            <a:ext cx="67183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Una scala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etrica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cioè di unità di misura) si dice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decimale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se esiste un rapporto di dieci (o multipli di dieci) fra le sue unità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1040" y="4635360"/>
            <a:ext cx="612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esempio un metro è fatto di 10 decimetri, o di 100 centimetr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emo per scontato l’idea di unità di misura (la rivedremo più avanti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6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9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43080" y="1143000"/>
            <a:ext cx="8686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se ci domandiamo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e numero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sottratto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 d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 risposta non è più automat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rispondere ci aiutiamo con la forma matematica dell’equazion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e in questa forma non è semplice dare la risposta. Però la scrittura matematica si presta ad una serie d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ipolazio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oè una serie di trasformazioni che, senza cambiare il senso della richiesta (la domanda iniziale deve rimanere invariata) ci consente di dare l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olu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ag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6242040" y="1069920"/>
                <a:ext cx="479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7489800" y="1060560"/>
                <a:ext cx="593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1727280" y="2670120"/>
                <a:ext cx="4795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2936880" y="2641680"/>
                <a:ext cx="593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7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78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0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52600" y="1209600"/>
            <a:ext cx="755316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imo principio di equivalenz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n’equazione si può sommare o sottrarre  una stessa espressione 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umerica o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ettera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inistra e a destra dell’ugu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746440" y="5222880"/>
                <a:ext cx="2619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5" name=""/>
          <p:cNvSpPr/>
          <p:nvPr/>
        </p:nvSpPr>
        <p:spPr>
          <a:xfrm>
            <a:off x="905040" y="2695680"/>
            <a:ext cx="7277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amo. L’equazione è                  . Poiché vogliamo trovare x, è logico cercare di lasciarla da sola nel primo membro, in modo da arrivare ad una espressione del tip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un nume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fruttiamo la regola sommando + 12/15 in entrambi i membr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4148280" y="2612880"/>
                <a:ext cx="12524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2581200" y="5095800"/>
            <a:ext cx="676440" cy="108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4857840" y="4981680"/>
            <a:ext cx="676080" cy="108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9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2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5" name=""/>
          <p:cNvGrpSpPr/>
          <p:nvPr/>
        </p:nvGrpSpPr>
        <p:grpSpPr>
          <a:xfrm>
            <a:off x="1762200" y="1581120"/>
            <a:ext cx="2952720" cy="1199880"/>
            <a:chOff x="1762200" y="1581120"/>
            <a:chExt cx="2952720" cy="1199880"/>
          </a:xfrm>
        </p:grpSpPr>
        <mc:AlternateContent>
          <mc:Choice xmlns:a14="http://schemas.microsoft.com/office/drawing/2010/main" Requires="a14">
            <p:sp>
              <p:nvSpPr>
                <p:cNvPr id="2896" name=""/>
                <p:cNvSpPr txBox="1"/>
                <p:nvPr/>
              </p:nvSpPr>
              <p:spPr>
                <a:xfrm>
                  <a:off x="1927440" y="1822320"/>
                  <a:ext cx="261936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=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97" name=""/>
            <p:cNvSpPr/>
            <p:nvPr/>
          </p:nvSpPr>
          <p:spPr>
            <a:xfrm>
              <a:off x="1762200" y="1695240"/>
              <a:ext cx="676440" cy="1085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038840" y="1581120"/>
              <a:ext cx="676080" cy="1085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 flipH="1">
            <a:off x="2066760" y="1514520"/>
            <a:ext cx="447840" cy="1276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 flipH="1">
            <a:off x="2590560" y="1523880"/>
            <a:ext cx="447480" cy="1276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5124600" y="1609560"/>
            <a:ext cx="384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ti i calcoli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plifichia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olo nel I membr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2430360" y="3029040"/>
                <a:ext cx="408960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03" name=""/>
          <p:cNvSpPr/>
          <p:nvPr/>
        </p:nvSpPr>
        <p:spPr>
          <a:xfrm>
            <a:off x="771480" y="3600360"/>
            <a:ext cx="15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ciamo i calco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495360" y="5143680"/>
            <a:ext cx="53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– x = + 273/60 allora x = - 273/60. Abbiamo trovato la rispost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4505400" y="5670720"/>
                <a:ext cx="13777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6" name=""/>
          <p:cNvSpPr/>
          <p:nvPr/>
        </p:nvSpPr>
        <p:spPr>
          <a:xfrm>
            <a:off x="4419720" y="5610240"/>
            <a:ext cx="1533240" cy="85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7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908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0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2771640" y="3181320"/>
            <a:ext cx="419400" cy="276120"/>
          </a:xfrm>
          <a:prstGeom prst="rightArrow">
            <a:avLst>
              <a:gd name="adj1" fmla="val 50000"/>
              <a:gd name="adj2" fmla="val 37973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2400480" y="1641600"/>
                <a:ext cx="13777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4" name=""/>
          <p:cNvSpPr/>
          <p:nvPr/>
        </p:nvSpPr>
        <p:spPr>
          <a:xfrm>
            <a:off x="2352600" y="1581120"/>
            <a:ext cx="1533600" cy="85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314280" y="1066680"/>
            <a:ext cx="780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gliamo convincerci che la risposta esatta alla domand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6" name=""/>
              <p:cNvSpPr txBox="1"/>
              <p:nvPr/>
            </p:nvSpPr>
            <p:spPr>
              <a:xfrm>
                <a:off x="7520040" y="1012680"/>
                <a:ext cx="1460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7" name=""/>
          <p:cNvSpPr/>
          <p:nvPr/>
        </p:nvSpPr>
        <p:spPr>
          <a:xfrm>
            <a:off x="428760" y="2457360"/>
            <a:ext cx="79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saperlo sostituiamo il valore trovato nell’equazi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8" name=""/>
              <p:cNvSpPr txBox="1"/>
              <p:nvPr/>
            </p:nvSpPr>
            <p:spPr>
              <a:xfrm>
                <a:off x="544680" y="3041640"/>
                <a:ext cx="2039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9" name=""/>
              <p:cNvSpPr txBox="1"/>
              <p:nvPr/>
            </p:nvSpPr>
            <p:spPr>
              <a:xfrm>
                <a:off x="3378240" y="3003480"/>
                <a:ext cx="1666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0" name="" descr=""/>
          <p:cNvPicPr/>
          <p:nvPr/>
        </p:nvPicPr>
        <p:blipFill>
          <a:blip r:embed="rId1"/>
          <a:stretch/>
        </p:blipFill>
        <p:spPr>
          <a:xfrm>
            <a:off x="961920" y="3917880"/>
            <a:ext cx="1994040" cy="603360"/>
          </a:xfrm>
          <a:prstGeom prst="rect">
            <a:avLst/>
          </a:prstGeom>
          <a:ln w="0">
            <a:noFill/>
          </a:ln>
        </p:spPr>
      </p:pic>
      <p:sp>
        <p:nvSpPr>
          <p:cNvPr id="2921" name=""/>
          <p:cNvSpPr/>
          <p:nvPr/>
        </p:nvSpPr>
        <p:spPr>
          <a:xfrm>
            <a:off x="457200" y="4057560"/>
            <a:ext cx="419040" cy="276480"/>
          </a:xfrm>
          <a:prstGeom prst="rightArrow">
            <a:avLst>
              <a:gd name="adj1" fmla="val 50000"/>
              <a:gd name="adj2" fmla="val 37891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3057480" y="4029120"/>
            <a:ext cx="419040" cy="276120"/>
          </a:xfrm>
          <a:prstGeom prst="rightArrow">
            <a:avLst>
              <a:gd name="adj1" fmla="val 50000"/>
              <a:gd name="adj2" fmla="val 3794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3" name=""/>
              <p:cNvSpPr txBox="1"/>
              <p:nvPr/>
            </p:nvSpPr>
            <p:spPr>
              <a:xfrm>
                <a:off x="3578400" y="3917880"/>
                <a:ext cx="1769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4" name=""/>
          <p:cNvSpPr/>
          <p:nvPr/>
        </p:nvSpPr>
        <p:spPr>
          <a:xfrm>
            <a:off x="5438880" y="4019400"/>
            <a:ext cx="419040" cy="276480"/>
          </a:xfrm>
          <a:prstGeom prst="rightArrow">
            <a:avLst>
              <a:gd name="adj1" fmla="val 50000"/>
              <a:gd name="adj2" fmla="val 37891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5" name=""/>
              <p:cNvSpPr txBox="1"/>
              <p:nvPr/>
            </p:nvSpPr>
            <p:spPr>
              <a:xfrm>
                <a:off x="5867280" y="3917880"/>
                <a:ext cx="1324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6" name=""/>
          <p:cNvSpPr/>
          <p:nvPr/>
        </p:nvSpPr>
        <p:spPr>
          <a:xfrm>
            <a:off x="485640" y="4981680"/>
            <a:ext cx="419400" cy="276120"/>
          </a:xfrm>
          <a:prstGeom prst="rightArrow">
            <a:avLst>
              <a:gd name="adj1" fmla="val 50000"/>
              <a:gd name="adj2" fmla="val 37973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7" name=""/>
              <p:cNvSpPr txBox="1"/>
              <p:nvPr/>
            </p:nvSpPr>
            <p:spPr>
              <a:xfrm>
                <a:off x="3849840" y="4832280"/>
                <a:ext cx="1322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8" name=""/>
          <p:cNvSpPr/>
          <p:nvPr/>
        </p:nvSpPr>
        <p:spPr>
          <a:xfrm>
            <a:off x="1019160" y="489600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(Semplificando la prima frazione con 1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 flipH="1">
            <a:off x="3876480" y="4772160"/>
            <a:ext cx="523800" cy="333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 flipH="1">
            <a:off x="3867120" y="5191200"/>
            <a:ext cx="504720" cy="31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5334120" y="4962600"/>
            <a:ext cx="419040" cy="276120"/>
          </a:xfrm>
          <a:prstGeom prst="rightArrow">
            <a:avLst>
              <a:gd name="adj1" fmla="val 50000"/>
              <a:gd name="adj2" fmla="val 3794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2" name=""/>
              <p:cNvSpPr txBox="1"/>
              <p:nvPr/>
            </p:nvSpPr>
            <p:spPr>
              <a:xfrm>
                <a:off x="5902200" y="4870440"/>
                <a:ext cx="1179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3" name=""/>
          <p:cNvSpPr/>
          <p:nvPr/>
        </p:nvSpPr>
        <p:spPr>
          <a:xfrm>
            <a:off x="4286160" y="461016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4276800" y="5210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2314440" y="5629320"/>
            <a:ext cx="63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!!! Il numero inserito verifica l’eguaglianza cioè i due membri sono uguali !!! La risposta è esatt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93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9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5791320" y="285840"/>
            <a:ext cx="299088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imo principio di equivalenz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un’equazione si può sommare o sottrarre  una stess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spressi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 sinistra e a destra dell’ugua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80880" y="1143000"/>
            <a:ext cx="3019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– 3 =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 x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238400" y="2197080"/>
                <a:ext cx="3827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6  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4" name=""/>
          <p:cNvSpPr/>
          <p:nvPr/>
        </p:nvSpPr>
        <p:spPr>
          <a:xfrm>
            <a:off x="2514600" y="2048040"/>
            <a:ext cx="361800" cy="81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3886200" y="2000160"/>
            <a:ext cx="361800" cy="8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1270080" y="3292560"/>
                <a:ext cx="4527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7" name=""/>
          <p:cNvSpPr/>
          <p:nvPr/>
        </p:nvSpPr>
        <p:spPr>
          <a:xfrm>
            <a:off x="3390840" y="3124080"/>
            <a:ext cx="362160" cy="8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4334040" y="3105000"/>
            <a:ext cx="361800" cy="8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811080" y="4435560"/>
                <a:ext cx="7656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0" name=""/>
          <p:cNvSpPr/>
          <p:nvPr/>
        </p:nvSpPr>
        <p:spPr>
          <a:xfrm>
            <a:off x="2886120" y="4229280"/>
            <a:ext cx="361800" cy="81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971960" y="4229280"/>
            <a:ext cx="362160" cy="81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609480" y="5286240"/>
            <a:ext cx="736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x=6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si fa? Bisogna applicare un’altra regola perché alla x non è sommata o sottratta, ma moltiplicata per 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7715160" y="5657760"/>
            <a:ext cx="1095480" cy="523800"/>
          </a:xfrm>
          <a:prstGeom prst="rightArrow">
            <a:avLst>
              <a:gd name="adj1" fmla="val 50000"/>
              <a:gd name="adj2" fmla="val 52285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95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7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552600" y="1209600"/>
            <a:ext cx="7553160" cy="1557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condo principio di equivalenz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n’equazione si può moltiplicare o dividere per una stessa espressione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umerica o lettera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istra e a destra dell’uguale. Se si divide, il divisore deve essere diverso da ze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847800" y="2905200"/>
            <a:ext cx="7277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amo. L’equazione è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x=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 Poiché vogliamo trovare x, è logico cercare di lasciarla da sola nel primo membro, in modo da arrivare ad una espressione del tip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un nume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fruttiamo la regola dividendo per 2 entrambi i membr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996920" y="5327640"/>
                <a:ext cx="10731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3" name=""/>
          <p:cNvSpPr/>
          <p:nvPr/>
        </p:nvSpPr>
        <p:spPr>
          <a:xfrm flipH="1">
            <a:off x="1943280" y="5324400"/>
            <a:ext cx="304560" cy="35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 flipH="1">
            <a:off x="2066400" y="5743440"/>
            <a:ext cx="304920" cy="35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3324240" y="5524560"/>
            <a:ext cx="419040" cy="276120"/>
          </a:xfrm>
          <a:prstGeom prst="rightArrow">
            <a:avLst>
              <a:gd name="adj1" fmla="val 50000"/>
              <a:gd name="adj2" fmla="val 3794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3986280" y="5327640"/>
                <a:ext cx="731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7" name=""/>
          <p:cNvSpPr/>
          <p:nvPr/>
        </p:nvSpPr>
        <p:spPr>
          <a:xfrm>
            <a:off x="4896000" y="5505480"/>
            <a:ext cx="419040" cy="276120"/>
          </a:xfrm>
          <a:prstGeom prst="rightArrow">
            <a:avLst>
              <a:gd name="adj1" fmla="val 50000"/>
              <a:gd name="adj2" fmla="val 3794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5499000" y="5524560"/>
                <a:ext cx="65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97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2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5391000" y="285840"/>
            <a:ext cx="3600720" cy="2289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condo principio di equivalenz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un’equazione si può moltiplicare o dividere per una stessa espressione a sinistra e a destra dell’uguale. Se si divide, il divisore deve essere diverso da zer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43080" y="147636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hiamo. L’equazione è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x=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 Sostituiamo x=3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98480" y="2697120"/>
                <a:ext cx="11462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399960" y="3162240"/>
            <a:ext cx="2181240" cy="34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2095560" y="2886120"/>
            <a:ext cx="44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 che i due membri sono uguali la risposta trovata è gius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90600" y="363852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438120" y="4079880"/>
                <a:ext cx="4135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1" name=""/>
          <p:cNvSpPr/>
          <p:nvPr/>
        </p:nvSpPr>
        <p:spPr>
          <a:xfrm>
            <a:off x="466560" y="4067280"/>
            <a:ext cx="895680" cy="61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4629240" y="4162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 abbiamo moltiplic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436680" y="4775040"/>
                <a:ext cx="5073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4" name=""/>
          <p:cNvSpPr/>
          <p:nvPr/>
        </p:nvSpPr>
        <p:spPr>
          <a:xfrm>
            <a:off x="457200" y="4772160"/>
            <a:ext cx="1143000" cy="61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666800" y="4181400"/>
            <a:ext cx="352440" cy="419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2886120" y="4181400"/>
            <a:ext cx="352440" cy="419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009880" y="4714920"/>
            <a:ext cx="352440" cy="7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3733920" y="4743360"/>
            <a:ext cx="352440" cy="7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5543640" y="467676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 abbiamo moltiplicato per la frazione inver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442800" y="5489640"/>
                <a:ext cx="5738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1" name=""/>
          <p:cNvSpPr/>
          <p:nvPr/>
        </p:nvSpPr>
        <p:spPr>
          <a:xfrm>
            <a:off x="1228680" y="5400720"/>
            <a:ext cx="219240" cy="7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2085840" y="5410080"/>
            <a:ext cx="228600" cy="7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6248520" y="5381640"/>
            <a:ext cx="307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 abbiamo moltiplicato per la x per portarla a numerato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H="1">
            <a:off x="1676520" y="412416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 flipH="1">
            <a:off x="2019240" y="436248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flipH="1">
            <a:off x="2028960" y="471492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2448000" y="502920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H="1">
            <a:off x="2076480" y="5019840"/>
            <a:ext cx="295200" cy="42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flipH="1">
            <a:off x="2486160" y="4667400"/>
            <a:ext cx="295200" cy="42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1190160" y="5600880"/>
            <a:ext cx="295560" cy="42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 flipH="1">
            <a:off x="1457280" y="578160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0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5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6324480" y="2381400"/>
            <a:ext cx="2638440" cy="256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condo principio di equivalenz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’equazione si può moltiplicare o dividere per una stessa espressione a sinistra e a destra dell’uguale. Se si divide, il divisore deve essere diverso da z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343080" y="1476360"/>
            <a:ext cx="49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amo l’equazi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x +2 =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6324480" y="266760"/>
            <a:ext cx="2638440" cy="2014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rimo principio di equivalenz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’equazione si può sommare o sottrarre  una stessa espressione  a sinistra e a destra dell’ugu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19040" y="2743200"/>
            <a:ext cx="49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gola pratic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’ sempre opportun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ol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l ter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ente l’incognita (nell’esempio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prima di procedere ad isolare l’incognita (x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1" name=""/>
              <p:cNvSpPr txBox="1"/>
              <p:nvPr/>
            </p:nvSpPr>
            <p:spPr>
              <a:xfrm>
                <a:off x="520560" y="4416480"/>
                <a:ext cx="426744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·x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 – 2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 – 2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5 · x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 · 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12" name=""/>
          <p:cNvSpPr/>
          <p:nvPr/>
        </p:nvSpPr>
        <p:spPr>
          <a:xfrm>
            <a:off x="200160" y="5095800"/>
            <a:ext cx="1609560" cy="838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3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14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6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6324480" y="2381400"/>
            <a:ext cx="2638440" cy="256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condo principio di equivalenz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’equazione si può moltiplicare o dividere per una stessa espressione a sinistra e a destra dell’uguale. Se si divide, il divisore deve essere diverso da z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6324480" y="266760"/>
            <a:ext cx="2638440" cy="2014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rimo principio di equivalenz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’equazione si può sommare o sottrarre  una stessa espressione  a sinistra e a destra dell’ugu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399960" y="104760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04720" y="1968480"/>
                <a:ext cx="1743120" cy="32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x – 7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x/2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2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5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 letterali/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28760" y="1057320"/>
            <a:ext cx="82864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amo or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e equazioni lettera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n fisica sono queste le equazioni che incontreremo. L’unica differenza è che al posto dei numeri abbiamo delle lettere che rappresentano quantità che non conosciam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er esempio:          x + U = Q       è la stessa cosa di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= +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viamo come abbiamo fatto in precedenz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 + 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- 3 = +5 -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  =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5 - 3 = 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ermiamo qui, perché la risposta non può essere un numero ma un’espressione letter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cidessimo di imporre U=+3 e Q=+5 le due equazioni diventano identich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 flipH="1">
            <a:off x="2847600" y="3800520"/>
            <a:ext cx="2667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 flipH="1">
            <a:off x="3323880" y="3819600"/>
            <a:ext cx="2667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H="1">
            <a:off x="6447960" y="3800520"/>
            <a:ext cx="2667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 flipH="1">
            <a:off x="6924240" y="3819600"/>
            <a:ext cx="2667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0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2880" y="1295280"/>
            <a:ext cx="69721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scale di cui ci occupiamo in questa prima fase sono quel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met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le lunghez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chilogram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la ma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met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le superf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metro cubo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i volu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secondo (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per il temp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litro (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le capacit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3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5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 letterali/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428760" y="1057320"/>
            <a:ext cx="8286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se Q e U hanno valori diversi, ugualmente la rispos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  =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 ad essere la risposta giust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e potremmo chiamare la nostra incognita x con un’altra lettera, per esempio E: non cambierebbe null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equazione di partenza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 + U = Q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nta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 + U =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oluzione è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  =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volta in volta dovremo dire fra le varie lettere quale è l’incognita, cioè la lettera di cui cerchiamo l’espressio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990720" y="2838600"/>
            <a:ext cx="6257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4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2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 letterali/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428760" y="1057320"/>
            <a:ext cx="8286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=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ncognit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ncognit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/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ncognit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c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ncognit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4734000" y="1574640"/>
                <a:ext cx="4033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4743360" y="2651040"/>
                <a:ext cx="40435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4740120" y="3556080"/>
                <a:ext cx="4043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3419640" y="5010120"/>
                <a:ext cx="536544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 ·t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-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 ·t -c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-c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rPr>
                            <m:lit/>
                            <m:nor/>
                          </m:rPr>
                          <m:t xml:space="preserve">v ·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-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 ·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-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-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5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2" name=""/>
          <p:cNvSpPr/>
          <p:nvPr/>
        </p:nvSpPr>
        <p:spPr>
          <a:xfrm>
            <a:off x="628560" y="297180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5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7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942840" y="1552680"/>
            <a:ext cx="6239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diamo alcuni concetti fondamentali di geometria piana e alcune formule di geometria solida che ci serviranno parlando di fis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tti generali che non dimostreremo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6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3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rette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885960" y="1657440"/>
            <a:ext cx="68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tte inciden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rette si dicono incidenti se si intersecano in un solo pu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619200" y="3467160"/>
            <a:ext cx="3571920" cy="1922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rietà delle incident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angoli opposti al vertice di due rette che si intersecano sono uguali fra lo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5013360" y="2963880"/>
            <a:ext cx="387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5089680" y="2940120"/>
            <a:ext cx="3189240" cy="22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6613560" y="3233880"/>
            <a:ext cx="0" cy="155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9" name=""/>
          <p:cNvGrpSpPr/>
          <p:nvPr/>
        </p:nvGrpSpPr>
        <p:grpSpPr>
          <a:xfrm>
            <a:off x="4772520" y="3643920"/>
            <a:ext cx="4075200" cy="1127520"/>
            <a:chOff x="4772520" y="3643920"/>
            <a:chExt cx="4075200" cy="1127520"/>
          </a:xfrm>
        </p:grpSpPr>
        <p:sp>
          <p:nvSpPr>
            <p:cNvPr id="3070" name=""/>
            <p:cNvSpPr/>
            <p:nvPr/>
          </p:nvSpPr>
          <p:spPr>
            <a:xfrm>
              <a:off x="6123600" y="4018320"/>
              <a:ext cx="1330200" cy="36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517160" y="4404240"/>
              <a:ext cx="1330560" cy="36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772520" y="3643920"/>
              <a:ext cx="1330560" cy="36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3" name=""/>
          <p:cNvSpPr/>
          <p:nvPr/>
        </p:nvSpPr>
        <p:spPr>
          <a:xfrm flipV="1">
            <a:off x="6613560" y="1647720"/>
            <a:ext cx="0" cy="1549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 flipV="1">
            <a:off x="6613560" y="4784760"/>
            <a:ext cx="0" cy="1549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6078600" y="3778200"/>
            <a:ext cx="1058760" cy="820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6183360" y="3763800"/>
            <a:ext cx="422280" cy="35424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5" y="101"/>
                </a:moveTo>
                <a:cubicBezTo>
                  <a:pt x="93" y="84"/>
                  <a:pt x="88" y="62"/>
                  <a:pt x="95" y="45"/>
                </a:cubicBezTo>
                <a:cubicBezTo>
                  <a:pt x="97" y="33"/>
                  <a:pt x="98" y="32"/>
                  <a:pt x="96" y="18"/>
                </a:cubicBezTo>
                <a:cubicBezTo>
                  <a:pt x="96" y="16"/>
                  <a:pt x="95" y="12"/>
                  <a:pt x="95" y="12"/>
                </a:cubicBezTo>
                <a:cubicBezTo>
                  <a:pt x="90" y="0"/>
                  <a:pt x="85" y="7"/>
                  <a:pt x="75" y="9"/>
                </a:cubicBezTo>
                <a:cubicBezTo>
                  <a:pt x="67" y="15"/>
                  <a:pt x="58" y="22"/>
                  <a:pt x="48" y="24"/>
                </a:cubicBezTo>
                <a:cubicBezTo>
                  <a:pt x="43" y="28"/>
                  <a:pt x="39" y="29"/>
                  <a:pt x="33" y="30"/>
                </a:cubicBezTo>
                <a:cubicBezTo>
                  <a:pt x="22" y="39"/>
                  <a:pt x="15" y="46"/>
                  <a:pt x="6" y="57"/>
                </a:cubicBezTo>
                <a:cubicBezTo>
                  <a:pt x="5" y="63"/>
                  <a:pt x="3" y="66"/>
                  <a:pt x="0" y="71"/>
                </a:cubicBezTo>
                <a:cubicBezTo>
                  <a:pt x="3" y="79"/>
                  <a:pt x="9" y="79"/>
                  <a:pt x="17" y="81"/>
                </a:cubicBezTo>
                <a:cubicBezTo>
                  <a:pt x="33" y="89"/>
                  <a:pt x="57" y="89"/>
                  <a:pt x="74" y="90"/>
                </a:cubicBezTo>
                <a:cubicBezTo>
                  <a:pt x="82" y="94"/>
                  <a:pt x="90" y="93"/>
                  <a:pt x="95" y="101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 rot="10937400">
            <a:off x="6626160" y="4182480"/>
            <a:ext cx="463680" cy="40788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5" y="101"/>
                </a:moveTo>
                <a:cubicBezTo>
                  <a:pt x="93" y="84"/>
                  <a:pt x="88" y="62"/>
                  <a:pt x="95" y="45"/>
                </a:cubicBezTo>
                <a:cubicBezTo>
                  <a:pt x="97" y="33"/>
                  <a:pt x="98" y="32"/>
                  <a:pt x="96" y="18"/>
                </a:cubicBezTo>
                <a:cubicBezTo>
                  <a:pt x="96" y="16"/>
                  <a:pt x="95" y="12"/>
                  <a:pt x="95" y="12"/>
                </a:cubicBezTo>
                <a:cubicBezTo>
                  <a:pt x="90" y="0"/>
                  <a:pt x="85" y="7"/>
                  <a:pt x="75" y="9"/>
                </a:cubicBezTo>
                <a:cubicBezTo>
                  <a:pt x="67" y="15"/>
                  <a:pt x="58" y="22"/>
                  <a:pt x="48" y="24"/>
                </a:cubicBezTo>
                <a:cubicBezTo>
                  <a:pt x="43" y="28"/>
                  <a:pt x="39" y="29"/>
                  <a:pt x="33" y="30"/>
                </a:cubicBezTo>
                <a:cubicBezTo>
                  <a:pt x="22" y="39"/>
                  <a:pt x="15" y="46"/>
                  <a:pt x="6" y="57"/>
                </a:cubicBezTo>
                <a:cubicBezTo>
                  <a:pt x="5" y="63"/>
                  <a:pt x="3" y="66"/>
                  <a:pt x="0" y="71"/>
                </a:cubicBezTo>
                <a:cubicBezTo>
                  <a:pt x="3" y="79"/>
                  <a:pt x="9" y="79"/>
                  <a:pt x="17" y="81"/>
                </a:cubicBezTo>
                <a:cubicBezTo>
                  <a:pt x="33" y="89"/>
                  <a:pt x="57" y="89"/>
                  <a:pt x="74" y="90"/>
                </a:cubicBezTo>
                <a:cubicBezTo>
                  <a:pt x="82" y="94"/>
                  <a:pt x="90" y="93"/>
                  <a:pt x="95" y="101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 rot="16407600">
            <a:off x="6107760" y="4055040"/>
            <a:ext cx="441360" cy="55404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5" y="101"/>
                </a:moveTo>
                <a:cubicBezTo>
                  <a:pt x="93" y="84"/>
                  <a:pt x="88" y="62"/>
                  <a:pt x="95" y="45"/>
                </a:cubicBezTo>
                <a:cubicBezTo>
                  <a:pt x="97" y="33"/>
                  <a:pt x="98" y="32"/>
                  <a:pt x="96" y="18"/>
                </a:cubicBezTo>
                <a:cubicBezTo>
                  <a:pt x="96" y="16"/>
                  <a:pt x="95" y="12"/>
                  <a:pt x="95" y="12"/>
                </a:cubicBezTo>
                <a:cubicBezTo>
                  <a:pt x="90" y="0"/>
                  <a:pt x="85" y="7"/>
                  <a:pt x="75" y="9"/>
                </a:cubicBezTo>
                <a:cubicBezTo>
                  <a:pt x="67" y="15"/>
                  <a:pt x="58" y="22"/>
                  <a:pt x="48" y="24"/>
                </a:cubicBezTo>
                <a:cubicBezTo>
                  <a:pt x="43" y="28"/>
                  <a:pt x="39" y="29"/>
                  <a:pt x="33" y="30"/>
                </a:cubicBezTo>
                <a:cubicBezTo>
                  <a:pt x="22" y="39"/>
                  <a:pt x="15" y="46"/>
                  <a:pt x="6" y="57"/>
                </a:cubicBezTo>
                <a:cubicBezTo>
                  <a:pt x="5" y="63"/>
                  <a:pt x="3" y="66"/>
                  <a:pt x="0" y="71"/>
                </a:cubicBezTo>
                <a:cubicBezTo>
                  <a:pt x="3" y="79"/>
                  <a:pt x="9" y="79"/>
                  <a:pt x="17" y="81"/>
                </a:cubicBezTo>
                <a:cubicBezTo>
                  <a:pt x="33" y="89"/>
                  <a:pt x="57" y="89"/>
                  <a:pt x="74" y="90"/>
                </a:cubicBezTo>
                <a:cubicBezTo>
                  <a:pt x="82" y="94"/>
                  <a:pt x="90" y="93"/>
                  <a:pt x="95" y="101"/>
                </a:cubicBez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 rot="6048000">
            <a:off x="6741360" y="3758400"/>
            <a:ext cx="339840" cy="55080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5" y="101"/>
                </a:moveTo>
                <a:cubicBezTo>
                  <a:pt x="93" y="84"/>
                  <a:pt x="88" y="62"/>
                  <a:pt x="95" y="45"/>
                </a:cubicBezTo>
                <a:cubicBezTo>
                  <a:pt x="97" y="33"/>
                  <a:pt x="98" y="32"/>
                  <a:pt x="96" y="18"/>
                </a:cubicBezTo>
                <a:cubicBezTo>
                  <a:pt x="96" y="16"/>
                  <a:pt x="95" y="12"/>
                  <a:pt x="95" y="12"/>
                </a:cubicBezTo>
                <a:cubicBezTo>
                  <a:pt x="90" y="0"/>
                  <a:pt x="85" y="7"/>
                  <a:pt x="75" y="9"/>
                </a:cubicBezTo>
                <a:cubicBezTo>
                  <a:pt x="67" y="15"/>
                  <a:pt x="58" y="22"/>
                  <a:pt x="48" y="24"/>
                </a:cubicBezTo>
                <a:cubicBezTo>
                  <a:pt x="43" y="28"/>
                  <a:pt x="39" y="29"/>
                  <a:pt x="33" y="30"/>
                </a:cubicBezTo>
                <a:cubicBezTo>
                  <a:pt x="22" y="39"/>
                  <a:pt x="15" y="46"/>
                  <a:pt x="6" y="57"/>
                </a:cubicBezTo>
                <a:cubicBezTo>
                  <a:pt x="5" y="63"/>
                  <a:pt x="3" y="66"/>
                  <a:pt x="0" y="71"/>
                </a:cubicBezTo>
                <a:cubicBezTo>
                  <a:pt x="3" y="79"/>
                  <a:pt x="9" y="79"/>
                  <a:pt x="17" y="81"/>
                </a:cubicBezTo>
                <a:cubicBezTo>
                  <a:pt x="33" y="89"/>
                  <a:pt x="57" y="89"/>
                  <a:pt x="74" y="90"/>
                </a:cubicBezTo>
                <a:cubicBezTo>
                  <a:pt x="82" y="94"/>
                  <a:pt x="90" y="93"/>
                  <a:pt x="95" y="101"/>
                </a:cubicBez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5952960" y="32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6962760" y="4524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5562720" y="43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7143840" y="3409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8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7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rette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885960" y="1657440"/>
            <a:ext cx="6886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tte perpendicola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rette incidenti si dicon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pendicolar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ppure ortogonali o normali) se si intersecano in un punto formando quattro angoli ret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9" name=""/>
          <p:cNvGrpSpPr/>
          <p:nvPr/>
        </p:nvGrpSpPr>
        <p:grpSpPr>
          <a:xfrm>
            <a:off x="4695840" y="1647720"/>
            <a:ext cx="3676680" cy="3629160"/>
            <a:chOff x="4695840" y="1647720"/>
            <a:chExt cx="3676680" cy="3629160"/>
          </a:xfrm>
        </p:grpSpPr>
        <p:sp>
          <p:nvSpPr>
            <p:cNvPr id="3090" name=""/>
            <p:cNvSpPr/>
            <p:nvPr/>
          </p:nvSpPr>
          <p:spPr>
            <a:xfrm>
              <a:off x="4971960" y="2666880"/>
              <a:ext cx="337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010120" y="2448000"/>
              <a:ext cx="277164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362640" y="287640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915160" y="3629160"/>
              <a:ext cx="1199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172280" y="3629160"/>
              <a:ext cx="1200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695840" y="3629160"/>
              <a:ext cx="1200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V="1">
              <a:off x="6362640" y="164772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V="1">
              <a:off x="6362640" y="407664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8" name=""/>
          <p:cNvSpPr/>
          <p:nvPr/>
        </p:nvSpPr>
        <p:spPr>
          <a:xfrm>
            <a:off x="1457280" y="3390840"/>
            <a:ext cx="27720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9" name=""/>
          <p:cNvGrpSpPr/>
          <p:nvPr/>
        </p:nvGrpSpPr>
        <p:grpSpPr>
          <a:xfrm>
            <a:off x="1262520" y="2694960"/>
            <a:ext cx="3597120" cy="3066120"/>
            <a:chOff x="1262520" y="2694960"/>
            <a:chExt cx="3597120" cy="3066120"/>
          </a:xfrm>
        </p:grpSpPr>
        <p:sp>
          <p:nvSpPr>
            <p:cNvPr id="3100" name=""/>
            <p:cNvSpPr/>
            <p:nvPr/>
          </p:nvSpPr>
          <p:spPr>
            <a:xfrm rot="1940400">
              <a:off x="1626840" y="3678480"/>
              <a:ext cx="337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H="1">
              <a:off x="2431800" y="3733200"/>
              <a:ext cx="641880" cy="1013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292840" y="4129560"/>
              <a:ext cx="1014120" cy="641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3355200" y="4802040"/>
              <a:ext cx="1013760" cy="6418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1262520" y="3477240"/>
              <a:ext cx="1014120" cy="6418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V="1">
              <a:off x="3089160" y="2694960"/>
              <a:ext cx="641880" cy="10137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V="1">
              <a:off x="1789920" y="4746960"/>
              <a:ext cx="641880" cy="10141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7" name=""/>
          <p:cNvSpPr/>
          <p:nvPr/>
        </p:nvSpPr>
        <p:spPr>
          <a:xfrm>
            <a:off x="2476440" y="4181400"/>
            <a:ext cx="3906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6162840" y="3438360"/>
            <a:ext cx="390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2733840" y="4714920"/>
            <a:ext cx="30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che queste sono perpendicolari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11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3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rette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885960" y="1657440"/>
            <a:ext cx="6886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tte paralle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rette si dicono parallele se s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 intersecano in nessun punto. La “distanza” fra due rette parallele è sempre ugua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5029200" y="2647800"/>
            <a:ext cx="277164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7" name=""/>
          <p:cNvGrpSpPr/>
          <p:nvPr/>
        </p:nvGrpSpPr>
        <p:grpSpPr>
          <a:xfrm>
            <a:off x="6035760" y="1830240"/>
            <a:ext cx="4320" cy="3676680"/>
            <a:chOff x="6035760" y="1830240"/>
            <a:chExt cx="4320" cy="3676680"/>
          </a:xfrm>
        </p:grpSpPr>
        <p:sp>
          <p:nvSpPr>
            <p:cNvPr id="3118" name=""/>
            <p:cNvSpPr/>
            <p:nvPr/>
          </p:nvSpPr>
          <p:spPr>
            <a:xfrm>
              <a:off x="6036480" y="3049560"/>
              <a:ext cx="2520" cy="119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037920" y="4306680"/>
              <a:ext cx="216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035760" y="1830240"/>
              <a:ext cx="216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1" name=""/>
          <p:cNvGrpSpPr/>
          <p:nvPr/>
        </p:nvGrpSpPr>
        <p:grpSpPr>
          <a:xfrm>
            <a:off x="5695920" y="1790640"/>
            <a:ext cx="0" cy="3629160"/>
            <a:chOff x="5695920" y="1790640"/>
            <a:chExt cx="0" cy="3629160"/>
          </a:xfrm>
        </p:grpSpPr>
        <p:sp>
          <p:nvSpPr>
            <p:cNvPr id="3122" name=""/>
            <p:cNvSpPr/>
            <p:nvPr/>
          </p:nvSpPr>
          <p:spPr>
            <a:xfrm>
              <a:off x="5695920" y="301932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 flipV="1">
              <a:off x="5695920" y="179064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V="1">
              <a:off x="5695920" y="421956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5" name=""/>
          <p:cNvSpPr/>
          <p:nvPr/>
        </p:nvSpPr>
        <p:spPr>
          <a:xfrm>
            <a:off x="1542960" y="3733920"/>
            <a:ext cx="2772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6" name=""/>
          <p:cNvGrpSpPr/>
          <p:nvPr/>
        </p:nvGrpSpPr>
        <p:grpSpPr>
          <a:xfrm>
            <a:off x="2659680" y="2835360"/>
            <a:ext cx="1251720" cy="3457080"/>
            <a:chOff x="2659680" y="2835360"/>
            <a:chExt cx="1251720" cy="3457080"/>
          </a:xfrm>
        </p:grpSpPr>
        <p:sp>
          <p:nvSpPr>
            <p:cNvPr id="3127" name=""/>
            <p:cNvSpPr/>
            <p:nvPr/>
          </p:nvSpPr>
          <p:spPr>
            <a:xfrm>
              <a:off x="3074400" y="3981960"/>
              <a:ext cx="409320" cy="1127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501720" y="5164200"/>
              <a:ext cx="409680" cy="1128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659680" y="2835360"/>
              <a:ext cx="409320" cy="1128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0" name=""/>
          <p:cNvGrpSpPr/>
          <p:nvPr/>
        </p:nvGrpSpPr>
        <p:grpSpPr>
          <a:xfrm>
            <a:off x="2375280" y="2584440"/>
            <a:ext cx="1231200" cy="3413880"/>
            <a:chOff x="2375280" y="2584440"/>
            <a:chExt cx="1231200" cy="3413880"/>
          </a:xfrm>
        </p:grpSpPr>
        <p:sp>
          <p:nvSpPr>
            <p:cNvPr id="3131" name=""/>
            <p:cNvSpPr/>
            <p:nvPr/>
          </p:nvSpPr>
          <p:spPr>
            <a:xfrm>
              <a:off x="2792160" y="3740040"/>
              <a:ext cx="407160" cy="112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H="1" flipV="1">
              <a:off x="2375280" y="2584440"/>
              <a:ext cx="407160" cy="11289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H="1" flipV="1">
              <a:off x="3199320" y="4869000"/>
              <a:ext cx="407160" cy="11293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13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7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angoli notevoli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4048200" y="2685960"/>
            <a:ext cx="277164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819000" y="1380960"/>
            <a:ext cx="27720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866880" y="4419720"/>
            <a:ext cx="27716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1743120" y="120024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1123920" y="255276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4334040" y="3762360"/>
            <a:ext cx="21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2076480" y="545796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1886040" y="5334120"/>
            <a:ext cx="36180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rot="16200000">
            <a:off x="5314680" y="3495600"/>
            <a:ext cx="123840" cy="39060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1305000" y="2562120"/>
            <a:ext cx="4284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1305000" y="2038320"/>
            <a:ext cx="4284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752480" y="2562120"/>
            <a:ext cx="428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647800" y="162864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golo retto (90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4667400" y="2876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golo piatto (180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2381400" y="4667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golo giro (360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1743120" y="219060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V="1">
            <a:off x="2104920" y="21906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15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9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angoli notevoli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733320" y="1285920"/>
            <a:ext cx="49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rietà delle parallele tagliate da una trasversa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angoli dello stesso colore in figura sono uguali fra lo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rot="16200000">
            <a:off x="3519360" y="2318760"/>
            <a:ext cx="2771640" cy="35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2" name=""/>
          <p:cNvGrpSpPr/>
          <p:nvPr/>
        </p:nvGrpSpPr>
        <p:grpSpPr>
          <a:xfrm>
            <a:off x="1227240" y="4748040"/>
            <a:ext cx="7411320" cy="7920"/>
            <a:chOff x="1227240" y="4748040"/>
            <a:chExt cx="7411320" cy="7920"/>
          </a:xfrm>
        </p:grpSpPr>
        <p:sp>
          <p:nvSpPr>
            <p:cNvPr id="3163" name=""/>
            <p:cNvSpPr/>
            <p:nvPr/>
          </p:nvSpPr>
          <p:spPr>
            <a:xfrm flipV="1">
              <a:off x="3684960" y="4750200"/>
              <a:ext cx="2418480" cy="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V="1">
              <a:off x="6219360" y="4748040"/>
              <a:ext cx="2419200" cy="36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V="1">
              <a:off x="1227240" y="4752360"/>
              <a:ext cx="2419200" cy="36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6" name=""/>
          <p:cNvGrpSpPr/>
          <p:nvPr/>
        </p:nvGrpSpPr>
        <p:grpSpPr>
          <a:xfrm>
            <a:off x="1463400" y="3605040"/>
            <a:ext cx="7315920" cy="0"/>
            <a:chOff x="1463400" y="3605040"/>
            <a:chExt cx="7315920" cy="0"/>
          </a:xfrm>
        </p:grpSpPr>
        <p:sp>
          <p:nvSpPr>
            <p:cNvPr id="3167" name=""/>
            <p:cNvSpPr/>
            <p:nvPr/>
          </p:nvSpPr>
          <p:spPr>
            <a:xfrm>
              <a:off x="3940560" y="3605040"/>
              <a:ext cx="2419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H="1">
              <a:off x="1463400" y="3605040"/>
              <a:ext cx="24195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6359760" y="3605040"/>
              <a:ext cx="24195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0" name=""/>
          <p:cNvGrpSpPr/>
          <p:nvPr/>
        </p:nvGrpSpPr>
        <p:grpSpPr>
          <a:xfrm>
            <a:off x="2299320" y="1491480"/>
            <a:ext cx="5455080" cy="4875480"/>
            <a:chOff x="2299320" y="1491480"/>
            <a:chExt cx="5455080" cy="4875480"/>
          </a:xfrm>
        </p:grpSpPr>
        <p:sp>
          <p:nvSpPr>
            <p:cNvPr id="3171" name=""/>
            <p:cNvSpPr/>
            <p:nvPr/>
          </p:nvSpPr>
          <p:spPr>
            <a:xfrm flipV="1">
              <a:off x="4146120" y="3103920"/>
              <a:ext cx="1803960" cy="1612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H="1">
              <a:off x="2299320" y="4754520"/>
              <a:ext cx="1803960" cy="16124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>
              <a:off x="5950080" y="1491480"/>
              <a:ext cx="1804320" cy="16124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4" name=""/>
          <p:cNvSpPr/>
          <p:nvPr/>
        </p:nvSpPr>
        <p:spPr>
          <a:xfrm>
            <a:off x="4867200" y="3124080"/>
            <a:ext cx="1057320" cy="981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3591000" y="4267080"/>
            <a:ext cx="1057320" cy="981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rot="4011600">
            <a:off x="3534480" y="4613760"/>
            <a:ext cx="414360" cy="5428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rot="4011600">
            <a:off x="4839120" y="3451680"/>
            <a:ext cx="414000" cy="54324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 flipH="1" rot="14906400">
            <a:off x="4286520" y="4347360"/>
            <a:ext cx="414360" cy="542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H="1" rot="14906400">
            <a:off x="5562720" y="3194640"/>
            <a:ext cx="414360" cy="542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4078440" y="4316400"/>
            <a:ext cx="341280" cy="398520"/>
          </a:xfrm>
          <a:custGeom>
            <a:avLst/>
            <a:gdLst/>
            <a:ahLst/>
            <a:rect l="l" t="t" r="r" b="b"/>
            <a:pathLst>
              <a:path w="215" h="251">
                <a:moveTo>
                  <a:pt x="5" y="251"/>
                </a:moveTo>
                <a:cubicBezTo>
                  <a:pt x="11" y="219"/>
                  <a:pt x="12" y="208"/>
                  <a:pt x="35" y="185"/>
                </a:cubicBezTo>
                <a:cubicBezTo>
                  <a:pt x="39" y="191"/>
                  <a:pt x="46" y="196"/>
                  <a:pt x="47" y="203"/>
                </a:cubicBezTo>
                <a:cubicBezTo>
                  <a:pt x="51" y="233"/>
                  <a:pt x="0" y="248"/>
                  <a:pt x="41" y="221"/>
                </a:cubicBezTo>
                <a:cubicBezTo>
                  <a:pt x="45" y="210"/>
                  <a:pt x="57" y="192"/>
                  <a:pt x="29" y="197"/>
                </a:cubicBezTo>
                <a:cubicBezTo>
                  <a:pt x="22" y="198"/>
                  <a:pt x="4" y="209"/>
                  <a:pt x="11" y="209"/>
                </a:cubicBezTo>
                <a:cubicBezTo>
                  <a:pt x="24" y="209"/>
                  <a:pt x="47" y="197"/>
                  <a:pt x="47" y="197"/>
                </a:cubicBezTo>
                <a:cubicBezTo>
                  <a:pt x="73" y="178"/>
                  <a:pt x="100" y="165"/>
                  <a:pt x="131" y="155"/>
                </a:cubicBezTo>
                <a:cubicBezTo>
                  <a:pt x="125" y="151"/>
                  <a:pt x="110" y="149"/>
                  <a:pt x="113" y="143"/>
                </a:cubicBezTo>
                <a:cubicBezTo>
                  <a:pt x="119" y="130"/>
                  <a:pt x="137" y="127"/>
                  <a:pt x="149" y="119"/>
                </a:cubicBezTo>
                <a:cubicBezTo>
                  <a:pt x="155" y="115"/>
                  <a:pt x="167" y="107"/>
                  <a:pt x="167" y="107"/>
                </a:cubicBezTo>
                <a:cubicBezTo>
                  <a:pt x="162" y="103"/>
                  <a:pt x="131" y="85"/>
                  <a:pt x="131" y="77"/>
                </a:cubicBezTo>
                <a:cubicBezTo>
                  <a:pt x="131" y="71"/>
                  <a:pt x="143" y="73"/>
                  <a:pt x="149" y="71"/>
                </a:cubicBezTo>
                <a:cubicBezTo>
                  <a:pt x="202" y="56"/>
                  <a:pt x="148" y="73"/>
                  <a:pt x="191" y="59"/>
                </a:cubicBezTo>
                <a:cubicBezTo>
                  <a:pt x="173" y="57"/>
                  <a:pt x="154" y="59"/>
                  <a:pt x="137" y="53"/>
                </a:cubicBezTo>
                <a:cubicBezTo>
                  <a:pt x="131" y="51"/>
                  <a:pt x="149" y="46"/>
                  <a:pt x="155" y="47"/>
                </a:cubicBezTo>
                <a:cubicBezTo>
                  <a:pt x="174" y="49"/>
                  <a:pt x="198" y="62"/>
                  <a:pt x="215" y="71"/>
                </a:cubicBezTo>
                <a:cubicBezTo>
                  <a:pt x="209" y="77"/>
                  <a:pt x="204" y="85"/>
                  <a:pt x="197" y="89"/>
                </a:cubicBezTo>
                <a:cubicBezTo>
                  <a:pt x="186" y="95"/>
                  <a:pt x="161" y="101"/>
                  <a:pt x="161" y="101"/>
                </a:cubicBezTo>
                <a:cubicBezTo>
                  <a:pt x="175" y="58"/>
                  <a:pt x="184" y="72"/>
                  <a:pt x="155" y="53"/>
                </a:cubicBezTo>
                <a:cubicBezTo>
                  <a:pt x="149" y="55"/>
                  <a:pt x="143" y="56"/>
                  <a:pt x="137" y="59"/>
                </a:cubicBezTo>
                <a:cubicBezTo>
                  <a:pt x="131" y="62"/>
                  <a:pt x="126" y="72"/>
                  <a:pt x="119" y="71"/>
                </a:cubicBezTo>
                <a:cubicBezTo>
                  <a:pt x="112" y="70"/>
                  <a:pt x="112" y="58"/>
                  <a:pt x="107" y="53"/>
                </a:cubicBezTo>
                <a:cubicBezTo>
                  <a:pt x="102" y="48"/>
                  <a:pt x="95" y="45"/>
                  <a:pt x="89" y="41"/>
                </a:cubicBezTo>
                <a:cubicBezTo>
                  <a:pt x="65" y="57"/>
                  <a:pt x="37" y="70"/>
                  <a:pt x="11" y="83"/>
                </a:cubicBezTo>
                <a:cubicBezTo>
                  <a:pt x="22" y="50"/>
                  <a:pt x="73" y="22"/>
                  <a:pt x="107" y="11"/>
                </a:cubicBezTo>
                <a:cubicBezTo>
                  <a:pt x="75" y="0"/>
                  <a:pt x="35" y="32"/>
                  <a:pt x="5" y="47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3772080" y="4356000"/>
            <a:ext cx="421920" cy="34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2" name=""/>
          <p:cNvGrpSpPr/>
          <p:nvPr/>
        </p:nvGrpSpPr>
        <p:grpSpPr>
          <a:xfrm>
            <a:off x="3625920" y="4299120"/>
            <a:ext cx="806400" cy="441000"/>
            <a:chOff x="3625920" y="4299120"/>
            <a:chExt cx="806400" cy="441000"/>
          </a:xfrm>
        </p:grpSpPr>
        <p:sp>
          <p:nvSpPr>
            <p:cNvPr id="3183" name=""/>
            <p:cNvSpPr/>
            <p:nvPr/>
          </p:nvSpPr>
          <p:spPr>
            <a:xfrm>
              <a:off x="3730680" y="4346640"/>
              <a:ext cx="55548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664080" y="4394160"/>
              <a:ext cx="447480" cy="34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25920" y="4299120"/>
              <a:ext cx="806400" cy="411120"/>
            </a:xfrm>
            <a:custGeom>
              <a:avLst/>
              <a:gdLst/>
              <a:ahLst/>
              <a:rect l="l" t="t" r="r" b="b"/>
              <a:pathLst>
                <a:path w="542" h="279">
                  <a:moveTo>
                    <a:pt x="306" y="276"/>
                  </a:moveTo>
                  <a:cubicBezTo>
                    <a:pt x="294" y="275"/>
                    <a:pt x="282" y="275"/>
                    <a:pt x="270" y="272"/>
                  </a:cubicBezTo>
                  <a:cubicBezTo>
                    <a:pt x="264" y="270"/>
                    <a:pt x="252" y="266"/>
                    <a:pt x="252" y="266"/>
                  </a:cubicBezTo>
                  <a:cubicBezTo>
                    <a:pt x="261" y="263"/>
                    <a:pt x="268" y="261"/>
                    <a:pt x="276" y="256"/>
                  </a:cubicBezTo>
                  <a:cubicBezTo>
                    <a:pt x="269" y="276"/>
                    <a:pt x="241" y="274"/>
                    <a:pt x="224" y="276"/>
                  </a:cubicBezTo>
                  <a:cubicBezTo>
                    <a:pt x="172" y="274"/>
                    <a:pt x="145" y="271"/>
                    <a:pt x="100" y="260"/>
                  </a:cubicBezTo>
                  <a:cubicBezTo>
                    <a:pt x="60" y="264"/>
                    <a:pt x="75" y="259"/>
                    <a:pt x="84" y="264"/>
                  </a:cubicBezTo>
                  <a:cubicBezTo>
                    <a:pt x="111" y="279"/>
                    <a:pt x="126" y="277"/>
                    <a:pt x="70" y="274"/>
                  </a:cubicBezTo>
                  <a:cubicBezTo>
                    <a:pt x="60" y="271"/>
                    <a:pt x="50" y="267"/>
                    <a:pt x="40" y="264"/>
                  </a:cubicBezTo>
                  <a:cubicBezTo>
                    <a:pt x="36" y="263"/>
                    <a:pt x="28" y="260"/>
                    <a:pt x="28" y="260"/>
                  </a:cubicBezTo>
                  <a:cubicBezTo>
                    <a:pt x="0" y="263"/>
                    <a:pt x="5" y="264"/>
                    <a:pt x="10" y="244"/>
                  </a:cubicBezTo>
                  <a:cubicBezTo>
                    <a:pt x="13" y="198"/>
                    <a:pt x="20" y="200"/>
                    <a:pt x="32" y="164"/>
                  </a:cubicBezTo>
                  <a:cubicBezTo>
                    <a:pt x="34" y="189"/>
                    <a:pt x="36" y="211"/>
                    <a:pt x="34" y="236"/>
                  </a:cubicBezTo>
                  <a:cubicBezTo>
                    <a:pt x="24" y="234"/>
                    <a:pt x="23" y="231"/>
                    <a:pt x="20" y="222"/>
                  </a:cubicBezTo>
                  <a:cubicBezTo>
                    <a:pt x="21" y="228"/>
                    <a:pt x="19" y="235"/>
                    <a:pt x="22" y="240"/>
                  </a:cubicBezTo>
                  <a:cubicBezTo>
                    <a:pt x="23" y="241"/>
                    <a:pt x="52" y="250"/>
                    <a:pt x="58" y="254"/>
                  </a:cubicBezTo>
                  <a:cubicBezTo>
                    <a:pt x="56" y="244"/>
                    <a:pt x="54" y="235"/>
                    <a:pt x="48" y="226"/>
                  </a:cubicBezTo>
                  <a:cubicBezTo>
                    <a:pt x="49" y="218"/>
                    <a:pt x="48" y="210"/>
                    <a:pt x="50" y="202"/>
                  </a:cubicBezTo>
                  <a:cubicBezTo>
                    <a:pt x="51" y="198"/>
                    <a:pt x="58" y="198"/>
                    <a:pt x="60" y="194"/>
                  </a:cubicBezTo>
                  <a:cubicBezTo>
                    <a:pt x="72" y="166"/>
                    <a:pt x="75" y="132"/>
                    <a:pt x="92" y="106"/>
                  </a:cubicBezTo>
                  <a:cubicBezTo>
                    <a:pt x="100" y="73"/>
                    <a:pt x="109" y="68"/>
                    <a:pt x="140" y="58"/>
                  </a:cubicBezTo>
                  <a:cubicBezTo>
                    <a:pt x="147" y="51"/>
                    <a:pt x="156" y="50"/>
                    <a:pt x="164" y="44"/>
                  </a:cubicBezTo>
                  <a:cubicBezTo>
                    <a:pt x="196" y="17"/>
                    <a:pt x="245" y="8"/>
                    <a:pt x="286" y="0"/>
                  </a:cubicBezTo>
                  <a:cubicBezTo>
                    <a:pt x="309" y="1"/>
                    <a:pt x="333" y="1"/>
                    <a:pt x="356" y="2"/>
                  </a:cubicBezTo>
                  <a:cubicBezTo>
                    <a:pt x="375" y="3"/>
                    <a:pt x="393" y="14"/>
                    <a:pt x="412" y="16"/>
                  </a:cubicBezTo>
                  <a:cubicBezTo>
                    <a:pt x="426" y="21"/>
                    <a:pt x="441" y="21"/>
                    <a:pt x="456" y="26"/>
                  </a:cubicBezTo>
                  <a:cubicBezTo>
                    <a:pt x="461" y="28"/>
                    <a:pt x="463" y="32"/>
                    <a:pt x="468" y="34"/>
                  </a:cubicBezTo>
                  <a:cubicBezTo>
                    <a:pt x="493" y="42"/>
                    <a:pt x="520" y="59"/>
                    <a:pt x="542" y="74"/>
                  </a:cubicBezTo>
                  <a:cubicBezTo>
                    <a:pt x="530" y="82"/>
                    <a:pt x="507" y="69"/>
                    <a:pt x="496" y="62"/>
                  </a:cubicBezTo>
                  <a:cubicBezTo>
                    <a:pt x="492" y="59"/>
                    <a:pt x="484" y="54"/>
                    <a:pt x="484" y="54"/>
                  </a:cubicBezTo>
                  <a:cubicBezTo>
                    <a:pt x="477" y="44"/>
                    <a:pt x="470" y="38"/>
                    <a:pt x="458" y="34"/>
                  </a:cubicBezTo>
                  <a:cubicBezTo>
                    <a:pt x="454" y="33"/>
                    <a:pt x="446" y="30"/>
                    <a:pt x="446" y="30"/>
                  </a:cubicBezTo>
                  <a:cubicBezTo>
                    <a:pt x="396" y="33"/>
                    <a:pt x="354" y="20"/>
                    <a:pt x="306" y="10"/>
                  </a:cubicBezTo>
                  <a:cubicBezTo>
                    <a:pt x="276" y="14"/>
                    <a:pt x="258" y="32"/>
                    <a:pt x="226" y="32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3805560" y="4753440"/>
            <a:ext cx="830160" cy="487440"/>
            <a:chOff x="3805560" y="4753440"/>
            <a:chExt cx="830160" cy="487440"/>
          </a:xfrm>
        </p:grpSpPr>
        <p:sp>
          <p:nvSpPr>
            <p:cNvPr id="3187" name=""/>
            <p:cNvSpPr/>
            <p:nvPr/>
          </p:nvSpPr>
          <p:spPr>
            <a:xfrm rot="10587600">
              <a:off x="3962520" y="4824720"/>
              <a:ext cx="55548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 rot="10587600">
              <a:off x="4133880" y="4766760"/>
              <a:ext cx="447480" cy="34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 rot="10587600">
              <a:off x="3817080" y="4805280"/>
              <a:ext cx="806400" cy="411120"/>
            </a:xfrm>
            <a:custGeom>
              <a:avLst/>
              <a:gdLst/>
              <a:ahLst/>
              <a:rect l="l" t="t" r="r" b="b"/>
              <a:pathLst>
                <a:path w="542" h="279">
                  <a:moveTo>
                    <a:pt x="306" y="276"/>
                  </a:moveTo>
                  <a:cubicBezTo>
                    <a:pt x="294" y="275"/>
                    <a:pt x="282" y="275"/>
                    <a:pt x="270" y="272"/>
                  </a:cubicBezTo>
                  <a:cubicBezTo>
                    <a:pt x="264" y="270"/>
                    <a:pt x="252" y="266"/>
                    <a:pt x="252" y="266"/>
                  </a:cubicBezTo>
                  <a:cubicBezTo>
                    <a:pt x="261" y="263"/>
                    <a:pt x="268" y="261"/>
                    <a:pt x="276" y="256"/>
                  </a:cubicBezTo>
                  <a:cubicBezTo>
                    <a:pt x="269" y="276"/>
                    <a:pt x="241" y="274"/>
                    <a:pt x="224" y="276"/>
                  </a:cubicBezTo>
                  <a:cubicBezTo>
                    <a:pt x="172" y="274"/>
                    <a:pt x="145" y="271"/>
                    <a:pt x="100" y="260"/>
                  </a:cubicBezTo>
                  <a:cubicBezTo>
                    <a:pt x="60" y="264"/>
                    <a:pt x="75" y="259"/>
                    <a:pt x="84" y="264"/>
                  </a:cubicBezTo>
                  <a:cubicBezTo>
                    <a:pt x="111" y="279"/>
                    <a:pt x="126" y="277"/>
                    <a:pt x="70" y="274"/>
                  </a:cubicBezTo>
                  <a:cubicBezTo>
                    <a:pt x="60" y="271"/>
                    <a:pt x="50" y="267"/>
                    <a:pt x="40" y="264"/>
                  </a:cubicBezTo>
                  <a:cubicBezTo>
                    <a:pt x="36" y="263"/>
                    <a:pt x="28" y="260"/>
                    <a:pt x="28" y="260"/>
                  </a:cubicBezTo>
                  <a:cubicBezTo>
                    <a:pt x="0" y="263"/>
                    <a:pt x="5" y="264"/>
                    <a:pt x="10" y="244"/>
                  </a:cubicBezTo>
                  <a:cubicBezTo>
                    <a:pt x="13" y="198"/>
                    <a:pt x="20" y="200"/>
                    <a:pt x="32" y="164"/>
                  </a:cubicBezTo>
                  <a:cubicBezTo>
                    <a:pt x="34" y="189"/>
                    <a:pt x="36" y="211"/>
                    <a:pt x="34" y="236"/>
                  </a:cubicBezTo>
                  <a:cubicBezTo>
                    <a:pt x="24" y="234"/>
                    <a:pt x="23" y="231"/>
                    <a:pt x="20" y="222"/>
                  </a:cubicBezTo>
                  <a:cubicBezTo>
                    <a:pt x="21" y="228"/>
                    <a:pt x="19" y="235"/>
                    <a:pt x="22" y="240"/>
                  </a:cubicBezTo>
                  <a:cubicBezTo>
                    <a:pt x="23" y="241"/>
                    <a:pt x="52" y="250"/>
                    <a:pt x="58" y="254"/>
                  </a:cubicBezTo>
                  <a:cubicBezTo>
                    <a:pt x="56" y="244"/>
                    <a:pt x="54" y="235"/>
                    <a:pt x="48" y="226"/>
                  </a:cubicBezTo>
                  <a:cubicBezTo>
                    <a:pt x="49" y="218"/>
                    <a:pt x="48" y="210"/>
                    <a:pt x="50" y="202"/>
                  </a:cubicBezTo>
                  <a:cubicBezTo>
                    <a:pt x="51" y="198"/>
                    <a:pt x="58" y="198"/>
                    <a:pt x="60" y="194"/>
                  </a:cubicBezTo>
                  <a:cubicBezTo>
                    <a:pt x="72" y="166"/>
                    <a:pt x="75" y="132"/>
                    <a:pt x="92" y="106"/>
                  </a:cubicBezTo>
                  <a:cubicBezTo>
                    <a:pt x="100" y="73"/>
                    <a:pt x="109" y="68"/>
                    <a:pt x="140" y="58"/>
                  </a:cubicBezTo>
                  <a:cubicBezTo>
                    <a:pt x="147" y="51"/>
                    <a:pt x="156" y="50"/>
                    <a:pt x="164" y="44"/>
                  </a:cubicBezTo>
                  <a:cubicBezTo>
                    <a:pt x="196" y="17"/>
                    <a:pt x="245" y="8"/>
                    <a:pt x="286" y="0"/>
                  </a:cubicBezTo>
                  <a:cubicBezTo>
                    <a:pt x="309" y="1"/>
                    <a:pt x="333" y="1"/>
                    <a:pt x="356" y="2"/>
                  </a:cubicBezTo>
                  <a:cubicBezTo>
                    <a:pt x="375" y="3"/>
                    <a:pt x="393" y="14"/>
                    <a:pt x="412" y="16"/>
                  </a:cubicBezTo>
                  <a:cubicBezTo>
                    <a:pt x="426" y="21"/>
                    <a:pt x="441" y="21"/>
                    <a:pt x="456" y="26"/>
                  </a:cubicBezTo>
                  <a:cubicBezTo>
                    <a:pt x="461" y="28"/>
                    <a:pt x="463" y="32"/>
                    <a:pt x="468" y="34"/>
                  </a:cubicBezTo>
                  <a:cubicBezTo>
                    <a:pt x="493" y="42"/>
                    <a:pt x="520" y="59"/>
                    <a:pt x="542" y="74"/>
                  </a:cubicBezTo>
                  <a:cubicBezTo>
                    <a:pt x="530" y="82"/>
                    <a:pt x="507" y="69"/>
                    <a:pt x="496" y="62"/>
                  </a:cubicBezTo>
                  <a:cubicBezTo>
                    <a:pt x="492" y="59"/>
                    <a:pt x="484" y="54"/>
                    <a:pt x="484" y="54"/>
                  </a:cubicBezTo>
                  <a:cubicBezTo>
                    <a:pt x="477" y="44"/>
                    <a:pt x="470" y="38"/>
                    <a:pt x="458" y="34"/>
                  </a:cubicBezTo>
                  <a:cubicBezTo>
                    <a:pt x="454" y="33"/>
                    <a:pt x="446" y="30"/>
                    <a:pt x="446" y="30"/>
                  </a:cubicBezTo>
                  <a:cubicBezTo>
                    <a:pt x="396" y="33"/>
                    <a:pt x="354" y="20"/>
                    <a:pt x="306" y="10"/>
                  </a:cubicBezTo>
                  <a:cubicBezTo>
                    <a:pt x="276" y="14"/>
                    <a:pt x="258" y="32"/>
                    <a:pt x="226" y="32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0" name=""/>
          <p:cNvGrpSpPr/>
          <p:nvPr/>
        </p:nvGrpSpPr>
        <p:grpSpPr>
          <a:xfrm>
            <a:off x="4911840" y="3156120"/>
            <a:ext cx="806400" cy="441000"/>
            <a:chOff x="4911840" y="3156120"/>
            <a:chExt cx="806400" cy="441000"/>
          </a:xfrm>
        </p:grpSpPr>
        <p:sp>
          <p:nvSpPr>
            <p:cNvPr id="3191" name=""/>
            <p:cNvSpPr/>
            <p:nvPr/>
          </p:nvSpPr>
          <p:spPr>
            <a:xfrm>
              <a:off x="5016600" y="3203640"/>
              <a:ext cx="55548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950000" y="3251160"/>
              <a:ext cx="447480" cy="34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911840" y="3156120"/>
              <a:ext cx="806400" cy="411120"/>
            </a:xfrm>
            <a:custGeom>
              <a:avLst/>
              <a:gdLst/>
              <a:ahLst/>
              <a:rect l="l" t="t" r="r" b="b"/>
              <a:pathLst>
                <a:path w="542" h="279">
                  <a:moveTo>
                    <a:pt x="306" y="276"/>
                  </a:moveTo>
                  <a:cubicBezTo>
                    <a:pt x="294" y="275"/>
                    <a:pt x="282" y="275"/>
                    <a:pt x="270" y="272"/>
                  </a:cubicBezTo>
                  <a:cubicBezTo>
                    <a:pt x="264" y="270"/>
                    <a:pt x="252" y="266"/>
                    <a:pt x="252" y="266"/>
                  </a:cubicBezTo>
                  <a:cubicBezTo>
                    <a:pt x="261" y="263"/>
                    <a:pt x="268" y="261"/>
                    <a:pt x="276" y="256"/>
                  </a:cubicBezTo>
                  <a:cubicBezTo>
                    <a:pt x="269" y="276"/>
                    <a:pt x="241" y="274"/>
                    <a:pt x="224" y="276"/>
                  </a:cubicBezTo>
                  <a:cubicBezTo>
                    <a:pt x="172" y="274"/>
                    <a:pt x="145" y="271"/>
                    <a:pt x="100" y="260"/>
                  </a:cubicBezTo>
                  <a:cubicBezTo>
                    <a:pt x="60" y="264"/>
                    <a:pt x="75" y="259"/>
                    <a:pt x="84" y="264"/>
                  </a:cubicBezTo>
                  <a:cubicBezTo>
                    <a:pt x="111" y="279"/>
                    <a:pt x="126" y="277"/>
                    <a:pt x="70" y="274"/>
                  </a:cubicBezTo>
                  <a:cubicBezTo>
                    <a:pt x="60" y="271"/>
                    <a:pt x="50" y="267"/>
                    <a:pt x="40" y="264"/>
                  </a:cubicBezTo>
                  <a:cubicBezTo>
                    <a:pt x="36" y="263"/>
                    <a:pt x="28" y="260"/>
                    <a:pt x="28" y="260"/>
                  </a:cubicBezTo>
                  <a:cubicBezTo>
                    <a:pt x="0" y="263"/>
                    <a:pt x="5" y="264"/>
                    <a:pt x="10" y="244"/>
                  </a:cubicBezTo>
                  <a:cubicBezTo>
                    <a:pt x="13" y="198"/>
                    <a:pt x="20" y="200"/>
                    <a:pt x="32" y="164"/>
                  </a:cubicBezTo>
                  <a:cubicBezTo>
                    <a:pt x="34" y="189"/>
                    <a:pt x="36" y="211"/>
                    <a:pt x="34" y="236"/>
                  </a:cubicBezTo>
                  <a:cubicBezTo>
                    <a:pt x="24" y="234"/>
                    <a:pt x="23" y="231"/>
                    <a:pt x="20" y="222"/>
                  </a:cubicBezTo>
                  <a:cubicBezTo>
                    <a:pt x="21" y="228"/>
                    <a:pt x="19" y="235"/>
                    <a:pt x="22" y="240"/>
                  </a:cubicBezTo>
                  <a:cubicBezTo>
                    <a:pt x="23" y="241"/>
                    <a:pt x="52" y="250"/>
                    <a:pt x="58" y="254"/>
                  </a:cubicBezTo>
                  <a:cubicBezTo>
                    <a:pt x="56" y="244"/>
                    <a:pt x="54" y="235"/>
                    <a:pt x="48" y="226"/>
                  </a:cubicBezTo>
                  <a:cubicBezTo>
                    <a:pt x="49" y="218"/>
                    <a:pt x="48" y="210"/>
                    <a:pt x="50" y="202"/>
                  </a:cubicBezTo>
                  <a:cubicBezTo>
                    <a:pt x="51" y="198"/>
                    <a:pt x="58" y="198"/>
                    <a:pt x="60" y="194"/>
                  </a:cubicBezTo>
                  <a:cubicBezTo>
                    <a:pt x="72" y="166"/>
                    <a:pt x="75" y="132"/>
                    <a:pt x="92" y="106"/>
                  </a:cubicBezTo>
                  <a:cubicBezTo>
                    <a:pt x="100" y="73"/>
                    <a:pt x="109" y="68"/>
                    <a:pt x="140" y="58"/>
                  </a:cubicBezTo>
                  <a:cubicBezTo>
                    <a:pt x="147" y="51"/>
                    <a:pt x="156" y="50"/>
                    <a:pt x="164" y="44"/>
                  </a:cubicBezTo>
                  <a:cubicBezTo>
                    <a:pt x="196" y="17"/>
                    <a:pt x="245" y="8"/>
                    <a:pt x="286" y="0"/>
                  </a:cubicBezTo>
                  <a:cubicBezTo>
                    <a:pt x="309" y="1"/>
                    <a:pt x="333" y="1"/>
                    <a:pt x="356" y="2"/>
                  </a:cubicBezTo>
                  <a:cubicBezTo>
                    <a:pt x="375" y="3"/>
                    <a:pt x="393" y="14"/>
                    <a:pt x="412" y="16"/>
                  </a:cubicBezTo>
                  <a:cubicBezTo>
                    <a:pt x="426" y="21"/>
                    <a:pt x="441" y="21"/>
                    <a:pt x="456" y="26"/>
                  </a:cubicBezTo>
                  <a:cubicBezTo>
                    <a:pt x="461" y="28"/>
                    <a:pt x="463" y="32"/>
                    <a:pt x="468" y="34"/>
                  </a:cubicBezTo>
                  <a:cubicBezTo>
                    <a:pt x="493" y="42"/>
                    <a:pt x="520" y="59"/>
                    <a:pt x="542" y="74"/>
                  </a:cubicBezTo>
                  <a:cubicBezTo>
                    <a:pt x="530" y="82"/>
                    <a:pt x="507" y="69"/>
                    <a:pt x="496" y="62"/>
                  </a:cubicBezTo>
                  <a:cubicBezTo>
                    <a:pt x="492" y="59"/>
                    <a:pt x="484" y="54"/>
                    <a:pt x="484" y="54"/>
                  </a:cubicBezTo>
                  <a:cubicBezTo>
                    <a:pt x="477" y="44"/>
                    <a:pt x="470" y="38"/>
                    <a:pt x="458" y="34"/>
                  </a:cubicBezTo>
                  <a:cubicBezTo>
                    <a:pt x="454" y="33"/>
                    <a:pt x="446" y="30"/>
                    <a:pt x="446" y="30"/>
                  </a:cubicBezTo>
                  <a:cubicBezTo>
                    <a:pt x="396" y="33"/>
                    <a:pt x="354" y="20"/>
                    <a:pt x="306" y="10"/>
                  </a:cubicBezTo>
                  <a:cubicBezTo>
                    <a:pt x="276" y="14"/>
                    <a:pt x="258" y="32"/>
                    <a:pt x="226" y="32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4" name=""/>
          <p:cNvGrpSpPr/>
          <p:nvPr/>
        </p:nvGrpSpPr>
        <p:grpSpPr>
          <a:xfrm>
            <a:off x="5072400" y="3610440"/>
            <a:ext cx="830160" cy="487440"/>
            <a:chOff x="5072400" y="3610440"/>
            <a:chExt cx="830160" cy="487440"/>
          </a:xfrm>
        </p:grpSpPr>
        <p:sp>
          <p:nvSpPr>
            <p:cNvPr id="3195" name=""/>
            <p:cNvSpPr/>
            <p:nvPr/>
          </p:nvSpPr>
          <p:spPr>
            <a:xfrm rot="10587600">
              <a:off x="5229360" y="3681720"/>
              <a:ext cx="55548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rot="10587600">
              <a:off x="5400720" y="3623760"/>
              <a:ext cx="447480" cy="34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rot="10587600">
              <a:off x="5083920" y="3662280"/>
              <a:ext cx="806400" cy="411120"/>
            </a:xfrm>
            <a:custGeom>
              <a:avLst/>
              <a:gdLst/>
              <a:ahLst/>
              <a:rect l="l" t="t" r="r" b="b"/>
              <a:pathLst>
                <a:path w="542" h="279">
                  <a:moveTo>
                    <a:pt x="306" y="276"/>
                  </a:moveTo>
                  <a:cubicBezTo>
                    <a:pt x="294" y="275"/>
                    <a:pt x="282" y="275"/>
                    <a:pt x="270" y="272"/>
                  </a:cubicBezTo>
                  <a:cubicBezTo>
                    <a:pt x="264" y="270"/>
                    <a:pt x="252" y="266"/>
                    <a:pt x="252" y="266"/>
                  </a:cubicBezTo>
                  <a:cubicBezTo>
                    <a:pt x="261" y="263"/>
                    <a:pt x="268" y="261"/>
                    <a:pt x="276" y="256"/>
                  </a:cubicBezTo>
                  <a:cubicBezTo>
                    <a:pt x="269" y="276"/>
                    <a:pt x="241" y="274"/>
                    <a:pt x="224" y="276"/>
                  </a:cubicBezTo>
                  <a:cubicBezTo>
                    <a:pt x="172" y="274"/>
                    <a:pt x="145" y="271"/>
                    <a:pt x="100" y="260"/>
                  </a:cubicBezTo>
                  <a:cubicBezTo>
                    <a:pt x="60" y="264"/>
                    <a:pt x="75" y="259"/>
                    <a:pt x="84" y="264"/>
                  </a:cubicBezTo>
                  <a:cubicBezTo>
                    <a:pt x="111" y="279"/>
                    <a:pt x="126" y="277"/>
                    <a:pt x="70" y="274"/>
                  </a:cubicBezTo>
                  <a:cubicBezTo>
                    <a:pt x="60" y="271"/>
                    <a:pt x="50" y="267"/>
                    <a:pt x="40" y="264"/>
                  </a:cubicBezTo>
                  <a:cubicBezTo>
                    <a:pt x="36" y="263"/>
                    <a:pt x="28" y="260"/>
                    <a:pt x="28" y="260"/>
                  </a:cubicBezTo>
                  <a:cubicBezTo>
                    <a:pt x="0" y="263"/>
                    <a:pt x="5" y="264"/>
                    <a:pt x="10" y="244"/>
                  </a:cubicBezTo>
                  <a:cubicBezTo>
                    <a:pt x="13" y="198"/>
                    <a:pt x="20" y="200"/>
                    <a:pt x="32" y="164"/>
                  </a:cubicBezTo>
                  <a:cubicBezTo>
                    <a:pt x="34" y="189"/>
                    <a:pt x="36" y="211"/>
                    <a:pt x="34" y="236"/>
                  </a:cubicBezTo>
                  <a:cubicBezTo>
                    <a:pt x="24" y="234"/>
                    <a:pt x="23" y="231"/>
                    <a:pt x="20" y="222"/>
                  </a:cubicBezTo>
                  <a:cubicBezTo>
                    <a:pt x="21" y="228"/>
                    <a:pt x="19" y="235"/>
                    <a:pt x="22" y="240"/>
                  </a:cubicBezTo>
                  <a:cubicBezTo>
                    <a:pt x="23" y="241"/>
                    <a:pt x="52" y="250"/>
                    <a:pt x="58" y="254"/>
                  </a:cubicBezTo>
                  <a:cubicBezTo>
                    <a:pt x="56" y="244"/>
                    <a:pt x="54" y="235"/>
                    <a:pt x="48" y="226"/>
                  </a:cubicBezTo>
                  <a:cubicBezTo>
                    <a:pt x="49" y="218"/>
                    <a:pt x="48" y="210"/>
                    <a:pt x="50" y="202"/>
                  </a:cubicBezTo>
                  <a:cubicBezTo>
                    <a:pt x="51" y="198"/>
                    <a:pt x="58" y="198"/>
                    <a:pt x="60" y="194"/>
                  </a:cubicBezTo>
                  <a:cubicBezTo>
                    <a:pt x="72" y="166"/>
                    <a:pt x="75" y="132"/>
                    <a:pt x="92" y="106"/>
                  </a:cubicBezTo>
                  <a:cubicBezTo>
                    <a:pt x="100" y="73"/>
                    <a:pt x="109" y="68"/>
                    <a:pt x="140" y="58"/>
                  </a:cubicBezTo>
                  <a:cubicBezTo>
                    <a:pt x="147" y="51"/>
                    <a:pt x="156" y="50"/>
                    <a:pt x="164" y="44"/>
                  </a:cubicBezTo>
                  <a:cubicBezTo>
                    <a:pt x="196" y="17"/>
                    <a:pt x="245" y="8"/>
                    <a:pt x="286" y="0"/>
                  </a:cubicBezTo>
                  <a:cubicBezTo>
                    <a:pt x="309" y="1"/>
                    <a:pt x="333" y="1"/>
                    <a:pt x="356" y="2"/>
                  </a:cubicBezTo>
                  <a:cubicBezTo>
                    <a:pt x="375" y="3"/>
                    <a:pt x="393" y="14"/>
                    <a:pt x="412" y="16"/>
                  </a:cubicBezTo>
                  <a:cubicBezTo>
                    <a:pt x="426" y="21"/>
                    <a:pt x="441" y="21"/>
                    <a:pt x="456" y="26"/>
                  </a:cubicBezTo>
                  <a:cubicBezTo>
                    <a:pt x="461" y="28"/>
                    <a:pt x="463" y="32"/>
                    <a:pt x="468" y="34"/>
                  </a:cubicBezTo>
                  <a:cubicBezTo>
                    <a:pt x="493" y="42"/>
                    <a:pt x="520" y="59"/>
                    <a:pt x="542" y="74"/>
                  </a:cubicBezTo>
                  <a:cubicBezTo>
                    <a:pt x="530" y="82"/>
                    <a:pt x="507" y="69"/>
                    <a:pt x="496" y="62"/>
                  </a:cubicBezTo>
                  <a:cubicBezTo>
                    <a:pt x="492" y="59"/>
                    <a:pt x="484" y="54"/>
                    <a:pt x="484" y="54"/>
                  </a:cubicBezTo>
                  <a:cubicBezTo>
                    <a:pt x="477" y="44"/>
                    <a:pt x="470" y="38"/>
                    <a:pt x="458" y="34"/>
                  </a:cubicBezTo>
                  <a:cubicBezTo>
                    <a:pt x="454" y="33"/>
                    <a:pt x="446" y="30"/>
                    <a:pt x="446" y="30"/>
                  </a:cubicBezTo>
                  <a:cubicBezTo>
                    <a:pt x="396" y="33"/>
                    <a:pt x="354" y="20"/>
                    <a:pt x="306" y="10"/>
                  </a:cubicBezTo>
                  <a:cubicBezTo>
                    <a:pt x="276" y="14"/>
                    <a:pt x="258" y="32"/>
                    <a:pt x="226" y="32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8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199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1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Quadr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733320" y="1285920"/>
            <a:ext cx="49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adrato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oligono regolare avente quattro lati tutti uguali e paralleli a coppi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1838160" y="2400480"/>
            <a:ext cx="2000520" cy="1838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5153040" y="2419200"/>
            <a:ext cx="204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rea = Lx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metro=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1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multipli e sottomultip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2880" y="1295280"/>
            <a:ext cx="69721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2880" y="1549440"/>
            <a:ext cx="69595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scala di unità di misura, è composta di multipli e sottomultipli di una certa unità di misura di riferimen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 esempio 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è un multiplo de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unità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quella fondamental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contie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certo numer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volte (in questo caso 1000 vol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unità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ttomultip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quella fondamental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i è contenu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certo numer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volte (in questo caso 100 vol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20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8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/proprietà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295200" y="2781360"/>
            <a:ext cx="51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prietà degli angoli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omma degli angoli interni è sempre pari a 180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0" name=""/>
          <p:cNvGrpSpPr/>
          <p:nvPr/>
        </p:nvGrpSpPr>
        <p:grpSpPr>
          <a:xfrm>
            <a:off x="5748480" y="1890720"/>
            <a:ext cx="3133440" cy="2628720"/>
            <a:chOff x="5748480" y="1890720"/>
            <a:chExt cx="3133440" cy="2628720"/>
          </a:xfrm>
        </p:grpSpPr>
        <p:sp>
          <p:nvSpPr>
            <p:cNvPr id="3211" name=""/>
            <p:cNvSpPr/>
            <p:nvPr/>
          </p:nvSpPr>
          <p:spPr>
            <a:xfrm rot="16200000">
              <a:off x="6000840" y="1638360"/>
              <a:ext cx="2628720" cy="31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134040" y="2467080"/>
              <a:ext cx="2228760" cy="1485720"/>
            </a:xfrm>
            <a:custGeom>
              <a:avLst/>
              <a:gdLst/>
              <a:ahLst/>
              <a:rect l="l" t="t" r="r" b="b"/>
              <a:pathLst>
                <a:path w="1068" h="936">
                  <a:moveTo>
                    <a:pt x="0" y="936"/>
                  </a:moveTo>
                  <a:lnTo>
                    <a:pt x="312" y="0"/>
                  </a:lnTo>
                  <a:lnTo>
                    <a:pt x="1068" y="71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353280" y="34005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372360" y="3416400"/>
              <a:ext cx="482400" cy="441360"/>
            </a:xfrm>
            <a:custGeom>
              <a:avLst/>
              <a:gdLst/>
              <a:ahLst/>
              <a:rect l="l" t="t" r="r" b="b"/>
              <a:pathLst>
                <a:path w="304" h="278">
                  <a:moveTo>
                    <a:pt x="0" y="14"/>
                  </a:moveTo>
                  <a:cubicBezTo>
                    <a:pt x="118" y="7"/>
                    <a:pt x="236" y="0"/>
                    <a:pt x="270" y="44"/>
                  </a:cubicBezTo>
                  <a:cubicBezTo>
                    <a:pt x="304" y="88"/>
                    <a:pt x="215" y="238"/>
                    <a:pt x="204" y="27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562880" y="321948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696000" y="25239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591240" y="2752560"/>
              <a:ext cx="552600" cy="393840"/>
            </a:xfrm>
            <a:custGeom>
              <a:avLst/>
              <a:gdLst/>
              <a:ahLst/>
              <a:rect l="l" t="t" r="r" b="b"/>
              <a:pathLst>
                <a:path w="348" h="248">
                  <a:moveTo>
                    <a:pt x="0" y="102"/>
                  </a:moveTo>
                  <a:cubicBezTo>
                    <a:pt x="14" y="100"/>
                    <a:pt x="29" y="99"/>
                    <a:pt x="66" y="120"/>
                  </a:cubicBezTo>
                  <a:cubicBezTo>
                    <a:pt x="103" y="141"/>
                    <a:pt x="175" y="248"/>
                    <a:pt x="222" y="228"/>
                  </a:cubicBezTo>
                  <a:cubicBezTo>
                    <a:pt x="269" y="208"/>
                    <a:pt x="327" y="38"/>
                    <a:pt x="348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358040" y="3133800"/>
              <a:ext cx="328680" cy="581040"/>
            </a:xfrm>
            <a:custGeom>
              <a:avLst/>
              <a:gdLst/>
              <a:ahLst/>
              <a:rect l="l" t="t" r="r" b="b"/>
              <a:pathLst>
                <a:path w="207" h="366">
                  <a:moveTo>
                    <a:pt x="207" y="0"/>
                  </a:moveTo>
                  <a:cubicBezTo>
                    <a:pt x="118" y="68"/>
                    <a:pt x="30" y="137"/>
                    <a:pt x="15" y="198"/>
                  </a:cubicBezTo>
                  <a:cubicBezTo>
                    <a:pt x="0" y="259"/>
                    <a:pt x="100" y="338"/>
                    <a:pt x="117" y="36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915160" y="402912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077320" y="367668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667560" y="203832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2" name=""/>
          <p:cNvSpPr/>
          <p:nvPr/>
        </p:nvSpPr>
        <p:spPr>
          <a:xfrm>
            <a:off x="5791320" y="4772160"/>
            <a:ext cx="177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3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224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6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/proprietà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219240" y="2276640"/>
            <a:ext cx="517176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prietà di uguaglianz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ue triangoli sono congruenti (“uguali”) se sono sovrapponibili. Per esserlo devono avere tre elementi ugual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lati e un angol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 l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angoli e il lato comp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 rot="16200000">
            <a:off x="4748040" y="1947600"/>
            <a:ext cx="522936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 rot="16200000">
            <a:off x="6038640" y="628200"/>
            <a:ext cx="262908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6172200" y="1457280"/>
            <a:ext cx="2228760" cy="1486080"/>
          </a:xfrm>
          <a:custGeom>
            <a:avLst/>
            <a:gdLst/>
            <a:ahLst/>
            <a:rect l="l" t="t" r="r" b="b"/>
            <a:pathLst>
              <a:path w="1068" h="936">
                <a:moveTo>
                  <a:pt x="0" y="936"/>
                </a:moveTo>
                <a:lnTo>
                  <a:pt x="312" y="0"/>
                </a:lnTo>
                <a:lnTo>
                  <a:pt x="1068" y="714"/>
                </a:lnTo>
                <a:lnTo>
                  <a:pt x="0" y="936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6391440" y="239076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6410160" y="2406600"/>
            <a:ext cx="482760" cy="441360"/>
          </a:xfrm>
          <a:custGeom>
            <a:avLst/>
            <a:gdLst/>
            <a:ahLst/>
            <a:rect l="l" t="t" r="r" b="b"/>
            <a:pathLst>
              <a:path w="304" h="278">
                <a:moveTo>
                  <a:pt x="0" y="14"/>
                </a:moveTo>
                <a:cubicBezTo>
                  <a:pt x="118" y="7"/>
                  <a:pt x="236" y="0"/>
                  <a:pt x="270" y="44"/>
                </a:cubicBezTo>
                <a:cubicBezTo>
                  <a:pt x="304" y="88"/>
                  <a:pt x="215" y="238"/>
                  <a:pt x="204" y="2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601040" y="220968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6734160" y="151452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6629400" y="1743120"/>
            <a:ext cx="552600" cy="393480"/>
          </a:xfrm>
          <a:custGeom>
            <a:avLst/>
            <a:gdLst/>
            <a:ahLst/>
            <a:rect l="l" t="t" r="r" b="b"/>
            <a:pathLst>
              <a:path w="348" h="248">
                <a:moveTo>
                  <a:pt x="0" y="102"/>
                </a:moveTo>
                <a:cubicBezTo>
                  <a:pt x="14" y="100"/>
                  <a:pt x="29" y="99"/>
                  <a:pt x="66" y="120"/>
                </a:cubicBezTo>
                <a:cubicBezTo>
                  <a:pt x="103" y="141"/>
                  <a:pt x="175" y="248"/>
                  <a:pt x="222" y="228"/>
                </a:cubicBezTo>
                <a:cubicBezTo>
                  <a:pt x="269" y="208"/>
                  <a:pt x="327" y="38"/>
                  <a:pt x="3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7396200" y="2124000"/>
            <a:ext cx="328680" cy="581040"/>
          </a:xfrm>
          <a:custGeom>
            <a:avLst/>
            <a:gdLst/>
            <a:ahLst/>
            <a:rect l="l" t="t" r="r" b="b"/>
            <a:pathLst>
              <a:path w="207" h="366">
                <a:moveTo>
                  <a:pt x="207" y="0"/>
                </a:moveTo>
                <a:cubicBezTo>
                  <a:pt x="118" y="68"/>
                  <a:pt x="30" y="137"/>
                  <a:pt x="15" y="198"/>
                </a:cubicBezTo>
                <a:cubicBezTo>
                  <a:pt x="0" y="259"/>
                  <a:pt x="100" y="338"/>
                  <a:pt x="117" y="3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952960" y="301932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8115480" y="2666880"/>
            <a:ext cx="5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6705720" y="1028880"/>
            <a:ext cx="5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 rot="16200000">
            <a:off x="6029280" y="3247560"/>
            <a:ext cx="262908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5915160" y="5334120"/>
            <a:ext cx="5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6696000" y="364824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 rot="663000">
            <a:off x="6210360" y="4046400"/>
            <a:ext cx="2228760" cy="1486080"/>
          </a:xfrm>
          <a:custGeom>
            <a:avLst/>
            <a:gdLst/>
            <a:ahLst/>
            <a:rect l="l" t="t" r="r" b="b"/>
            <a:pathLst>
              <a:path w="1068" h="936">
                <a:moveTo>
                  <a:pt x="0" y="936"/>
                </a:moveTo>
                <a:lnTo>
                  <a:pt x="312" y="0"/>
                </a:lnTo>
                <a:lnTo>
                  <a:pt x="1068" y="714"/>
                </a:lnTo>
                <a:lnTo>
                  <a:pt x="0" y="936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 rot="663000">
            <a:off x="6362280" y="48290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 rot="663000">
            <a:off x="6378480" y="4865760"/>
            <a:ext cx="482760" cy="441360"/>
          </a:xfrm>
          <a:custGeom>
            <a:avLst/>
            <a:gdLst/>
            <a:ahLst/>
            <a:rect l="l" t="t" r="r" b="b"/>
            <a:pathLst>
              <a:path w="304" h="278">
                <a:moveTo>
                  <a:pt x="0" y="14"/>
                </a:moveTo>
                <a:cubicBezTo>
                  <a:pt x="118" y="7"/>
                  <a:pt x="236" y="0"/>
                  <a:pt x="270" y="44"/>
                </a:cubicBezTo>
                <a:cubicBezTo>
                  <a:pt x="304" y="88"/>
                  <a:pt x="215" y="238"/>
                  <a:pt x="204" y="2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 rot="663000">
            <a:off x="7583040" y="488952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 rot="663000">
            <a:off x="6865560" y="4030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 rot="663000">
            <a:off x="6724800" y="4263840"/>
            <a:ext cx="552240" cy="393480"/>
          </a:xfrm>
          <a:custGeom>
            <a:avLst/>
            <a:gdLst/>
            <a:ahLst/>
            <a:rect l="l" t="t" r="r" b="b"/>
            <a:pathLst>
              <a:path w="348" h="248">
                <a:moveTo>
                  <a:pt x="0" y="102"/>
                </a:moveTo>
                <a:cubicBezTo>
                  <a:pt x="14" y="100"/>
                  <a:pt x="29" y="99"/>
                  <a:pt x="66" y="120"/>
                </a:cubicBezTo>
                <a:cubicBezTo>
                  <a:pt x="103" y="141"/>
                  <a:pt x="175" y="248"/>
                  <a:pt x="222" y="228"/>
                </a:cubicBezTo>
                <a:cubicBezTo>
                  <a:pt x="269" y="208"/>
                  <a:pt x="327" y="38"/>
                  <a:pt x="3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 rot="663000">
            <a:off x="7387920" y="4761000"/>
            <a:ext cx="328680" cy="581040"/>
          </a:xfrm>
          <a:custGeom>
            <a:avLst/>
            <a:gdLst/>
            <a:ahLst/>
            <a:rect l="l" t="t" r="r" b="b"/>
            <a:pathLst>
              <a:path w="207" h="366">
                <a:moveTo>
                  <a:pt x="207" y="0"/>
                </a:moveTo>
                <a:cubicBezTo>
                  <a:pt x="118" y="68"/>
                  <a:pt x="30" y="137"/>
                  <a:pt x="15" y="198"/>
                </a:cubicBezTo>
                <a:cubicBezTo>
                  <a:pt x="0" y="259"/>
                  <a:pt x="100" y="338"/>
                  <a:pt x="117" y="3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 rot="37200">
            <a:off x="8161200" y="53748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 rot="663000">
            <a:off x="7027560" y="406224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 rot="663000">
            <a:off x="6538680" y="487044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rot="663000">
            <a:off x="7725960" y="490860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25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7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/proprietà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285840" y="1542960"/>
            <a:ext cx="517212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Proprietà di similitudi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Due triangoli sono simili se hanno gli angoli uguali e i lati in proporzione. Cioè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B:A’B’ = AC : A’C’ = BC : B’C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tremmo dire che sono i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cala fra lor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Per dire che due triangoli sono simili è sufficiente mostrare ch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Hanno due angoli ordinatamente ugu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e lati in propor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ue lati in proporzione e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angolo compreso ugu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 rot="16200000">
            <a:off x="4748040" y="1947600"/>
            <a:ext cx="522936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0" name=""/>
          <p:cNvGrpSpPr/>
          <p:nvPr/>
        </p:nvGrpSpPr>
        <p:grpSpPr>
          <a:xfrm>
            <a:off x="5786280" y="880920"/>
            <a:ext cx="3133440" cy="2628720"/>
            <a:chOff x="5786280" y="880920"/>
            <a:chExt cx="3133440" cy="2628720"/>
          </a:xfrm>
        </p:grpSpPr>
        <p:sp>
          <p:nvSpPr>
            <p:cNvPr id="3261" name=""/>
            <p:cNvSpPr/>
            <p:nvPr/>
          </p:nvSpPr>
          <p:spPr>
            <a:xfrm rot="16200000">
              <a:off x="6038640" y="628560"/>
              <a:ext cx="2628720" cy="31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171840" y="1457280"/>
              <a:ext cx="2228760" cy="1485720"/>
            </a:xfrm>
            <a:custGeom>
              <a:avLst/>
              <a:gdLst/>
              <a:ahLst/>
              <a:rect l="l" t="t" r="r" b="b"/>
              <a:pathLst>
                <a:path w="1068" h="936">
                  <a:moveTo>
                    <a:pt x="0" y="936"/>
                  </a:moveTo>
                  <a:lnTo>
                    <a:pt x="312" y="0"/>
                  </a:lnTo>
                  <a:lnTo>
                    <a:pt x="1068" y="71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6391080" y="23907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410160" y="2406600"/>
              <a:ext cx="482400" cy="441360"/>
            </a:xfrm>
            <a:custGeom>
              <a:avLst/>
              <a:gdLst/>
              <a:ahLst/>
              <a:rect l="l" t="t" r="r" b="b"/>
              <a:pathLst>
                <a:path w="304" h="278">
                  <a:moveTo>
                    <a:pt x="0" y="14"/>
                  </a:moveTo>
                  <a:cubicBezTo>
                    <a:pt x="118" y="7"/>
                    <a:pt x="236" y="0"/>
                    <a:pt x="270" y="44"/>
                  </a:cubicBezTo>
                  <a:cubicBezTo>
                    <a:pt x="304" y="88"/>
                    <a:pt x="215" y="238"/>
                    <a:pt x="204" y="27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600680" y="220968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6733800" y="15141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6629040" y="1742760"/>
              <a:ext cx="552600" cy="393840"/>
            </a:xfrm>
            <a:custGeom>
              <a:avLst/>
              <a:gdLst/>
              <a:ahLst/>
              <a:rect l="l" t="t" r="r" b="b"/>
              <a:pathLst>
                <a:path w="348" h="248">
                  <a:moveTo>
                    <a:pt x="0" y="102"/>
                  </a:moveTo>
                  <a:cubicBezTo>
                    <a:pt x="14" y="100"/>
                    <a:pt x="29" y="99"/>
                    <a:pt x="66" y="120"/>
                  </a:cubicBezTo>
                  <a:cubicBezTo>
                    <a:pt x="103" y="141"/>
                    <a:pt x="175" y="248"/>
                    <a:pt x="222" y="228"/>
                  </a:cubicBezTo>
                  <a:cubicBezTo>
                    <a:pt x="269" y="208"/>
                    <a:pt x="327" y="38"/>
                    <a:pt x="348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395840" y="2124000"/>
              <a:ext cx="328680" cy="581040"/>
            </a:xfrm>
            <a:custGeom>
              <a:avLst/>
              <a:gdLst/>
              <a:ahLst/>
              <a:rect l="l" t="t" r="r" b="b"/>
              <a:pathLst>
                <a:path w="207" h="366">
                  <a:moveTo>
                    <a:pt x="207" y="0"/>
                  </a:moveTo>
                  <a:cubicBezTo>
                    <a:pt x="118" y="68"/>
                    <a:pt x="30" y="137"/>
                    <a:pt x="15" y="198"/>
                  </a:cubicBezTo>
                  <a:cubicBezTo>
                    <a:pt x="0" y="259"/>
                    <a:pt x="100" y="338"/>
                    <a:pt x="117" y="36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952960" y="301932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115120" y="266688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705360" y="102852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2" name=""/>
          <p:cNvSpPr/>
          <p:nvPr/>
        </p:nvSpPr>
        <p:spPr>
          <a:xfrm rot="16200000">
            <a:off x="6029280" y="3247560"/>
            <a:ext cx="262908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6696000" y="364824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rot="20805600">
            <a:off x="6397560" y="4979520"/>
            <a:ext cx="5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 rot="21468600">
            <a:off x="6450120" y="4053960"/>
            <a:ext cx="1514520" cy="905040"/>
          </a:xfrm>
          <a:custGeom>
            <a:avLst/>
            <a:gdLst/>
            <a:ahLst/>
            <a:rect l="l" t="t" r="r" b="b"/>
            <a:pathLst>
              <a:path w="1068" h="936">
                <a:moveTo>
                  <a:pt x="0" y="936"/>
                </a:moveTo>
                <a:lnTo>
                  <a:pt x="312" y="0"/>
                </a:lnTo>
                <a:lnTo>
                  <a:pt x="1068" y="714"/>
                </a:lnTo>
                <a:lnTo>
                  <a:pt x="0" y="93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 rot="21468600">
            <a:off x="6572160" y="4527360"/>
            <a:ext cx="2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 rot="21468600">
            <a:off x="6619680" y="4656240"/>
            <a:ext cx="328320" cy="269640"/>
          </a:xfrm>
          <a:custGeom>
            <a:avLst/>
            <a:gdLst/>
            <a:ahLst/>
            <a:rect l="l" t="t" r="r" b="b"/>
            <a:pathLst>
              <a:path w="304" h="278">
                <a:moveTo>
                  <a:pt x="0" y="14"/>
                </a:moveTo>
                <a:cubicBezTo>
                  <a:pt x="118" y="7"/>
                  <a:pt x="236" y="0"/>
                  <a:pt x="270" y="44"/>
                </a:cubicBezTo>
                <a:cubicBezTo>
                  <a:pt x="304" y="88"/>
                  <a:pt x="215" y="238"/>
                  <a:pt x="204" y="2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rot="21468600">
            <a:off x="7424640" y="449280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 rot="21468600">
            <a:off x="6827760" y="40557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 rot="21468600">
            <a:off x="6759720" y="4241520"/>
            <a:ext cx="376200" cy="239760"/>
          </a:xfrm>
          <a:custGeom>
            <a:avLst/>
            <a:gdLst/>
            <a:ahLst/>
            <a:rect l="l" t="t" r="r" b="b"/>
            <a:pathLst>
              <a:path w="348" h="248">
                <a:moveTo>
                  <a:pt x="0" y="102"/>
                </a:moveTo>
                <a:cubicBezTo>
                  <a:pt x="14" y="100"/>
                  <a:pt x="29" y="99"/>
                  <a:pt x="66" y="120"/>
                </a:cubicBezTo>
                <a:cubicBezTo>
                  <a:pt x="103" y="141"/>
                  <a:pt x="175" y="248"/>
                  <a:pt x="222" y="228"/>
                </a:cubicBezTo>
                <a:cubicBezTo>
                  <a:pt x="269" y="208"/>
                  <a:pt x="327" y="38"/>
                  <a:pt x="3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 rot="21468600">
            <a:off x="7283160" y="4447800"/>
            <a:ext cx="223920" cy="353880"/>
          </a:xfrm>
          <a:custGeom>
            <a:avLst/>
            <a:gdLst/>
            <a:ahLst/>
            <a:rect l="l" t="t" r="r" b="b"/>
            <a:pathLst>
              <a:path w="207" h="366">
                <a:moveTo>
                  <a:pt x="207" y="0"/>
                </a:moveTo>
                <a:cubicBezTo>
                  <a:pt x="118" y="68"/>
                  <a:pt x="30" y="137"/>
                  <a:pt x="15" y="198"/>
                </a:cubicBezTo>
                <a:cubicBezTo>
                  <a:pt x="0" y="259"/>
                  <a:pt x="100" y="338"/>
                  <a:pt x="117" y="3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 rot="20842800">
            <a:off x="7887240" y="46497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 rot="21468600">
            <a:off x="6942240" y="408780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rot="21468600">
            <a:off x="6750000" y="450072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 rot="21468600">
            <a:off x="7540560" y="444348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28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9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733320" y="128592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iangol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unqu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gono regolare avente tre la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5153040" y="2419200"/>
            <a:ext cx="38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= (base x altezza):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metro= somma dei tre l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rot="16200000">
            <a:off x="1623960" y="2633040"/>
            <a:ext cx="2771640" cy="35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1771560" y="4371840"/>
            <a:ext cx="809640" cy="933480"/>
          </a:xfrm>
          <a:custGeom>
            <a:avLst/>
            <a:gdLst/>
            <a:ahLst/>
            <a:rect l="l" t="t" r="r" b="b"/>
            <a:pathLst>
              <a:path w="510" h="588">
                <a:moveTo>
                  <a:pt x="0" y="588"/>
                </a:moveTo>
                <a:lnTo>
                  <a:pt x="510" y="402"/>
                </a:lnTo>
                <a:lnTo>
                  <a:pt x="186" y="0"/>
                </a:lnTo>
                <a:lnTo>
                  <a:pt x="0" y="5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 rot="15806400">
            <a:off x="3171600" y="3200040"/>
            <a:ext cx="295200" cy="1438200"/>
          </a:xfrm>
          <a:custGeom>
            <a:avLst/>
            <a:gdLst/>
            <a:ahLst/>
            <a:rect l="l" t="t" r="r" b="b"/>
            <a:pathLst>
              <a:path w="510" h="588">
                <a:moveTo>
                  <a:pt x="0" y="588"/>
                </a:moveTo>
                <a:lnTo>
                  <a:pt x="510" y="402"/>
                </a:lnTo>
                <a:lnTo>
                  <a:pt x="186" y="0"/>
                </a:lnTo>
                <a:lnTo>
                  <a:pt x="0" y="5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3343320" y="4705200"/>
            <a:ext cx="628560" cy="59076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 rot="16200000">
            <a:off x="5819760" y="3429000"/>
            <a:ext cx="1952640" cy="240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6458040" y="4181400"/>
            <a:ext cx="0" cy="952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4829040" y="37432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z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5676840" y="4181400"/>
            <a:ext cx="70488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 flipV="1">
            <a:off x="6572160" y="5181120"/>
            <a:ext cx="171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5934240" y="5962680"/>
            <a:ext cx="14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H="1">
            <a:off x="6105240" y="4172040"/>
            <a:ext cx="3524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6105600" y="5143680"/>
            <a:ext cx="139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6458040" y="4162320"/>
            <a:ext cx="1038240" cy="9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30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8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 rettangol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733320" y="1285920"/>
            <a:ext cx="68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iangoli rettangoli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triangolo contenente un angolo retto (90°). Il lato opposto a quello retto si chiam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potenusa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altri lati sono i cate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33320" y="2685960"/>
            <a:ext cx="3152880" cy="2082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orema di Pitagor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un triangolo rettangolo la somma dei quadrati costruiti sui cateti è pari al quadrato costruito sull’ipotenu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 rot="16200000">
            <a:off x="4605120" y="2290680"/>
            <a:ext cx="361944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5972040" y="4000680"/>
            <a:ext cx="1114560" cy="6379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5981760" y="4657680"/>
            <a:ext cx="108576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305320" y="4000680"/>
            <a:ext cx="647640" cy="63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 rot="1789800">
            <a:off x="6222600" y="3095640"/>
            <a:ext cx="1282680" cy="12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6667560" y="350532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6267600" y="488628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5343480" y="4076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324080" y="4276800"/>
            <a:ext cx="1609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23960" y="5019840"/>
            <a:ext cx="30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1" name=""/>
              <p:cNvSpPr txBox="1"/>
              <p:nvPr/>
            </p:nvSpPr>
            <p:spPr>
              <a:xfrm>
                <a:off x="2286000" y="5010120"/>
                <a:ext cx="14191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2" name=""/>
          <p:cNvSpPr/>
          <p:nvPr/>
        </p:nvSpPr>
        <p:spPr>
          <a:xfrm>
            <a:off x="447840" y="5029200"/>
            <a:ext cx="17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e deriv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2143080" y="4962600"/>
            <a:ext cx="1457280" cy="4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2324160" y="5896080"/>
            <a:ext cx="1457280" cy="4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32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8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figure piane e solid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23960" y="5019840"/>
            <a:ext cx="30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0" name=""/>
          <p:cNvGraphicFramePr/>
          <p:nvPr/>
        </p:nvGraphicFramePr>
        <p:xfrm>
          <a:off x="1609560" y="1943280"/>
          <a:ext cx="351504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943280"/>
                    <a:ext cx="35150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2" name=""/>
          <p:cNvGraphicFramePr/>
          <p:nvPr/>
        </p:nvGraphicFramePr>
        <p:xfrm>
          <a:off x="237960" y="1390680"/>
          <a:ext cx="8648640" cy="1623960"/>
        </p:xfrm>
        <a:graphic>
          <a:graphicData uri="http://schemas.openxmlformats.org/drawingml/2006/table">
            <a:tbl>
              <a:tblPr/>
              <a:tblGrid>
                <a:gridCol w="2882880"/>
                <a:gridCol w="2882880"/>
                <a:gridCol w="288288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Figur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lcolo perimetr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lcolo dell’are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ttango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latoA+lato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A 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 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rapez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ma dei la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BaseM + basem)x(h/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cerch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ragg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20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3" name=""/>
          <p:cNvGraphicFramePr/>
          <p:nvPr/>
        </p:nvGraphicFramePr>
        <p:xfrm>
          <a:off x="237960" y="3495600"/>
          <a:ext cx="8649000" cy="2700000"/>
        </p:xfrm>
        <a:graphic>
          <a:graphicData uri="http://schemas.openxmlformats.org/drawingml/2006/table">
            <a:tbl>
              <a:tblPr/>
              <a:tblGrid>
                <a:gridCol w="2883240"/>
                <a:gridCol w="2882880"/>
                <a:gridCol w="288288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olid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lcolo superfic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lcolo volum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ub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o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latoA)</a:t>
                      </a:r>
                      <a:r>
                        <a:rPr b="0" lang="it-IT" sz="2000" spc="-1" strike="noStrike" baseline="30000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rallelepipe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latoA+latoB+lato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A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B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cilind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raggio) ·h + 2 ·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20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f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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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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20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4" name=""/>
          <p:cNvSpPr/>
          <p:nvPr/>
        </p:nvSpPr>
        <p:spPr>
          <a:xfrm>
            <a:off x="1962000" y="4457880"/>
            <a:ext cx="2476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1076400" y="4133880"/>
            <a:ext cx="371520" cy="333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 flipV="1" rot="5181600">
            <a:off x="1304280" y="5095800"/>
            <a:ext cx="343080" cy="218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1542960" y="5686560"/>
            <a:ext cx="590760" cy="48564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1638360" y="2676600"/>
            <a:ext cx="352440" cy="295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1619280" y="1895400"/>
            <a:ext cx="590400" cy="238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1467000" y="2286000"/>
            <a:ext cx="933480" cy="276120"/>
          </a:xfrm>
          <a:custGeom>
            <a:avLst/>
            <a:gdLst/>
            <a:ahLst/>
            <a:rect l="l" t="t" r="r" b="b"/>
            <a:pathLst>
              <a:path w="588" h="174">
                <a:moveTo>
                  <a:pt x="0" y="168"/>
                </a:moveTo>
                <a:lnTo>
                  <a:pt x="108" y="0"/>
                </a:lnTo>
                <a:lnTo>
                  <a:pt x="558" y="0"/>
                </a:lnTo>
                <a:lnTo>
                  <a:pt x="588" y="174"/>
                </a:lnTo>
                <a:lnTo>
                  <a:pt x="0" y="16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1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2880" y="1295280"/>
            <a:ext cx="69721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60" y="1536840"/>
            <a:ext cx="223524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m = 1000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m = 100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am = 10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dm = 0,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m = 0,0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m = 0,00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51440" y="12445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1:   25 km =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99280" y="1231920"/>
            <a:ext cx="10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.00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27400" y="1994040"/>
            <a:ext cx="453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 ogni passo nella scal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all’alto verso il bass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in questo caso tre passi) aggiungo uno zero (0) a destra (in coda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0040" y="4381560"/>
            <a:ext cx="368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ggiungere uno zero significa moltiplicare per 10, cioè spostare la virgola di un posto ad ogni passo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40360" y="3720960"/>
            <a:ext cx="2679480" cy="571680"/>
            <a:chOff x="4140360" y="3720960"/>
            <a:chExt cx="2679480" cy="571680"/>
          </a:xfrm>
        </p:grpSpPr>
        <p:sp>
          <p:nvSpPr>
            <p:cNvPr id="127" name=""/>
            <p:cNvSpPr/>
            <p:nvPr/>
          </p:nvSpPr>
          <p:spPr>
            <a:xfrm>
              <a:off x="4140360" y="3720960"/>
              <a:ext cx="26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s.2:   2,5 hm = mm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3949560"/>
              <a:ext cx="266760" cy="3430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629400" y="3708360"/>
            <a:ext cx="1587600" cy="546120"/>
            <a:chOff x="6629400" y="3708360"/>
            <a:chExt cx="1587600" cy="546120"/>
          </a:xfrm>
        </p:grpSpPr>
        <p:sp>
          <p:nvSpPr>
            <p:cNvPr id="130" name=""/>
            <p:cNvSpPr/>
            <p:nvPr/>
          </p:nvSpPr>
          <p:spPr>
            <a:xfrm>
              <a:off x="6629400" y="3708360"/>
              <a:ext cx="158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.000,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09040" y="3911760"/>
              <a:ext cx="266400" cy="34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937200" y="4127400"/>
            <a:ext cx="911520" cy="120600"/>
          </a:xfrm>
          <a:custGeom>
            <a:avLst/>
            <a:gdLst/>
            <a:ahLst/>
            <a:rect l="l" t="t" r="r" b="b"/>
            <a:pathLst>
              <a:path w="546" h="76">
                <a:moveTo>
                  <a:pt x="0" y="2"/>
                </a:moveTo>
                <a:cubicBezTo>
                  <a:pt x="4" y="44"/>
                  <a:pt x="9" y="69"/>
                  <a:pt x="54" y="76"/>
                </a:cubicBezTo>
                <a:cubicBezTo>
                  <a:pt x="81" y="74"/>
                  <a:pt x="72" y="76"/>
                  <a:pt x="86" y="62"/>
                </a:cubicBezTo>
                <a:cubicBezTo>
                  <a:pt x="91" y="47"/>
                  <a:pt x="101" y="35"/>
                  <a:pt x="106" y="20"/>
                </a:cubicBezTo>
                <a:cubicBezTo>
                  <a:pt x="109" y="28"/>
                  <a:pt x="113" y="53"/>
                  <a:pt x="122" y="58"/>
                </a:cubicBezTo>
                <a:cubicBezTo>
                  <a:pt x="130" y="63"/>
                  <a:pt x="145" y="65"/>
                  <a:pt x="154" y="66"/>
                </a:cubicBezTo>
                <a:cubicBezTo>
                  <a:pt x="175" y="64"/>
                  <a:pt x="175" y="62"/>
                  <a:pt x="190" y="52"/>
                </a:cubicBezTo>
                <a:cubicBezTo>
                  <a:pt x="194" y="41"/>
                  <a:pt x="200" y="31"/>
                  <a:pt x="210" y="24"/>
                </a:cubicBezTo>
                <a:cubicBezTo>
                  <a:pt x="215" y="10"/>
                  <a:pt x="213" y="8"/>
                  <a:pt x="216" y="18"/>
                </a:cubicBezTo>
                <a:cubicBezTo>
                  <a:pt x="219" y="48"/>
                  <a:pt x="224" y="40"/>
                  <a:pt x="246" y="54"/>
                </a:cubicBezTo>
                <a:cubicBezTo>
                  <a:pt x="252" y="58"/>
                  <a:pt x="259" y="58"/>
                  <a:pt x="266" y="60"/>
                </a:cubicBezTo>
                <a:cubicBezTo>
                  <a:pt x="268" y="61"/>
                  <a:pt x="272" y="62"/>
                  <a:pt x="272" y="62"/>
                </a:cubicBezTo>
                <a:cubicBezTo>
                  <a:pt x="292" y="61"/>
                  <a:pt x="298" y="63"/>
                  <a:pt x="312" y="54"/>
                </a:cubicBezTo>
                <a:cubicBezTo>
                  <a:pt x="316" y="48"/>
                  <a:pt x="323" y="43"/>
                  <a:pt x="326" y="36"/>
                </a:cubicBezTo>
                <a:cubicBezTo>
                  <a:pt x="336" y="15"/>
                  <a:pt x="325" y="32"/>
                  <a:pt x="334" y="18"/>
                </a:cubicBezTo>
                <a:cubicBezTo>
                  <a:pt x="349" y="22"/>
                  <a:pt x="340" y="34"/>
                  <a:pt x="350" y="44"/>
                </a:cubicBezTo>
                <a:cubicBezTo>
                  <a:pt x="355" y="49"/>
                  <a:pt x="368" y="52"/>
                  <a:pt x="368" y="52"/>
                </a:cubicBezTo>
                <a:cubicBezTo>
                  <a:pt x="388" y="51"/>
                  <a:pt x="415" y="52"/>
                  <a:pt x="434" y="46"/>
                </a:cubicBezTo>
                <a:cubicBezTo>
                  <a:pt x="441" y="39"/>
                  <a:pt x="441" y="36"/>
                  <a:pt x="444" y="26"/>
                </a:cubicBezTo>
                <a:cubicBezTo>
                  <a:pt x="445" y="22"/>
                  <a:pt x="448" y="14"/>
                  <a:pt x="448" y="14"/>
                </a:cubicBezTo>
                <a:cubicBezTo>
                  <a:pt x="454" y="40"/>
                  <a:pt x="453" y="45"/>
                  <a:pt x="480" y="52"/>
                </a:cubicBezTo>
                <a:cubicBezTo>
                  <a:pt x="515" y="49"/>
                  <a:pt x="524" y="43"/>
                  <a:pt x="542" y="16"/>
                </a:cubicBezTo>
                <a:cubicBezTo>
                  <a:pt x="543" y="11"/>
                  <a:pt x="546" y="5"/>
                  <a:pt x="546" y="0"/>
                </a:cubicBezTo>
              </a:path>
            </a:pathLst>
          </a:cu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34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65160" y="1536840"/>
            <a:ext cx="223524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0,001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0,01 h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0,1 d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100 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1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51440" y="12445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3:   3 m = c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12319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59120" y="502596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gola pratica: se mi sposto di  4 posti verso l’alto nella scala, sposterò la virgola a sinistra di 4 posti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025880" y="1828800"/>
            <a:ext cx="2451240" cy="558720"/>
            <a:chOff x="4025880" y="1828800"/>
            <a:chExt cx="2451240" cy="558720"/>
          </a:xfrm>
        </p:grpSpPr>
        <p:sp>
          <p:nvSpPr>
            <p:cNvPr id="142" name=""/>
            <p:cNvSpPr/>
            <p:nvPr/>
          </p:nvSpPr>
          <p:spPr>
            <a:xfrm>
              <a:off x="4025880" y="1828800"/>
              <a:ext cx="24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s.4:   2</a:t>
              </a:r>
              <a:r>
                <a:rPr b="0" lang="it-IT" sz="24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m = hm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54760" y="2044800"/>
              <a:ext cx="266400" cy="34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43280" y="2343240"/>
            <a:ext cx="518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 ogni passo nella scal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al basso verso l’alt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in questo caso due passi) aggiungo uno zero (0) a sinistra (davanti al numero!) e metto la virgola dopo il prim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248520" y="1816200"/>
            <a:ext cx="1054080" cy="552240"/>
            <a:chOff x="6248520" y="1816200"/>
            <a:chExt cx="1054080" cy="552240"/>
          </a:xfrm>
        </p:grpSpPr>
        <p:sp>
          <p:nvSpPr>
            <p:cNvPr id="146" name=""/>
            <p:cNvSpPr/>
            <p:nvPr/>
          </p:nvSpPr>
          <p:spPr>
            <a:xfrm>
              <a:off x="6248520" y="18162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2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69120" y="2025720"/>
              <a:ext cx="266760" cy="34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165560" y="4330800"/>
            <a:ext cx="2994120" cy="542880"/>
            <a:chOff x="4165560" y="4330800"/>
            <a:chExt cx="2994120" cy="542880"/>
          </a:xfrm>
        </p:grpSpPr>
        <p:sp>
          <p:nvSpPr>
            <p:cNvPr id="149" name=""/>
            <p:cNvSpPr/>
            <p:nvPr/>
          </p:nvSpPr>
          <p:spPr>
            <a:xfrm>
              <a:off x="4165560" y="433080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s.2:   0,5 cm = dam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0440" y="4530600"/>
              <a:ext cx="266760" cy="3430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58000" y="4340160"/>
            <a:ext cx="1587600" cy="581040"/>
            <a:chOff x="6858000" y="4340160"/>
            <a:chExt cx="1587600" cy="581040"/>
          </a:xfrm>
        </p:grpSpPr>
        <p:sp>
          <p:nvSpPr>
            <p:cNvPr id="152" name=""/>
            <p:cNvSpPr/>
            <p:nvPr/>
          </p:nvSpPr>
          <p:spPr>
            <a:xfrm>
              <a:off x="6858000" y="4340160"/>
              <a:ext cx="158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005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83360" y="4578480"/>
              <a:ext cx="266760" cy="34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245360" y="4711680"/>
            <a:ext cx="480960" cy="120600"/>
          </a:xfrm>
          <a:custGeom>
            <a:avLst/>
            <a:gdLst/>
            <a:ahLst/>
            <a:rect l="l" t="t" r="r" b="b"/>
            <a:pathLst>
              <a:path w="303" h="76">
                <a:moveTo>
                  <a:pt x="0" y="0"/>
                </a:moveTo>
                <a:cubicBezTo>
                  <a:pt x="6" y="17"/>
                  <a:pt x="0" y="36"/>
                  <a:pt x="14" y="50"/>
                </a:cubicBezTo>
                <a:cubicBezTo>
                  <a:pt x="17" y="59"/>
                  <a:pt x="21" y="68"/>
                  <a:pt x="30" y="72"/>
                </a:cubicBezTo>
                <a:cubicBezTo>
                  <a:pt x="34" y="74"/>
                  <a:pt x="42" y="76"/>
                  <a:pt x="42" y="76"/>
                </a:cubicBezTo>
                <a:cubicBezTo>
                  <a:pt x="58" y="74"/>
                  <a:pt x="76" y="73"/>
                  <a:pt x="90" y="64"/>
                </a:cubicBezTo>
                <a:cubicBezTo>
                  <a:pt x="98" y="51"/>
                  <a:pt x="99" y="42"/>
                  <a:pt x="104" y="28"/>
                </a:cubicBezTo>
                <a:cubicBezTo>
                  <a:pt x="110" y="51"/>
                  <a:pt x="113" y="64"/>
                  <a:pt x="138" y="68"/>
                </a:cubicBezTo>
                <a:cubicBezTo>
                  <a:pt x="165" y="67"/>
                  <a:pt x="176" y="72"/>
                  <a:pt x="194" y="60"/>
                </a:cubicBezTo>
                <a:cubicBezTo>
                  <a:pt x="197" y="48"/>
                  <a:pt x="195" y="55"/>
                  <a:pt x="200" y="40"/>
                </a:cubicBezTo>
                <a:cubicBezTo>
                  <a:pt x="201" y="38"/>
                  <a:pt x="202" y="34"/>
                  <a:pt x="202" y="34"/>
                </a:cubicBezTo>
                <a:cubicBezTo>
                  <a:pt x="203" y="29"/>
                  <a:pt x="201" y="24"/>
                  <a:pt x="204" y="20"/>
                </a:cubicBezTo>
                <a:cubicBezTo>
                  <a:pt x="206" y="18"/>
                  <a:pt x="205" y="25"/>
                  <a:pt x="206" y="28"/>
                </a:cubicBezTo>
                <a:cubicBezTo>
                  <a:pt x="209" y="39"/>
                  <a:pt x="210" y="50"/>
                  <a:pt x="220" y="56"/>
                </a:cubicBezTo>
                <a:cubicBezTo>
                  <a:pt x="226" y="66"/>
                  <a:pt x="222" y="61"/>
                  <a:pt x="236" y="66"/>
                </a:cubicBezTo>
                <a:cubicBezTo>
                  <a:pt x="238" y="67"/>
                  <a:pt x="242" y="68"/>
                  <a:pt x="242" y="68"/>
                </a:cubicBezTo>
                <a:cubicBezTo>
                  <a:pt x="253" y="67"/>
                  <a:pt x="265" y="67"/>
                  <a:pt x="276" y="66"/>
                </a:cubicBezTo>
                <a:cubicBezTo>
                  <a:pt x="280" y="65"/>
                  <a:pt x="288" y="62"/>
                  <a:pt x="288" y="62"/>
                </a:cubicBezTo>
                <a:cubicBezTo>
                  <a:pt x="303" y="40"/>
                  <a:pt x="302" y="42"/>
                  <a:pt x="302" y="1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5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gramm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1520" y="2184480"/>
            <a:ext cx="239688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kg = 1000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hg  = 100 h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dag = 10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dg = 0,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cg = 0,01 c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mg = 000,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1209600"/>
            <a:ext cx="75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 scala dei grammi (g) è identica a quella dei m. Applicheremo le stesse regole pratiche di equivalenz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0240" y="2193840"/>
            <a:ext cx="265428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0,001 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0,01 h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0,1 d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10 d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100 c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1000 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6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09480" y="162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litr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933480"/>
            <a:ext cx="79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 scala del litro è decimale. E’ una scala di volumi usata per i liquidi. Molti strumenti sono tarati in litri quindi dobbiamo conoscere la scala. E’ identica a quella dei metri e dei grammi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1520" y="2508120"/>
            <a:ext cx="2396880" cy="324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l  = 100 h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al = 10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l = 0,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l = 0,0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l = 000,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51320" y="2508120"/>
            <a:ext cx="2654280" cy="324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0,01 h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0,1 d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10 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100 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10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7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04920" y="2001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quadr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1960" y="1019160"/>
            <a:ext cx="750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metro quadro è l’unità di misura delle are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spondiamo innanzitutto alla domanda: quanti decimetri quadri stanno in un metro quadro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1480" y="2552760"/>
            <a:ext cx="50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 m ci sono 10 d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0520" y="3390840"/>
            <a:ext cx="6467760" cy="362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2886120"/>
            <a:ext cx="8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9052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3790800"/>
            <a:ext cx="64800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8616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3380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8144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2908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2000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3790800"/>
            <a:ext cx="64800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71440" y="385776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19440" y="38577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76440" y="384804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14720" y="3828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62360" y="381960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0000" y="381960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57640" y="381960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05640" y="3809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3280" y="3809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00920" y="3809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47052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4295520" y="1438200"/>
            <a:ext cx="209520" cy="6381720"/>
          </a:xfrm>
          <a:custGeom>
            <a:avLst/>
            <a:gdLst>
              <a:gd name="textAreaLeft" fmla="*/ 133920 w 209520"/>
              <a:gd name="textAreaRight" fmla="*/ 209880 w 209520"/>
              <a:gd name="textAreaTop" fmla="*/ 166320 h 6381720"/>
              <a:gd name="textAreaBottom" fmla="*/ 6215400 h 638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0560" y="5391000"/>
            <a:ext cx="75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ltra parte un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un quadrato di lato pari ad 1 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34240" y="5438880"/>
            <a:ext cx="961920" cy="466560"/>
          </a:xfrm>
          <a:prstGeom prst="rightArrow">
            <a:avLst>
              <a:gd name="adj1" fmla="val 50000"/>
              <a:gd name="adj2" fmla="val 5154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23:21:22Z</dcterms:created>
  <dc:creator>AAAAA AAAAA</dc:creator>
  <dc:description/>
  <dc:language>en-US</dc:language>
  <cp:lastModifiedBy>utente</cp:lastModifiedBy>
  <dcterms:modified xsi:type="dcterms:W3CDTF">2006-10-06T10:35:37Z</dcterms:modified>
  <cp:revision>34</cp:revision>
  <dc:subject/>
  <dc:title>Presentazione di PowerPoint</dc:title>
</cp:coreProperties>
</file>