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7E1-9F46-496B-BD77-8B275BE1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268-178E-4099-9CD2-5D38CDD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B76-B38F-47D1-A834-2386CF5E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AAD-C07C-4535-B38F-F1D818EF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B71D-AC45-40DC-9666-21DEE0D4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927E-05CB-4DD6-8EF8-22A29B24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04B1-EC77-440F-AC61-1F2AAB38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2630-15AD-47A3-B7B6-F9AD8C3A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A2D3-0050-4208-A1D6-1EFEF656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6043-0A76-4001-BB68-C789302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3004-C171-4B78-9ABC-7A9CB4D4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E61-C301-4CAB-A85F-CDCD6A41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723D-A6CA-4534-B538-BF2F0ACD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1AA3-8042-434A-8AD0-5B024262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C143-C79E-4F85-BB82-5DC4959A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6C30-3B3E-4DC1-A351-94DC0F3D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BD77-8A62-40E4-B927-3744BB5D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CE0E-D62E-4C72-8225-D0423C56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6448-7A8D-492A-AD4B-B9978C86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F6EE-556F-4411-A9CE-14253D97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F114-E040-44FD-B8C6-4A614F75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1BD9-75B8-4E34-A228-5FBAFF5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D2F-839B-44E0-A8D0-93A5E270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C4A43-0005-443D-9C4D-9E8085E2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91E9-7E9F-40DA-8613-2329E7DE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7B52-D7A3-49DE-8FAC-8AC7B403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3CAD-E030-44C8-B2F1-0FA324A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BE09-32C4-4267-BA41-6CEFA741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5776-BED0-40D3-B0C3-33DC7B78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B685-D5AD-4FB8-B64F-B01AC4DB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5214-A722-4F34-836D-290E67D0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D0F7-3708-4A45-9CD2-3043FB54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F2D66-80D0-4197-BF32-B6BA369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7BF-BB9B-4BE3-9DE7-CEB948CA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643B-52B5-4C3E-8B59-9D916CA2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6B48-E6EF-45C1-B759-B365565F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FD41B-E79F-4A91-BEBA-C7E71F6B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89E14-4C40-434D-88C8-ECEE3EDD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F5EA-6917-4FF8-AE5E-3D28493C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6AFDE-D9D3-4FA1-8E8B-2435848A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BDFF4-93A1-486E-BB73-5A779756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E1E2-1079-4D51-B80A-150B709B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7E2C-DF2C-4C45-BF97-88F77B42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3544F-C2C5-4F4B-97F0-E4DD2B5F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C18-5AF2-481C-8B57-5FC8C74A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99D3-3287-4F51-B3D4-9AD1D61B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D3015-5120-4E55-8C4B-48FD8329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82C4C-4FEA-41FC-B49C-7DFD8873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CD969-C708-457B-AFF3-3713CE6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F1E9E-FD80-45C8-BF1B-F1676021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171CE-CEA4-42B2-9A9A-4DEBE82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38AD-4EC3-4813-931D-3AFBC4CF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BFDDD-6535-4C7E-BBDB-48B5BF31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20840-2EEF-404D-B2A0-092D79A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1E7A-461C-47ED-94E7-BECC84E6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002-18E8-4742-A1D5-5D8CD5B9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72346-A1F9-4038-97F1-3547AF0F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1E5-F54B-4542-AC9D-03C0A194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031-46E3-46EB-B0CA-5DC31D89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251-8BBE-4589-A290-E44DB2FD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B583-F352-4CDE-8C21-CCCECF8A9F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B44D-8F2E-4E57-A15A-D6CF2828AD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d253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8CA-A350-49EB-9DD2-A66320C830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CADD-6AB3-4731-AB3B-FD24DA2639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5A42-41DC-4F2A-AAAF-DB835AF5FD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...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92934"/>
                </a:solidFill>
                <a:latin typeface="Monotype Corsiva"/>
              </a:rPr>
              <a:t>IL NOSTRO LABORATORIO.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i INFORMATIC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42354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Switch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40000" y="2636640"/>
            <a:ext cx="5483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di rete o nodo interno di rete che si occupa di commutazion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133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Ro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84720" y="3933360"/>
            <a:ext cx="5194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 dispositivo elettronico che si occupa di instradare i dati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211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nternet 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390480" y="3473280"/>
            <a:ext cx="5753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una rete di computer mondiale ad accesso pubblico, attualmente rappresentante il principale mezzo di comunicazione di massa, e che offre all'utente tutta una vasta serie di possibili contenuti e servizi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3544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Provider e linee di comunic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Un provider è in generale un'azienda o un'organizzazione che fornisce un servizio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e linee di comunicazione sono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PSTN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è la più grande rete telefonica esistent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ISDN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è una rete di telecomunicazioni digitale che consente di trasmettere servizi di voce e trasferimento dati su un unico supporto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ADSL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classe di tecnologie di trasmissione a livello fisico, utilizzate per l'accesso digitale a Internet ad alta velocità di trasmissione su doppino telefonico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Gli indirizzi IP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319280" y="3715920"/>
            <a:ext cx="4824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E’ un numero che identifica univocamente u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dispositivo collegato a una re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502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Gli indirizzi dei siti (URL)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284720" y="3860280"/>
            <a:ext cx="4859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34"/>
                </a:solidFill>
                <a:latin typeface="Comic Sans MS"/>
              </a:rPr>
              <a:t>E’ una sequenza di caratteri che identifica univocamente l‘indirizzo di una risorsa in Internet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4284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l WWW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Comic Sans MS"/>
              </a:rPr>
              <a:t>WorldWideWeb</a:t>
            </a: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 è il nome del primo browser per il web mai realizzato. Esso non raggiunse mai il grande pubblico, perché fu creato a scopo dimostrativo e di ricerca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1" name="Text Placeholder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32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Altri Servizi di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FTP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è un protocollo per la trasmissione di dati tra host basato su TCP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-MAIL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servizio Internet grazie al quale ogni utente abilitato può inviare e ricevere dei messaggi utilizzando un computer o qualunque altro dispositivo elettronico connesso in rete attraverso un proprio account di posta presso un provider del servizio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CHAT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ampia gamma di servizi sia telefonici che via Internet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NEWSGROUP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spazi virtuali creato su una rete di server interconnessi</a:t>
            </a:r>
            <a:r>
              <a:rPr b="0" lang="en-US" sz="1800" spc="-1" strike="noStrike">
                <a:solidFill>
                  <a:srgbClr val="292934"/>
                </a:solidFill>
                <a:latin typeface="Comic Sans MS"/>
              </a:rPr>
              <a:t> per discutere di un argomento ben determinat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TELNET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protocollo di rete utilizzato su Internet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Presentazion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Nel nostro laboratorio abbiamo 24 postazioni con dei computer di tipo Desktop con queste caratteristich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Sistema Operativo: Microsoft Windows 200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CPU: 2.40 GHz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Memoria RAM: 490.992 K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Hard disk da: 38.3 G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88000" y="4076640"/>
            <a:ext cx="4114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La rete del laboratorio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Tutti i computer sono dotati di una scheda di rete di tipo Ethernet, alla cui porta è connesso un cavo Ethernet che arriva ad uno dei 2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witch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presenti in laboratori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I due switch sono collegati ad u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outer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che consente l’accesso ad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I comput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quindi formano una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te locale  LAN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268360" y="5086440"/>
            <a:ext cx="3770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Collegamento ad Internet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Ogni computer ha un propri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dirizzo IP privato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;  il mio computer ha l’indirizzo IP 192.168.1.61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Il router interfacciato ad Internet ha un indirizzo IP fornito in modo dinamico dal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vider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Telecom: </a:t>
            </a:r>
            <a:r>
              <a:rPr b="0" lang="en-US" sz="2400" spc="-1" strike="noStrike">
                <a:solidFill>
                  <a:srgbClr val="292934"/>
                </a:solidFill>
                <a:latin typeface="Comic Sans MS"/>
              </a:rPr>
              <a:t>79.4.253.184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 linea di comunicazione utilizzata è di tip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ADSL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484360" y="4578480"/>
            <a:ext cx="4249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Il sito della scuola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a nostra scuola ha un proprio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sito Internet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, presente nel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WWW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L’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è il seguente: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             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http://www.iisgadda.it/wp2/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619280" y="3328920"/>
            <a:ext cx="540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DEFINIZIONI dei termini sottolineati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3640" y="159984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1360" indent="-17136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34"/>
                </a:solidFill>
                <a:latin typeface="Comic Sans MS"/>
              </a:rPr>
              <a:t>INDIC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- Le reti di computer (LAN, MAN,WAN,GAN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- Schede di rete, switch e rout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-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- Provider e linee di comunicazion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5" action="ppaction://hlinksldjump"/>
              </a:rPr>
              <a:t>- Gli indirizzi I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6" action="ppaction://hlinksldjump"/>
              </a:rPr>
              <a:t>- Gli indirizzi dei siti (URL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7" action="ppaction://hlinksldjump"/>
              </a:rPr>
              <a:t>- Il WW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34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8" action="ppaction://hlinksldjump"/>
              </a:rPr>
              <a:t>- Altri servizi di Interne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Le reti di computer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Una rete è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 insieme di dispositivi elettronici in grado di comunicare fra lor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A seconda della dimensione dell’area geografica in cui sono dislocati i PC, le reti possono essere classificate in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92934"/>
                </a:solidFill>
                <a:uFillTx/>
                <a:latin typeface="Comic Sans MS"/>
              </a:rPr>
              <a:t>LAN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rete informatica con un'estensione territoriale non superiore a qualche chilometro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92934"/>
                </a:solidFill>
                <a:uFillTx/>
                <a:latin typeface="Comic Sans MS"/>
              </a:rPr>
              <a:t>MAN 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i computer si trovano in un’area urbana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92934"/>
                </a:solidFill>
                <a:uFillTx/>
                <a:latin typeface="Comic Sans MS"/>
              </a:rPr>
              <a:t>WAN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l’area geografica comprende tutta la nazione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92934"/>
                </a:solidFill>
                <a:uFillTx/>
                <a:latin typeface="Comic Sans MS"/>
              </a:rPr>
              <a:t>GAN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 (</a:t>
            </a:r>
            <a:r>
              <a:rPr b="0" i="1" lang="en-US" sz="1800" spc="-1" strike="noStrike">
                <a:solidFill>
                  <a:srgbClr val="292934"/>
                </a:solidFill>
                <a:latin typeface="Comic Sans MS"/>
              </a:rPr>
              <a:t>reti che collegano i computer in tutti i continenti</a:t>
            </a: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92934"/>
                </a:solidFill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1" action="ppaction://hlinksldjump"/>
              </a:rPr>
              <a:t>Schede di rete,</a:t>
            </a:r>
            <a:br>
              <a:rPr sz="4400"/>
            </a:br>
            <a:r>
              <a:rPr b="0" lang="en-US" sz="4400" spc="-1" strike="noStrike" u="sng">
                <a:solidFill>
                  <a:srgbClr val="292934"/>
                </a:solidFill>
                <a:uFillTx/>
                <a:latin typeface="Monotype Corsiva"/>
              </a:rPr>
              <a:t> </a:t>
            </a:r>
            <a:br>
              <a:rPr sz="4400"/>
            </a:br>
            <a:r>
              <a:rPr b="0" lang="en-US" sz="4400" spc="-1" strike="noStrike" u="sng">
                <a:solidFill>
                  <a:srgbClr val="292934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2" action="ppaction://hlinksldjump"/>
              </a:rPr>
              <a:t>switch,_x000b_</a:t>
            </a:r>
            <a:br>
              <a:rPr sz="4400"/>
            </a:br>
            <a:r>
              <a:rPr b="0" lang="en-US" sz="4400" spc="-1" strike="noStrike" u="sng">
                <a:solidFill>
                  <a:srgbClr val="292934"/>
                </a:solidFill>
                <a:uFillTx/>
                <a:latin typeface="Monotype Corsiva"/>
              </a:rPr>
              <a:t>                       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3" action="ppaction://hlinksldjump"/>
              </a:rPr>
              <a:t>router.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Monotype Corsiva"/>
                <a:hlinkClick r:id="rId4" action="ppaction://hlinksldjump"/>
              </a:rPr>
              <a:t> 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6868"/>
            </a:gs>
            <a:gs pos="100000">
              <a:srgbClr val="f3f2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276720" y="2420640"/>
            <a:ext cx="56894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Comic Sans MS"/>
              </a:rPr>
              <a:t>E’ a livello logico un‘interfaccia digitale, costituita a livello hardware da una scheda elettronica inserita solitamente all'interno di un Personal Computer, ecc., che svolge tutte le elaborazioni o funzioni necessarie a consentire la connessione dell'apparato informatico ad una rete informatica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2779"/>
                </a:solidFill>
                <a:latin typeface="Monotype Corsiva"/>
              </a:rPr>
              <a:t>                            </a:t>
            </a:r>
            <a:r>
              <a:rPr b="1" i="1" lang="en-US" sz="4000" spc="-1" strike="noStrike">
                <a:solidFill>
                  <a:srgbClr val="292934"/>
                </a:solidFill>
                <a:latin typeface="Monotype Corsiva"/>
              </a:rPr>
              <a:t>Schede di rete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2367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46:59Z</dcterms:created>
  <dc:creator>Giugy &amp; Manu</dc:creator>
  <dc:description/>
  <dc:language>en-US</dc:language>
  <cp:lastModifiedBy>ospite</cp:lastModifiedBy>
  <dcterms:modified xsi:type="dcterms:W3CDTF">2012-03-28T11:48:11Z</dcterms:modified>
  <cp:revision>16</cp:revision>
  <dc:subject/>
  <dc:title>Il nostro laboratorio</dc:title>
</cp:coreProperties>
</file>