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C4F-3445-441F-815E-33F8DBE8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D63-43B9-4961-8A17-48BFF1AA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7BE-F529-4701-8CA5-730B3D1E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CFA-C779-42FF-AA46-F81A5CF1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E5B6-E099-4150-B630-D457077A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C3D7-093E-478A-A687-85DBEDE9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5EB9-ED28-4048-8234-FF4E50D4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4D00-F0B3-4516-98E6-418C09D5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21B8-934C-451C-8EEB-06E726AD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E0D1-AE00-4B83-A557-17FD6BD0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6BF7-DEFB-4CCD-9031-68EDD55B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07D-E089-4D78-A04A-EFA047F2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D931-4224-4AC4-BCE1-4BCF1F31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6AA6-B38A-4AF5-9461-CD709EB2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3F89-5FE4-4200-BA71-12834C2F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8FEF-5C92-4E15-B3DC-1DFF049E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1C00-87EE-4767-913D-496AE83D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1B2B-3B26-40CD-8F44-82BEDCFF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AE07-A4BF-4859-98EF-6077DAEF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E51C-7EC4-44D0-AA26-35C30185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A34C-2FCC-43B8-867B-329B11BB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0462-4779-4AA7-9CAD-A3076BD4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A86-7624-4CAD-AC9B-BC0DFD88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92F1-B1BA-4551-958A-836EF667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E575-4862-4798-A5FE-CAA52B74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207C-C1B6-44F0-8378-F59985D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E063-7FA5-4D40-84C2-00C82D8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80AD-8CC5-4DDB-A952-8436C20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573A-D922-4B6C-9417-ABEE29F1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3E87-0CDD-48B0-ABA4-07462B3B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368D6-9A13-4461-AC8C-00BB287D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D731-A91F-4FA1-9CEC-F7541AB6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919B3-B30F-411C-8CD8-A86E2822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D9A-64BB-4EE7-AB6D-29C75A19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DF9B5-3E00-463B-A898-1B685558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B53D2-9947-4E5E-8271-F09A0029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DD91-DF54-40E0-9B16-3B664F91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586F2-0B2E-4535-A9EE-771E6C22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93BE2-15B6-45D4-9E89-0EE23248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F4AD-30FA-4451-8930-E37E89B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54EB6-E1E9-4A50-AD3E-93A9153E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8C53-CFC3-4B73-BE40-FBB23978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8613-659B-416B-8108-B1DF1492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35C2D-3158-4711-B17A-C280B216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F19-4F92-4D51-9FFE-9E4C6B82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7CDE1-7A42-4DA5-8458-9F23C219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D796-055F-4DC7-A31B-05F43694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88B2-B3BC-4C8C-A212-C25A7F5F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4A34-5F2F-4F4F-98B4-01787183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F72CB-E915-4008-A2A9-9EDB7402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FC7E2-E858-41BC-8838-9B68EA97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86112-B530-4D74-9FA4-891C39C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7CC5-1082-4ABE-9651-CB30691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948A0-8685-4543-8D48-25B8F66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1CFF-8B00-47CD-AF68-D5AD427F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CF6-FFC2-408B-A01B-AAB41D38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85768-81A2-41B6-BE36-36E79DA8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6DA-CC53-41B9-8F20-6EE6B212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887-AF7F-4294-AE91-6793C24E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F6F-BFA5-425F-8583-F62237F8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CFA2-AE72-488F-8EFF-27428AA46E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6D88-9964-4D99-A19C-E4E72F72F6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d253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5542-D23E-4CBD-AEEC-054C1A0F7F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EFC3-77D7-470F-95F0-60F9D19DFA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0E00-2B0B-41FF-901F-0180BEB625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...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92934"/>
                </a:solidFill>
                <a:latin typeface="Monotype Corsiva"/>
              </a:rPr>
              <a:t>IL NOSTRO LABORATORIO.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i INFORMATIC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42354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Switch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40000" y="2636640"/>
            <a:ext cx="5483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di rete o nodo interno di rete che si occupa di commutazion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133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Ro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84720" y="3933360"/>
            <a:ext cx="5194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elettronico che si occupa di instradare i dati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211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nternet 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390480" y="3473280"/>
            <a:ext cx="5753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rete di computer mondiale ad accesso pubblico, attualmente rappresentante il principale mezzo di comunicazione di massa, e che offre all'utente tutta una vasta serie di possibili contenuti e servizi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3544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Provider e linee di comunic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Un provider è in generale un'azienda o un'organizzazione che fornisce un servizio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PSTN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è la più grande rete telefonica esistent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ISDN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è una rete di telecomunicazioni digitale che consente di trasmettere servizi di voce e trasferimento dati su un unico supporto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ADSL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classe di tecnologie di trasmissione a livello fisico, utilizzate per l'accesso digitale a Internet ad alta velocità di trasmissione su doppino telefonico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Gli indirizzi IP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319280" y="3715920"/>
            <a:ext cx="4824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E’ un numero che identifica univocamente u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dispositivo collegato a una re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502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Gli indirizzi dei siti (URL)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284720" y="3860280"/>
            <a:ext cx="4859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34"/>
                </a:solidFill>
                <a:latin typeface="Comic Sans MS"/>
              </a:rPr>
              <a:t>E’ una sequenza di caratteri che identifica univocamente l‘indirizzo di una risorsa in Internet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4284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l WWW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Comic Sans MS"/>
              </a:rPr>
              <a:t>WorldWideWeb</a:t>
            </a: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 è il nome del primo browser per il web mai realizzato. Esso non raggiunse mai il grande pubblico, perché fu creato a scopo dimostrativo e di ricerca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1" name="Text Placeholder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32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Altri Servizi di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FTP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è un protocollo per la trasmissione di dati tra host basato su TCP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-MAIL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servizio Internet grazie al quale ogni utente abilitato può inviare e ricevere dei messaggi utilizzando un computer o qualunque altro dispositivo elettronico connesso in rete attraverso un proprio account di posta presso un provider del servizio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CHAT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ampia gamma di servizi sia telefonici che via Internet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NEWSGROUP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spazi virtuali creato su una rete di server interconnessi</a:t>
            </a:r>
            <a:r>
              <a:rPr b="0" lang="en-US" sz="1800" spc="-1" strike="noStrike">
                <a:solidFill>
                  <a:srgbClr val="292934"/>
                </a:solidFill>
                <a:latin typeface="Comic Sans MS"/>
              </a:rPr>
              <a:t> per discutere di un argomento ben determinat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TELNET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protocollo di rete utilizzato su Internet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Present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Sistema Operativo: Microsoft Windows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CPU: 2.40 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Hard disk da: 38.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La rete del laboratorio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Tutti i computer sono dotati di una scheda di rete di tipo Ethernet, alla cui porta è connesso un cavo Ethernet che arriva ad uno dei 2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quindi formano una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te locale  LAN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268360" y="5086440"/>
            <a:ext cx="3770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Collegamento ad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;  il mio computer ha l’indirizzo IP 192.168.1.61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Il router interfacciato ad Internet ha un indirizzo IP fornito in modo dinamico dal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Telecom: </a:t>
            </a: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79.4.253.184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 linea di comunicazione utilizzata è di tip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484360" y="4578480"/>
            <a:ext cx="4249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l sito della scuola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 nostra scuola ha un proprio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sito Internet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, presente nel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WWW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’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è il seguente: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             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http://www.iisgadda.it/wp2/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619280" y="3328920"/>
            <a:ext cx="540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DEFINIZIONI dei termini sottolineati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1360" indent="-17136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34"/>
                </a:solidFill>
                <a:latin typeface="Comic Sans MS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- Le reti di computer (LAN, MAN,WAN,GAN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- Schede di rete, switch e rout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-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- Provider e linee di comunicazion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5" action="ppaction://hlinksldjump"/>
              </a:rPr>
              <a:t>- Gli indirizzi I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6" action="ppaction://hlinksldjump"/>
              </a:rPr>
              <a:t>- Gli indirizzi dei siti (URL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7" action="ppaction://hlinksldjump"/>
              </a:rPr>
              <a:t>- Il WW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8" action="ppaction://hlinksldjump"/>
              </a:rPr>
              <a:t>- Altri servizi di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Le reti di comp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Una rete è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 insieme di dispositivi elettronici in grado di comunicare fra lor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92934"/>
                </a:solidFill>
                <a:uFillTx/>
                <a:latin typeface="Comic Sans MS"/>
              </a:rPr>
              <a:t>LAN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rete informatica con un'estensione territoriale non superiore a qualche chilometro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92934"/>
                </a:solidFill>
                <a:uFillTx/>
                <a:latin typeface="Comic Sans MS"/>
              </a:rPr>
              <a:t>MAN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i computer si trovano in un’area urbana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92934"/>
                </a:solidFill>
                <a:uFillTx/>
                <a:latin typeface="Comic Sans MS"/>
              </a:rPr>
              <a:t>WAN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l’area geografica comprende tutta la nazione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92934"/>
                </a:solidFill>
                <a:uFillTx/>
                <a:latin typeface="Comic Sans MS"/>
              </a:rPr>
              <a:t>GAN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reti che collegano i computer in tutti i continenti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92934"/>
                </a:solidFill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1" action="ppaction://hlinksldjump"/>
              </a:rPr>
              <a:t>Schede di rete,</a:t>
            </a:r>
            <a:br>
              <a:rPr sz="4400"/>
            </a:br>
            <a:r>
              <a:rPr b="0" lang="en-US" sz="4400" spc="-1" strike="noStrike" u="sng">
                <a:solidFill>
                  <a:srgbClr val="292934"/>
                </a:solidFill>
                <a:uFillTx/>
                <a:latin typeface="Monotype Corsiva"/>
              </a:rPr>
              <a:t> </a:t>
            </a:r>
            <a:br>
              <a:rPr sz="4400"/>
            </a:br>
            <a:r>
              <a:rPr b="0" lang="en-US" sz="4400" spc="-1" strike="noStrike" u="sng">
                <a:solidFill>
                  <a:srgbClr val="292934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2" action="ppaction://hlinksldjump"/>
              </a:rPr>
              <a:t>switch,_x000b_</a:t>
            </a:r>
            <a:br>
              <a:rPr sz="4400"/>
            </a:br>
            <a:r>
              <a:rPr b="0" lang="en-US" sz="4400" spc="-1" strike="noStrike" u="sng">
                <a:solidFill>
                  <a:srgbClr val="292934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3" action="ppaction://hlinksldjump"/>
              </a:rPr>
              <a:t>router.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4" action="ppaction://hlinksldjump"/>
              </a:rPr>
              <a:t> 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276720" y="2420640"/>
            <a:ext cx="56894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a livello logico un‘interfaccia digitale, costituita a livello hardware da una scheda elettronica inserita solitamente all'interno di un Personal Computer, ecc., che svolge tutte le elaborazioni o funzioni necessarie a consentire la connessione dell'apparato informatico ad una rete informatica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Schede di ret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2367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3-28T11:48:11Z</dcterms:modified>
  <cp:revision>16</cp:revision>
  <dc:subject/>
  <dc:title>Il nostro laboratorio</dc:title>
</cp:coreProperties>
</file>