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A044-5BC3-49A1-869D-D40CA73F28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4D01-3BF5-4F18-8886-327DE4EFF4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D01A-CD3D-48A1-9F50-9357882DCD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F1F-4184-4655-8034-9C6A1113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5E5-6C74-48D4-8E64-7B87D317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E04-72A0-48FE-9D34-3BFD1FDE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4A5-346E-4BF4-A788-3A24C095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AB99-D185-4526-8717-F730B659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159C-CD46-4DD1-AF5E-23535FC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07F6-30BB-4C49-87CA-15166B9B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9D3B-C5DE-4BFE-8517-26293965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4F1F-D8D5-435C-91B0-7631857C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294B-3F93-4315-A02F-306CE589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D281-DADF-4135-AD7E-94002549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C13-A5F9-4C3C-B302-38970F90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0457-EFA3-47CC-BD66-14D4736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F0A3-B46C-4D29-A6AA-CC7CFFB0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F87F-D4ED-4D4D-8FE2-911F2CE8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F54A-3454-4171-8A6D-795D3152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C25A-0C5E-4150-81BF-594BC52C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E24-FE6A-46B7-90B7-1F8F245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884-3BDE-442D-B787-F1ECC641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47A-501D-4C39-977D-4FE75F49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C4C-257E-4591-B307-940F73B5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15C-8EA6-40C5-BF06-7EF43CF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971-16A0-426C-A153-1D11DF0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50C-3C77-4486-8174-0EE133B6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7999-84EF-422C-AEE7-2B06D9FCEA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68F5-A219-463B-BF56-B224A94AD4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330033"/>
                </a:solidFill>
                <a:latin typeface="Times New Roman"/>
              </a:rPr>
              <a:t>Le immagini digitali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mati e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digital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CasellaDiTesto 1"/>
          <p:cNvSpPr/>
          <p:nvPr/>
        </p:nvSpPr>
        <p:spPr>
          <a:xfrm>
            <a:off x="971640" y="522936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 una profondità di colore = N si possono ottenere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lori dive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00160" y="1015920"/>
            <a:ext cx="8743680" cy="4181400"/>
          </a:xfrm>
          <a:prstGeom prst="rect">
            <a:avLst/>
          </a:prstGeom>
          <a:ln w="0">
            <a:noFill/>
          </a:ln>
        </p:spPr>
      </p:pic>
      <p:sp>
        <p:nvSpPr>
          <p:cNvPr id="182" name="CasellaDiTesto 1"/>
          <p:cNvSpPr/>
          <p:nvPr/>
        </p:nvSpPr>
        <p:spPr>
          <a:xfrm>
            <a:off x="1403280" y="189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ELLA DELLA PROFONDITA’ DI COL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F82C-F592-46E3-B35D-CC973A3437A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 modelli di colore RGB e CMY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modello di colore è un modo per descrivere e specificare un col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B : e’ un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tod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additi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 cui i colori si ottengono sommando le tre componenti di luc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rimar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rosso,verde e blu) in diverse quantità. 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to nei monitor e nei televis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YK: e’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metod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ottratti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 cui il colore si ottiene sottraendo dalla luce bianca percentuali di component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econdari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Ciano, magenta, giallo e nero). 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to nei settori della stampa tipogra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297C-86A7-40C8-BE6E-65F9F432D6E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dello RGB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4360" y="159984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metodo RGB ogni colore v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to indicando le tre componenti fondamentali (Red, Green, Blue). Ognuna di queste può assumere un valore di intensità compreso tra 0 e 255,(corrispondente al 100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e immagini RGB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ano 3 byte (1 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componen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rappresentare og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ixel e quindi s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agini a 24 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020000" y="2844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4067280" y="3203640"/>
            <a:ext cx="5048280" cy="3654360"/>
          </a:xfrm>
          <a:prstGeom prst="rect">
            <a:avLst/>
          </a:prstGeom>
          <a:ln w="0">
            <a:noFill/>
          </a:ln>
        </p:spPr>
      </p:pic>
      <p:sp>
        <p:nvSpPr>
          <p:cNvPr id="191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A9C1-3AB7-4FE4-8C0B-138E299B62A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Dimensioni di un’immag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11280" y="148392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mension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pixel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è il numero totale di pixel presenti nell’immagine. Si esprime con il formato N°pixel-base x N°pixel-al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to a lato: 400x309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mension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sic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 cm. o in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mensione che assume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pporto utilizzato per la sua visual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to a lato: 5,21x6,75 c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mensione del file immagine in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quanti byte occupa in memoria  (es: 363 K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6372360" y="2492280"/>
            <a:ext cx="2428920" cy="1876680"/>
          </a:xfrm>
          <a:prstGeom prst="rect">
            <a:avLst/>
          </a:prstGeom>
          <a:ln w="0">
            <a:noFill/>
          </a:ln>
        </p:spPr>
      </p:pic>
      <p:sp>
        <p:nvSpPr>
          <p:cNvPr id="195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CFD2-5C0E-4767-B1BA-74D6CA68DEA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Risoluzione e dimensio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iste un rapporto diretto fra la dimensione in pixel, la dimensione fisica in pollici e la risoluzi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m.in pixel= Dim.fisica x risol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esso è importante la formula in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m.fisica= Dim.in pixel / risol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umentando la dimensione fisica di un’immagine e tenendo costante il n° totale di pixel, diminuisce la risol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66E4-8B43-4DB4-BFD1-F9FFA1EFF29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Esemp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79280" y="1599840"/>
            <a:ext cx="6707160" cy="12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magine 70x70 pixel, 2,54x2,5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oluzione=  70 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http://www.inseparabile.com/images_home/canemalato.jpg"/>
          <p:cNvPicPr/>
          <p:nvPr/>
        </p:nvPicPr>
        <p:blipFill>
          <a:blip r:embed="rId1"/>
          <a:stretch/>
        </p:blipFill>
        <p:spPr>
          <a:xfrm>
            <a:off x="822240" y="1628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824040" y="2884320"/>
            <a:ext cx="3574800" cy="3600720"/>
          </a:xfrm>
          <a:prstGeom prst="rect">
            <a:avLst/>
          </a:prstGeom>
          <a:ln w="0">
            <a:noFill/>
          </a:ln>
        </p:spPr>
      </p:pic>
      <p:sp>
        <p:nvSpPr>
          <p:cNvPr id="203" name="CasellaDiTesto 3"/>
          <p:cNvSpPr/>
          <p:nvPr/>
        </p:nvSpPr>
        <p:spPr>
          <a:xfrm>
            <a:off x="4572000" y="3573360"/>
            <a:ext cx="439272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magine 70x70 pixel, 10x10 cm (3,9x3,9 in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oluzione=70/3,9 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= 17,8 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qualità dell’immagine è diminu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E6F0-2FA5-41D4-BF46-DBDB9465C9B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Calcolo dell’occupazione in memoria del file immag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immagini digitali bitmap occupano spazio sui supporti di memoria secondo questa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N°totale-di-pixel x profondità-di-col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3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: una immagine 800x600 pixel a 256 toni di grigio (=2</a:t>
            </a:r>
            <a:r>
              <a:rPr b="0" lang="it-IT" sz="22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 occupa 72x72x8 = 41472 bit = 5184 byte = circa 5 KBy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3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Una immagine 300x300 pixel e 16 mil. di colori occupa 300x300x24 =  2160000 bit=270000 byte= 263,67 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3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: una immagine 1600x1200 pixel e profondità di colore a 16 bit (2 byte) occupa 1600x1200x16 = 3840000 byte = 3,6 M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3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C2AF-358C-4D86-AD5F-247CCAF6433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a memorizzazione delle immagi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77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 immagini digitali sono memorizzate su file con diversi formati alternativi, ciascuno in grado di codificare un determinato numero di colori e dotato di caratteristiche peculia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cuni di questi formati prevedono forme di </a:t>
            </a:r>
            <a:r>
              <a:rPr b="1" lang="it-IT" sz="2600" spc="-1" strike="noStrike">
                <a:solidFill>
                  <a:srgbClr val="990033"/>
                </a:solidFill>
                <a:latin typeface="Arial"/>
              </a:rPr>
              <a:t>compression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cioè di diminuzione dei bit dell’immagine in modo da ridurne l’occupazione di memo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26B6-FB09-42E7-966A-603759B4453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a compressione delle immagi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li algoritmi di compressione si dividono in due categ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990033"/>
                </a:solidFill>
                <a:latin typeface="Arial"/>
              </a:rPr>
              <a:t>Compressione senza perdit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la codifica avviene riducendo le aree di colore uguale in modo tale da poter ricostruire esattamente l’immagine originale; ha un rapporto medio di compressione di 2:1 (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ossless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990033"/>
                </a:solidFill>
                <a:latin typeface="Arial"/>
              </a:rPr>
              <a:t>Compressione con perdit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la codifica avviene eliminando definitivamente alcune informazioni statisticamente meno rilevanti per la ricostruzione dell’immagine; permette rapporti di compressione fino a 100:1 (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ossy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0030-C8CE-4468-B9AD-2203E560D85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I formati di immagine digit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77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 i formati di immagini digitali bitmap più diffusi ricordi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JPEG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 supporta una profondità di colore fino a 24 bit e adotta una compressione con perdita, che consente di scegliere un rapporto di compressione variabile fino ad un massimo di 100:1 .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Molto usato sul Web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ottimo per fotografie, quadri, disegni molto sfuma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IFF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 supporta profondità di colore fino a 24 bit. Un file Tiff puo’ essere compresso (metodo lossless) o non compresso. Usato per immagini di qualita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BMP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 (formato grafico di Windows) supporta una profondità di colore fino a 24 bit e non adotta compressi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C46D-D1BD-43EF-8768-1009FCBAD00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Processo complessi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MCj02341030000[1]"/>
          <p:cNvPicPr/>
          <p:nvPr/>
        </p:nvPicPr>
        <p:blipFill>
          <a:blip r:embed="rId1"/>
          <a:stretch/>
        </p:blipFill>
        <p:spPr>
          <a:xfrm>
            <a:off x="179280" y="1628640"/>
            <a:ext cx="2217960" cy="157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Cj02344550000[1]"/>
          <p:cNvPicPr/>
          <p:nvPr/>
        </p:nvPicPr>
        <p:blipFill>
          <a:blip r:embed="rId2"/>
          <a:stretch/>
        </p:blipFill>
        <p:spPr>
          <a:xfrm>
            <a:off x="2627280" y="2924280"/>
            <a:ext cx="2033640" cy="1798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MCBS01077_0000[1]"/>
          <p:cNvPicPr/>
          <p:nvPr/>
        </p:nvPicPr>
        <p:blipFill>
          <a:blip r:embed="rId3"/>
          <a:stretch/>
        </p:blipFill>
        <p:spPr>
          <a:xfrm>
            <a:off x="5148360" y="3789360"/>
            <a:ext cx="1584360" cy="130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MCj02297370000[1]"/>
          <p:cNvPicPr/>
          <p:nvPr/>
        </p:nvPicPr>
        <p:blipFill>
          <a:blip r:embed="rId4"/>
          <a:stretch/>
        </p:blipFill>
        <p:spPr>
          <a:xfrm>
            <a:off x="7164360" y="4941720"/>
            <a:ext cx="1754280" cy="1795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4"/>
          <p:cNvSpPr/>
          <p:nvPr/>
        </p:nvSpPr>
        <p:spPr>
          <a:xfrm>
            <a:off x="2199600" y="1700280"/>
            <a:ext cx="37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 Documento orig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ventuale restauro del suppor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719240" y="29242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 Scan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879960" y="39909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. Oggetto dig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3282480" y="5373720"/>
            <a:ext cx="40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. Editing/restauro dell’oggetto dig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 flipH="1">
            <a:off x="7811640" y="2911320"/>
            <a:ext cx="289080" cy="1079640"/>
          </a:xfrm>
          <a:prstGeom prst="line">
            <a:avLst/>
          </a:prstGeom>
          <a:ln w="507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7164360" y="26370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990033"/>
                </a:solidFill>
                <a:latin typeface="Arial"/>
              </a:rPr>
              <a:t>Argomento della le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F671-EED2-4BB9-BED1-D54E9CF638E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I formati di immagine digit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685800" y="14526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 supporta un numero massimo di 256 colori e adotta una compressione di tipo lossless; è usato per immagini «a tratto» come loghi, fumetti, icone. Esistono anche immagin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- Gif Anima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Gif Trasparenti (uno dei colori dell’immagine puo’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re reso traspar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’ uno dei formati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i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 utilizzati in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eriva dal formato Gif, gestisce immagini da 1 a 48 bit, utilizza una compressione lossless, minore rispetto al formato Jpe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formato PNG (Portable Network Graphies) è stato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sviluppato appositamente per il Web e supporta la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funzionalità di trasparen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F6A4-EABE-43C6-96D2-CF60D9524A4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magini e HT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4360" y="1483920"/>
            <a:ext cx="8208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 sono tre tipi diversi di file immagine che possono essere inseriti nelle tue pagine HTM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GIF (Graphics Interchange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JPG / JPEG (Joint Photographic Experts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PNG (Portable Network Graph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immagini GIF generalmente sono migliori per i grafici e i disegni, mentre le immagini JPEG sono migliori per le fotografie. Questo per due ragioni principali: primo, le immagini GIF possono avere solo 256 colori, mentre le immagini JPEG sono formate da milioni di colori e secondo, il formato GIF è migliore per comprimere immagini semplici, mentre il formato JPEG è stato ottimizzato per immagini più complesse. Migliore è la compressione, più piccola sarà la dimensione del file immagine, e più veloce il caricamento sulla tua pagina. Come probabilmente sai già dall'esperienza, le pagine "pesanti" senza motivazione possono annoiare pesantemente un visita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gli ultimi anni il formato PNG è diventato sempre più popolare (soprattutto a spese del formato GIF). Il formato PNG è fatto in modo da avere il meglio da entrambi i formati JPEG e GIF: milioni di colori e una compressione effic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A1D4-946A-43DD-B0F2-185C3C87B9C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a digitalizzazione delle immagin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istono due tipi di immagini digit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mmagini bitma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appresentate sul supporto digitale come una matrice di pu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mmagini vettoriali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appresentate come funzioni vettoriali che descrivono curve e polig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B805-78A0-464F-9646-2D9E6641F45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e immagini vettorial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 caso di figure geometriche relativamente semplici, invece di descrivere l’immagine punto per punto, conviene specificare: tipo, forma, colore, dimensione e posizione delle figure geometriche (cerchi, rettangoli, linee, frecce e così via) che le compong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o del quadrilatero: descrizione tramite quattro vertici, colore del contorno, spessore del contorno, colore di riemp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: le immagini grafiche già pronte con l’estensione WMF che Word mette a disposizione, le cosiddette clipart, sono realizzate in grafica vettoriale.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che i font TrueType si basano sulla grafica vettor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MCEN00557_0000[1]"/>
          <p:cNvPicPr/>
          <p:nvPr/>
        </p:nvPicPr>
        <p:blipFill>
          <a:blip r:embed="rId1"/>
          <a:stretch/>
        </p:blipFill>
        <p:spPr>
          <a:xfrm rot="20468400">
            <a:off x="1763640" y="3573000"/>
            <a:ext cx="1584360" cy="111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MCj03906600000[1]"/>
          <p:cNvPicPr/>
          <p:nvPr/>
        </p:nvPicPr>
        <p:blipFill>
          <a:blip r:embed="rId2"/>
          <a:stretch/>
        </p:blipFill>
        <p:spPr>
          <a:xfrm>
            <a:off x="2843280" y="3429000"/>
            <a:ext cx="1873080" cy="183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MCj02251860000[1]"/>
          <p:cNvPicPr/>
          <p:nvPr/>
        </p:nvPicPr>
        <p:blipFill>
          <a:blip r:embed="rId3"/>
          <a:stretch/>
        </p:blipFill>
        <p:spPr>
          <a:xfrm rot="1366200">
            <a:off x="4427280" y="3323880"/>
            <a:ext cx="946080" cy="2049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5940360" y="335772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990033"/>
                </a:solidFill>
                <a:latin typeface="Symbol"/>
                <a:ea typeface="Symbol"/>
              </a:rPr>
              <a:t>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6156360" y="4022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urier New"/>
              </a:rPr>
              <a:t>AB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6372360" y="4599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990033"/>
                </a:solidFill>
                <a:latin typeface="Wingdings"/>
                <a:ea typeface="Wingdings"/>
              </a:rPr>
              <a:t>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71A2-3EEC-4E1C-96F9-4B1CAC33BD4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e immagini vettorial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77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vantaggi della descrizione vettoriale sono essenzialmente i segu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risparmia sulle dimensioni dell’immagine (al posto della descrizione di tutti i punti basta specificare solo la posizione di pochi punti chiave e le equazioni per collegarl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possono facilmente ridimensionare senza perdita di qual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È possibile muovere e modificare ogni singolo elemento geometrico che compone l’immag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7258-4B78-4232-9911-71E0500DB78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e immagini bitm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a immagine digitale bitmap è costituita da una matrice di punti detti </a:t>
            </a:r>
            <a:r>
              <a:rPr b="0" i="1" lang="it-IT" sz="2800" spc="-1" strike="noStrike">
                <a:solidFill>
                  <a:srgbClr val="990033"/>
                </a:solidFill>
                <a:latin typeface="Arial"/>
              </a:rPr>
              <a:t>picture element</a:t>
            </a:r>
            <a:r>
              <a:rPr b="0" lang="it-IT" sz="2800" spc="-1" strike="noStrike">
                <a:solidFill>
                  <a:srgbClr val="990033"/>
                </a:solidFill>
                <a:latin typeface="Arial"/>
              </a:rPr>
              <a:t> (pixel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imili ai punti della retinatura nelle immagini a sta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img"/>
          <p:cNvPicPr/>
          <p:nvPr/>
        </p:nvPicPr>
        <p:blipFill>
          <a:blip r:embed="rId1"/>
          <a:stretch/>
        </p:blipFill>
        <p:spPr>
          <a:xfrm>
            <a:off x="3649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56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90E4-7BD1-499C-85CE-2AB84E34E2A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e immagini bitmap: caratteristich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ascun punto rappresenta una porzione di immagine in un particolare colore (o tono di grigio) e viene codificato mediante uno o più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numero di punti in una data area determina la </a:t>
            </a:r>
            <a:r>
              <a:rPr b="1" lang="it-IT" sz="2800" spc="-1" strike="noStrike">
                <a:solidFill>
                  <a:srgbClr val="990033"/>
                </a:solidFill>
                <a:latin typeface="Arial"/>
              </a:rPr>
              <a:t>risoluzi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ll’im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numero di colori o di toni di grigio che ciascun punto può rappresentare individua la </a:t>
            </a:r>
            <a:r>
              <a:rPr b="1" lang="it-IT" sz="2800" spc="-1" strike="noStrike">
                <a:solidFill>
                  <a:srgbClr val="990033"/>
                </a:solidFill>
                <a:latin typeface="Arial"/>
              </a:rPr>
              <a:t>profondità di co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A971-E8AE-4891-A1D9-55A5D406E91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a risoluz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sol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sprime la densità dei pixel che compongono l’immagine ed è tanto maggiore quanti più punti sono rappresentati in una data area (e maggiore è la qualità dell'immag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misura in numero di pixel contenuti in una unità lineare dell’immagine, generalmente in un pol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1 inch = 2,54 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unità di misura è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ixel per inch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: 72 punti per pollice (PP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termine DPI (dot per inch) viene spesso utilizzato al posto di PPI. ( Il termine DPI dovrebbe essere utilizzato per gli elementi stampati, mentre PPI per le immagini visualizzate sullo scherm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http://external.ak.fbcdn.net/safe_image.php?d=AQB6_1JorXJqD5uw&amp;w=90&amp;h=90&amp;url=http%3A%2F%2F4.bp.blogspot.com%2F-OJkEC8Xu5jg%2FTroeincl1qI%2FAAAAAAAAC3A%2FdfpbAFNZsBE%2Fs72-c%2Fanimali.jpg"/>
          <p:cNvPicPr/>
          <p:nvPr/>
        </p:nvPicPr>
        <p:blipFill>
          <a:blip r:embed="rId1"/>
          <a:stretch/>
        </p:blipFill>
        <p:spPr>
          <a:xfrm>
            <a:off x="-2027160" y="213372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2"/>
          <a:stretch/>
        </p:blipFill>
        <p:spPr>
          <a:xfrm>
            <a:off x="6492960" y="4173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72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F05E-0AA3-40E0-A46D-9C4B1BE07CF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La profondità di colo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471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ofondità di colore è determinata da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umero di bit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tilizzato per rappresentare ciascun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1724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n’immagine in bianco e nero associa a ciascun punto un solo bit ( 0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ianco, 1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e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1724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n 8 bit (un byte) è possibile rappresentare immagini con 256 toni di colore o di grigio. Infatti 2</a:t>
            </a:r>
            <a:r>
              <a:rPr b="0" lang="it-IT" sz="2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1724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n’immagine a 65.536 colori associa a ciascun pixel 16 bit (infatti 2</a:t>
            </a:r>
            <a:r>
              <a:rPr b="0" lang="it-IT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6553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1724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 un’immagine True Color, cioè a colori a 24 bit, ogni pixel può assumere 16 milioni di colori diver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6846840" y="43498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6835680" y="48402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6980400" y="39592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7315200" y="4516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egnaposto numero diapositiva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3699-E938-4193-94B0-C53E60B32D0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5:42:10Z</dcterms:created>
  <dc:creator>Giugy &amp; Manu</dc:creator>
  <dc:description/>
  <dc:language>en-US</dc:language>
  <cp:lastModifiedBy>Manu Lucano</cp:lastModifiedBy>
  <dcterms:modified xsi:type="dcterms:W3CDTF">2012-03-27T12:44:05Z</dcterms:modified>
  <cp:revision>49</cp:revision>
  <dc:subject/>
  <dc:title>Le immagini digitali</dc:title>
</cp:coreProperties>
</file>