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C4C3-B766-4F2E-9A7B-F526315F079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722E-25A1-466B-BE19-40817A05CEB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egnaposto numero diapositiva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CB0C-490B-4C9A-ACDD-84E604D1291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FA18-1229-4C29-8795-48587D70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DC8A-1E83-4994-9DEA-A39AEDA2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085E-4508-41D4-BF58-06307544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83AA-6A63-43B7-9401-C0ECF6F4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E79B-A568-4F3B-B691-BD9FC545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F48C-967D-4176-8AD8-2F99BF95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2BAC-32C7-4A84-85D2-41B3B90D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64DA-7D81-46BD-BCB1-CA60CFE4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3C03-2DBE-4CC8-A5E3-A81A6142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7952-B8D4-43BA-891C-6764C2C6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A827-CF87-4ABA-BEC7-3B926B6E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DF31-1EF5-46A0-9E52-D0DBD79A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55D2-FFFA-4F2E-86F6-86A9EE4D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0DA5-3C62-4FD5-93B6-FE11B73B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82AA-E0F4-4474-94BB-4CFD5CFB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3172-DF25-4CB8-97DD-C24566E6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20D1-4566-48AA-9040-E4B75BC3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C575-D5F6-423D-A8F6-1B6BEC75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E47F-99EC-4BCB-AFE6-853357F5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37CE-E2BA-43C7-AA99-0D47C21E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F0E3-B139-4A81-B91D-B444ACBF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9FED-5174-4B88-9505-1AEA18F4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F34D-D288-4A76-B590-5952A448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7992-FBD5-4633-8EA7-1679888F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35FF-22B4-4C10-8958-CE87FED0377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5D03-D297-4EF8-8269-670610F4CDC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330033"/>
                </a:solidFill>
                <a:latin typeface="Times New Roman"/>
              </a:rPr>
              <a:t>Le immagini digitali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ormati e caratteris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 digitalizz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CasellaDiTesto 1"/>
          <p:cNvSpPr/>
          <p:nvPr/>
        </p:nvSpPr>
        <p:spPr>
          <a:xfrm>
            <a:off x="971640" y="522936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 una profondità di colore = N si possono ottenere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colori diver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00160" y="1015920"/>
            <a:ext cx="8743680" cy="4181400"/>
          </a:xfrm>
          <a:prstGeom prst="rect">
            <a:avLst/>
          </a:prstGeom>
          <a:ln w="0">
            <a:noFill/>
          </a:ln>
        </p:spPr>
      </p:pic>
      <p:sp>
        <p:nvSpPr>
          <p:cNvPr id="182" name="CasellaDiTesto 1"/>
          <p:cNvSpPr/>
          <p:nvPr/>
        </p:nvSpPr>
        <p:spPr>
          <a:xfrm>
            <a:off x="1403280" y="18900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ELLA DELLA PROFONDITA’ DI COL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B982-1151-49EB-8C82-C6FE8DB081E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 modelli di colore RGB e CMY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n modello di colore è un modo per descrivere e specificare un colo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GB : e’ un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etodo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additiv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in cui i colori si ottengono sommando le tre componenti di luce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primari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(rosso,verde e blu) in diverse quantità. È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to nei monitor e nei televiso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YK: e’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n metodo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sottrattiv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in cui il colore si ottiene sottraendo dalla luce bianca percentuali di componenti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secondari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(Ciano, magenta, giallo e nero). È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to nei settori della stampa tipograf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1463-BABD-4073-A42F-C085DD9775D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odello RGB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4360" y="159984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 metodo RGB ogni colore vi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dividuato indicando le tre componenti fondamentali (Red, Green, Blue). Ognuna di queste può assumere un valore di intensità compreso tra 0 e 255,(corrispondente al 100%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le immagini RGB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tilizzano 3 byte (1 by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ogni component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rappresentare og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ixel e quindi so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mmagini a 24 b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7020000" y="2844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4067280" y="3203640"/>
            <a:ext cx="5048280" cy="3654360"/>
          </a:xfrm>
          <a:prstGeom prst="rect">
            <a:avLst/>
          </a:prstGeom>
          <a:ln w="0">
            <a:noFill/>
          </a:ln>
        </p:spPr>
      </p:pic>
      <p:sp>
        <p:nvSpPr>
          <p:cNvPr id="191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FE9D-B450-4E90-9509-963B3BCE220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Dimensioni di un’immagi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11280" y="1483920"/>
            <a:ext cx="8353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mensione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n pixel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 è il numero totale di pixel presenti nell’immagine. Si esprime con il formato N°pixel-base x N°pixel-altez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oto a lato: 400x309 pi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mensione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isic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in cm. o in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mensione che assume s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upporto utilizzato per la sua visualizz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oto a lato: 5,21x6,75 c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mensione del file immagine in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byt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 quanti byte occupa in memoria  (es: 363 KB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6372360" y="2492280"/>
            <a:ext cx="2428920" cy="1876680"/>
          </a:xfrm>
          <a:prstGeom prst="rect">
            <a:avLst/>
          </a:prstGeom>
          <a:ln w="0">
            <a:noFill/>
          </a:ln>
        </p:spPr>
      </p:pic>
      <p:sp>
        <p:nvSpPr>
          <p:cNvPr id="195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668E-9385-438E-8AFE-C2456E3E0D2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Risoluzione e dimension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siste un rapporto diretto fra la dimensione in pixel, la dimensione fisica in pollici e la risoluzio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im.in pixel= Dim.fisica x risol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pesso è importante la formula inve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im.fisica= Dim.in pixel / risol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umentando la dimensione fisica di un’immagine e tenendo costante il n° totale di pixel, diminuisce la risol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53AF-DA7A-49C6-A930-2C32E8D6C00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Esempi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79280" y="1599840"/>
            <a:ext cx="6707160" cy="128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mmagine 70x70 pixel, 2,54x2,54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oluzione=  70 p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http://www.inseparabile.com/images_home/canemalato.jpg"/>
          <p:cNvPicPr/>
          <p:nvPr/>
        </p:nvPicPr>
        <p:blipFill>
          <a:blip r:embed="rId1"/>
          <a:stretch/>
        </p:blipFill>
        <p:spPr>
          <a:xfrm>
            <a:off x="822240" y="1628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"/>
          <p:cNvPicPr/>
          <p:nvPr/>
        </p:nvPicPr>
        <p:blipFill>
          <a:blip r:embed="rId2"/>
          <a:stretch/>
        </p:blipFill>
        <p:spPr>
          <a:xfrm>
            <a:off x="824040" y="2884320"/>
            <a:ext cx="3574800" cy="3600720"/>
          </a:xfrm>
          <a:prstGeom prst="rect">
            <a:avLst/>
          </a:prstGeom>
          <a:ln w="0">
            <a:noFill/>
          </a:ln>
        </p:spPr>
      </p:pic>
      <p:sp>
        <p:nvSpPr>
          <p:cNvPr id="203" name="CasellaDiTesto 3"/>
          <p:cNvSpPr/>
          <p:nvPr/>
        </p:nvSpPr>
        <p:spPr>
          <a:xfrm>
            <a:off x="4572000" y="3573360"/>
            <a:ext cx="439272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mmagine 70x70 pixel, 10x10 cm (3,9x3,9 in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oluzione=70/3,9 p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= 17,8 p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qualità dell’immagine è diminu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C742-E2ED-40BF-80B6-EC6B9720D01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Calcolo dell’occupazione in memoria del file immagi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280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3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immagini digitali bitmap occupano spazio sui supporti di memoria secondo questa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= N°totale-di-pixel x profondità-di-col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3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s: una immagine 800x600 pixel a 256 toni di grigio (=2</a:t>
            </a:r>
            <a:r>
              <a:rPr b="0" lang="it-IT" sz="2200" spc="-1" strike="noStrike" baseline="30000">
                <a:solidFill>
                  <a:srgbClr val="000000"/>
                </a:solidFill>
                <a:latin typeface="Arial"/>
              </a:rPr>
              <a:t>8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) occupa 72x72x8 = 41472 bit = 5184 byte = circa 5 KBy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3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Una immagine 300x300 pixel e 16 mil. di colori occupa 300x300x24 =  2160000 bit=270000 byte= 263,67 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3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s: una immagine 1600x1200 pixel e profondità di colore a 16 bit (2 byte) occupa 1600x1200x16 = 3840000 byte = 3,6 M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3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6846840" y="43498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6835680" y="48402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6980400" y="39592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7315200" y="45165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2ED6-9706-43EA-AF41-89F69C852A3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La memorizzazione delle immagin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77768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Le immagini digitali sono memorizzate su file con diversi formati alternativi, ciascuno in grado di codificare un determinato numero di colori e dotato di caratteristiche peculia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lcuni di questi formati prevedono forme di </a:t>
            </a:r>
            <a:r>
              <a:rPr b="1" lang="it-IT" sz="2600" spc="-1" strike="noStrike">
                <a:solidFill>
                  <a:srgbClr val="990033"/>
                </a:solidFill>
                <a:latin typeface="Arial"/>
              </a:rPr>
              <a:t>compression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, cioè di diminuzione dei bit dell’immagine in modo da ridurne l’occupazione di memo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6846840" y="43498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6835680" y="48402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6980400" y="39592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7315200" y="45165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B300-C75F-4BBC-87C8-D7380EB38E2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La compressione delle immagin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Gli algoritmi di compressione si dividono in due catego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990033"/>
                </a:solidFill>
                <a:latin typeface="Arial"/>
              </a:rPr>
              <a:t>Compressione senza perdita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: la codifica avviene riducendo le aree di colore uguale in modo tale da poter ricostruire esattamente l’immagine originale; ha un rapporto medio di compressione di 2:1 (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ossless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990033"/>
                </a:solidFill>
                <a:latin typeface="Arial"/>
              </a:rPr>
              <a:t>Compressione con perdita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: la codifica avviene eliminando definitivamente alcune informazioni statisticamente meno rilevanti per la ricostruzione dell’immagine; permette rapporti di compressione fino a 100:1 (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ossy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6846840" y="43498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6835680" y="48402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6980400" y="39592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7315200" y="45165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01F9-31A7-45F1-AEF6-72F830C2372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I formati di immagine digita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77768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 i formati di immagini digitali bitmap più diffusi ricordia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JPEG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: supporta una profondità di colore fino a 24 bit e adotta una compressione con perdita, che consente di scegliere un rapporto di compressione variabile fino ad un massimo di 100:1 .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Arial"/>
              </a:rPr>
              <a:t>Molto usato sul Web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, ottimo per fotografie, quadri, disegni molto sfuma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TIFF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: supporta profondità di colore fino a 24 bit. Un file Tiff puo’ essere compresso (metodo lossless) o non compresso. Usato per immagini di qualita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BMP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: (formato grafico di Windows) supporta una profondità di colore fino a 24 bit e non adotta compressi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46840" y="43498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835680" y="48402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6980400" y="39592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7315200" y="45165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C346-68E7-45A1-8ADB-CBB10885BBE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Processo complessiv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6846840" y="43498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6835680" y="48402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6980400" y="39592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7315200" y="45165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MCj02341030000[1]"/>
          <p:cNvPicPr/>
          <p:nvPr/>
        </p:nvPicPr>
        <p:blipFill>
          <a:blip r:embed="rId1"/>
          <a:stretch/>
        </p:blipFill>
        <p:spPr>
          <a:xfrm>
            <a:off x="179280" y="1628640"/>
            <a:ext cx="2217960" cy="1576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MCj02344550000[1]"/>
          <p:cNvPicPr/>
          <p:nvPr/>
        </p:nvPicPr>
        <p:blipFill>
          <a:blip r:embed="rId2"/>
          <a:stretch/>
        </p:blipFill>
        <p:spPr>
          <a:xfrm>
            <a:off x="2627280" y="2924280"/>
            <a:ext cx="2033640" cy="1798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MCBS01077_0000[1]"/>
          <p:cNvPicPr/>
          <p:nvPr/>
        </p:nvPicPr>
        <p:blipFill>
          <a:blip r:embed="rId3"/>
          <a:stretch/>
        </p:blipFill>
        <p:spPr>
          <a:xfrm>
            <a:off x="5148360" y="3789360"/>
            <a:ext cx="1584360" cy="1306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MCj02297370000[1]"/>
          <p:cNvPicPr/>
          <p:nvPr/>
        </p:nvPicPr>
        <p:blipFill>
          <a:blip r:embed="rId4"/>
          <a:stretch/>
        </p:blipFill>
        <p:spPr>
          <a:xfrm>
            <a:off x="7164360" y="4941720"/>
            <a:ext cx="1754280" cy="17956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4"/>
          <p:cNvSpPr/>
          <p:nvPr/>
        </p:nvSpPr>
        <p:spPr>
          <a:xfrm>
            <a:off x="2199600" y="1700280"/>
            <a:ext cx="37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. Documento orig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ventuale restauro del suppor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4719240" y="292428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. Scan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6879960" y="39909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3. Oggetto digi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3282480" y="5373720"/>
            <a:ext cx="40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. Editing/restauro dell’oggetto digi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 flipH="1">
            <a:off x="7811640" y="2911320"/>
            <a:ext cx="289080" cy="1079640"/>
          </a:xfrm>
          <a:prstGeom prst="line">
            <a:avLst/>
          </a:prstGeom>
          <a:ln w="507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7164360" y="26370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990033"/>
                </a:solidFill>
                <a:latin typeface="Arial"/>
              </a:rPr>
              <a:t>Argomento della le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61F4-828B-494A-B470-A419881EF26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I formati di immagine digita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846840" y="43498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6835680" y="48402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6980400" y="39592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7315200" y="45165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685800" y="14526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: supporta un numero massimo di 256 colori e adotta una compressione di tipo lossless; è usato per immagini «a tratto» come loghi, fumetti, icone. Esistono anche immagin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- Gif Animat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Gif Trasparenti (uno dei colori dell’immagine puo’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sere reso trasparent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’ uno dei formati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iu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 utilizzati in Int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deriva dal formato Gif, gestisce immagini da 1 a 48 bit, utilizza una compressione lossless, minore rispetto al formato Jpeg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l formato PNG (Portable Network Graphies) è stato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  sviluppato appositamente per il Web e supporta la 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  funzionalità di trasparenz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E7E1-49C8-4AE2-9463-CA681CE658C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mmagini e HTM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4360" y="1483920"/>
            <a:ext cx="8208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 sono tre tipi diversi di file immagine che possono essere inseriti nelle tue pagine HTM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GIF (Graphics Interchange Form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JPG / JPEG (Joint Photographic Experts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PNG (Portable Network Graph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immagini GIF generalmente sono migliori per i grafici e i disegni, mentre le immagini JPEG sono migliori per le fotografie. Questo per due ragioni principali: primo, le immagini GIF possono avere solo 256 colori, mentre le immagini JPEG sono formate da milioni di colori e secondo, il formato GIF è migliore per comprimere immagini semplici, mentre il formato JPEG è stato ottimizzato per immagini più complesse. Migliore è la compressione, più piccola sarà la dimensione del file immagine, e più veloce il caricamento sulla tua pagina. Come probabilmente sai già dall'esperienza, le pagine "pesanti" senza motivazione possono annoiare pesantemente un visitat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gli ultimi anni il formato PNG è diventato sempre più popolare (soprattutto a spese del formato GIF). Il formato PNG è fatto in modo da avere il meglio da entrambi i formati JPEG e GIF: milioni di colori e una compressione effic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C065-BC40-454B-9476-73EC4A24CCC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La digitalizzazione delle immagin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sistono due tipi di immagini digita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Immagini bitmap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600"/>
            </a:b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rappresentate sul supporto digitale come una matrice di pun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Immagini vettoriali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600"/>
            </a:b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rappresentate come funzioni vettoriali che descrivono curve e poligo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6846840" y="43498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6835680" y="48402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6980400" y="39592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7315200" y="45165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546A-6233-4297-B2CB-422B3AA72F9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Le immagini vettorial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el caso di figure geometriche relativamente semplici, invece di descrivere l’immagine punto per punto, conviene specificare: tipo, forma, colore, dimensione e posizione delle figure geometriche (cerchi, rettangoli, linee, frecce e così via) che le compongo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sempio del quadrilatero: descrizione tramite quattro vertici, colore del contorno, spessore del contorno, colore di riempi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sempi: le immagini grafiche già pronte con l’estensione WMF che Word mette a disposizione, le cosiddette clipart, sono realizzate in grafica vettoriale.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nche i font TrueType si basano sulla grafica vettori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6846840" y="43498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6835680" y="48402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6980400" y="39592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7315200" y="45165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MCEN00557_0000[1]"/>
          <p:cNvPicPr/>
          <p:nvPr/>
        </p:nvPicPr>
        <p:blipFill>
          <a:blip r:embed="rId1"/>
          <a:stretch/>
        </p:blipFill>
        <p:spPr>
          <a:xfrm rot="20468400">
            <a:off x="1763640" y="3573000"/>
            <a:ext cx="1584360" cy="111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6" descr="MCj03906600000[1]"/>
          <p:cNvPicPr/>
          <p:nvPr/>
        </p:nvPicPr>
        <p:blipFill>
          <a:blip r:embed="rId2"/>
          <a:stretch/>
        </p:blipFill>
        <p:spPr>
          <a:xfrm>
            <a:off x="2843280" y="3429000"/>
            <a:ext cx="1873080" cy="1839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MCj02251860000[1]"/>
          <p:cNvPicPr/>
          <p:nvPr/>
        </p:nvPicPr>
        <p:blipFill>
          <a:blip r:embed="rId3"/>
          <a:stretch/>
        </p:blipFill>
        <p:spPr>
          <a:xfrm rot="1366200">
            <a:off x="4427280" y="3323880"/>
            <a:ext cx="946080" cy="20494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8"/>
          <p:cNvSpPr/>
          <p:nvPr/>
        </p:nvSpPr>
        <p:spPr>
          <a:xfrm>
            <a:off x="5940360" y="335772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990033"/>
                </a:solidFill>
                <a:latin typeface="Symbol"/>
                <a:ea typeface="Symbol"/>
              </a:rPr>
              <a:t>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6156360" y="402264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urier New"/>
              </a:rPr>
              <a:t>AB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6372360" y="459900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990033"/>
                </a:solidFill>
                <a:latin typeface="Wingdings"/>
                <a:ea typeface="Wingdings"/>
              </a:rPr>
              <a:t>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38BE-862B-4FB7-A37C-F7D032B1063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Le immagini vettorial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77768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vantaggi della descrizione vettoriale sono essenzialmente i seguen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i risparmia sulle dimensioni dell’immagine (al posto della descrizione di tutti i punti basta specificare solo la posizione di pochi punti chiave e le equazioni per collegarl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i possono facilmente ridimensionare senza perdita di qualit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È possibile muovere e modificare ogni singolo elemento geometrico che compone l’immag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846840" y="43498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6835680" y="48402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6980400" y="39592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7315200" y="45165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3B54-740B-474D-8C5E-F05F40B0211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Le immagini bitma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na immagine digitale bitmap è costituita da una matrice di punti detti </a:t>
            </a:r>
            <a:r>
              <a:rPr b="0" i="1" lang="it-IT" sz="2800" spc="-1" strike="noStrike">
                <a:solidFill>
                  <a:srgbClr val="990033"/>
                </a:solidFill>
                <a:latin typeface="Arial"/>
              </a:rPr>
              <a:t>picture element</a:t>
            </a:r>
            <a:r>
              <a:rPr b="0" lang="it-IT" sz="2800" spc="-1" strike="noStrike">
                <a:solidFill>
                  <a:srgbClr val="990033"/>
                </a:solidFill>
                <a:latin typeface="Arial"/>
              </a:rPr>
              <a:t> (pixel)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simili ai punti della retinatura nelle immagini a sta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6846840" y="43498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6835680" y="48402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6980400" y="39592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7315200" y="45165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8" descr="img"/>
          <p:cNvPicPr/>
          <p:nvPr/>
        </p:nvPicPr>
        <p:blipFill>
          <a:blip r:embed="rId1"/>
          <a:stretch/>
        </p:blipFill>
        <p:spPr>
          <a:xfrm>
            <a:off x="3649680" y="35812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156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A7EF-5C86-4534-9745-944461ACC0A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Le immagini bitmap: caratteristich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iascun punto rappresenta una porzione di immagine in un particolare colore (o tono di grigio) e viene codificato mediante uno o più 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numero di punti in una data area determina la </a:t>
            </a:r>
            <a:r>
              <a:rPr b="1" lang="it-IT" sz="2800" spc="-1" strike="noStrike">
                <a:solidFill>
                  <a:srgbClr val="990033"/>
                </a:solidFill>
                <a:latin typeface="Arial"/>
              </a:rPr>
              <a:t>risoluzion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ell’im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numero di colori o di toni di grigio che ciascun punto può rappresentare individua la </a:t>
            </a:r>
            <a:r>
              <a:rPr b="1" lang="it-IT" sz="2800" spc="-1" strike="noStrike">
                <a:solidFill>
                  <a:srgbClr val="990033"/>
                </a:solidFill>
                <a:latin typeface="Arial"/>
              </a:rPr>
              <a:t>profondità di col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6846840" y="43498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6835680" y="48402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6980400" y="39592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7315200" y="45165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488C-5392-4E41-8307-AD2AD12460B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La risoluzio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isolu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sprime la densità dei pixel che compongono l’immagine ed è tanto maggiore quanti più punti sono rappresentati in una data area (e maggiore è la qualità dell'immag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misura in numero di pixel contenuti in una unità lineare dell’immagine, generalmente in un poll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1 inch = 2,54 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unità di misura è 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ixel per inch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s: 72 punti per pollice (PP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termine DPI (dot per inch) viene spesso utilizzato al posto di PPI. ( Il termine DPI dovrebbe essere utilizzato per gli elementi stampati, mentre PPI per le immagini visualizzate sullo scherm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6846840" y="43498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6835680" y="48402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6980400" y="39592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7315200" y="45165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http://external.ak.fbcdn.net/safe_image.php?d=AQB6_1JorXJqD5uw&amp;w=90&amp;h=90&amp;url=http%3A%2F%2F4.bp.blogspot.com%2F-OJkEC8Xu5jg%2FTroeincl1qI%2FAAAAAAAAC3A%2FdfpbAFNZsBE%2Fs72-c%2Fanimali.jpg"/>
          <p:cNvPicPr/>
          <p:nvPr/>
        </p:nvPicPr>
        <p:blipFill>
          <a:blip r:embed="rId1"/>
          <a:stretch/>
        </p:blipFill>
        <p:spPr>
          <a:xfrm>
            <a:off x="-2027160" y="213372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"/>
          <p:cNvPicPr/>
          <p:nvPr/>
        </p:nvPicPr>
        <p:blipFill>
          <a:blip r:embed="rId2"/>
          <a:stretch/>
        </p:blipFill>
        <p:spPr>
          <a:xfrm>
            <a:off x="6492960" y="41734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72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6557-229E-4358-B412-AD635DE2B43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La profondità di colo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4716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profondità di colore è determinata dal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numero di bit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tilizzato per rappresentare ciascun pi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-1724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n’immagine in bianco e nero associa a ciascun punto un solo bit ( 0</a:t>
            </a:r>
            <a:r>
              <a:rPr b="0" lang="it-IT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bianco, 1</a:t>
            </a:r>
            <a:r>
              <a:rPr b="0" lang="it-IT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ner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-1724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on 8 bit (un byte) è possibile rappresentare immagini con 256 toni di colore o di grigio. Infatti 2</a:t>
            </a:r>
            <a:r>
              <a:rPr b="0" lang="it-IT" sz="2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=25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-1724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n’immagine a 65.536 colori associa a ciascun pixel 16 bit (infatti 2</a:t>
            </a:r>
            <a:r>
              <a:rPr b="0" lang="it-IT" sz="2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=6553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-1724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n un’immagine True Color, cioè a colori a 24 bit, ogni pixel può assumere 16 milioni di colori divers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6846840" y="43498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6835680" y="48402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6980400" y="39592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7315200" y="45165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05C8-9144-4498-A42A-1293C6990CD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15:42:10Z</dcterms:created>
  <dc:creator>Giugy &amp; Manu</dc:creator>
  <dc:description/>
  <dc:language>en-US</dc:language>
  <cp:lastModifiedBy>Manu Lucano</cp:lastModifiedBy>
  <dcterms:modified xsi:type="dcterms:W3CDTF">2012-03-27T12:44:05Z</dcterms:modified>
  <cp:revision>49</cp:revision>
  <dc:subject/>
  <dc:title>Le immagini digitali</dc:title>
</cp:coreProperties>
</file>