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wmf" ContentType="image/x-wmf"/>
  <Override PartName="/ppt/media/image17.png" ContentType="image/png"/>
  <Override PartName="/ppt/media/image4.jpeg" ContentType="image/jpeg"/>
  <Override PartName="/ppt/media/image15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6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90520" y="877680"/>
            <a:ext cx="4470480" cy="31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60560" y="4349520"/>
            <a:ext cx="473544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EA1A-09E0-48AA-821D-FEEA6A586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E4CF-84BA-4305-9600-6C6E8C509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9D28C-FCA3-4BAB-972E-D669ADB46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8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86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8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86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EBA1-194C-4D4C-B202-D70A721A7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418A-D992-4308-BBF3-4993898724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1F1-A9AC-43B5-A8A5-F45CD471DF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FAAD-057B-4E77-96AE-609DC827A6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11F0-76E9-403A-9097-FE35854256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EC5D-752B-4313-A569-58BB475045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040" y="450360"/>
            <a:ext cx="780444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7CB-988F-4893-B930-21175FBAF8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BFA-3151-43A7-A037-88DE0A8E6A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290F-F01B-4FFB-93C9-5E2C7E603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74C-EEA6-4F24-A4D0-AE823F4A16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D18-B930-4C50-9057-527C79D3BF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BF0D-9C9A-457D-84A0-C871973AE5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6E4C-851D-4ED2-9F3C-3FAB790BFE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98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86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0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98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86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79B-2C89-4046-BBF9-C7F95B44A7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8F5D3-5FF5-4834-A477-D7E8594568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5CD33-D97F-44A0-9581-EEBF0633F3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5884F-8583-421E-ACA5-F5A7F290FC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0B253-6E24-4252-B45F-D4E8F95F5E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5B9C7-1E3A-43D2-94EC-BD385B276B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F07E-D70F-4559-8DAB-C5F774C5BC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71040" y="450360"/>
            <a:ext cx="780444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0F08C-0C0E-4664-8A92-2AD43ECC9B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51BAD-D596-4B5A-A54A-A1C58C1226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691D3-4944-481F-810B-91103AD4D9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19F6F-DCD6-4DDA-B0EE-BD91C56DCE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F0A0D-3639-416B-88BC-54E8C91010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3A738-6C6C-4A99-AE3C-AA6F568220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098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86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710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098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86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3087A-F96E-40FF-9AFD-B60894D1198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3DDF-36CB-43AB-83F4-487A748CEA9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71040" y="450360"/>
            <a:ext cx="780444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098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86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710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098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86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080B-9A96-4C85-A16F-B29DC884059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71040" y="450360"/>
            <a:ext cx="780444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450360"/>
            <a:ext cx="780444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525B-E76A-493B-8F2B-5364F5C6FF5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098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486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710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098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486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01FA1-11FD-41CE-B75C-732A2703E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3E1C-8E43-4A14-BEE1-9CB6DF22D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ACD92-077D-449A-8161-A6ADDAF81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06280"/>
            <a:ext cx="82202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086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3280"/>
            <a:ext cx="212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701C3-D6C9-4338-9772-16725B4696AE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206280"/>
            <a:ext cx="82202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086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8612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Bernardo Pedone, Informatica di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AB1233A-9E76-4117-8EC4-BD831415772B}" type="slidenum">
              <a:rPr b="0" lang="it-IT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206280"/>
            <a:ext cx="82202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19717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FCBFC80-F586-42E2-A347-619FC786CC19}" type="slidenum">
              <a:rPr b="0" lang="it-IT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cap="sq"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cap="sq"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66720" y="1055520"/>
            <a:ext cx="740268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INTRO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Il termine </a:t>
            </a:r>
            <a:r>
              <a:rPr b="1" lang="it-IT" sz="2800" spc="-1" strike="noStrike">
                <a:solidFill>
                  <a:srgbClr val="94006b"/>
                </a:solidFill>
                <a:latin typeface="Arial"/>
                <a:ea typeface="Times New Roman"/>
              </a:rPr>
              <a:t>Informatica</a:t>
            </a:r>
            <a:r>
              <a:rPr b="0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 deriva dalla fusione dei termini </a:t>
            </a:r>
            <a:r>
              <a:rPr b="0" lang="it-IT" sz="1800" spc="-1" strike="noStrike">
                <a:solidFill>
                  <a:srgbClr val="2323dc"/>
                </a:solidFill>
                <a:latin typeface="Arial"/>
                <a:ea typeface="Times New Roman"/>
              </a:rPr>
              <a:t>INFORmazione autoMATICA</a:t>
            </a:r>
            <a:r>
              <a:rPr b="0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  si intende indicare la scienza che ha il compito di raccogliere, organizzare, conservare e distribuire le informazioni tramite sistemi automatici di elaborazione dei d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Il termine </a:t>
            </a:r>
            <a:r>
              <a:rPr b="1" lang="it-IT" sz="2800" spc="-1" strike="noStrike">
                <a:solidFill>
                  <a:srgbClr val="94006b"/>
                </a:solidFill>
                <a:latin typeface="Arial"/>
                <a:ea typeface="Times New Roman"/>
              </a:rPr>
              <a:t>Telematica</a:t>
            </a:r>
            <a:r>
              <a:rPr b="0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 deriva dalla fusione di </a:t>
            </a:r>
            <a:r>
              <a:rPr b="0" lang="it-IT" sz="1800" spc="-1" strike="noStrike">
                <a:solidFill>
                  <a:srgbClr val="2300dc"/>
                </a:solidFill>
                <a:latin typeface="Arial"/>
                <a:ea typeface="Times New Roman"/>
              </a:rPr>
              <a:t>TELEcomunicazione e inforMATICA</a:t>
            </a:r>
            <a:r>
              <a:rPr b="0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 e nasce dall’intreccio tecnologico delle comunicazioni con i computer e si occupa dell’uso delle tecnologie informatiche nell’ambito delle telecomunicazio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Con il termine </a:t>
            </a:r>
            <a:r>
              <a:rPr b="1" lang="it-IT" sz="2200" spc="-1" strike="noStrike">
                <a:solidFill>
                  <a:srgbClr val="94006b"/>
                </a:solidFill>
                <a:latin typeface="Arial"/>
                <a:ea typeface="Times New Roman"/>
              </a:rPr>
              <a:t>File</a:t>
            </a:r>
            <a:r>
              <a:rPr b="0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 si indica un insieme omogeneo di dati registrato in modo permanente su un supporto di memorizzaz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Con il termine </a:t>
            </a:r>
            <a:r>
              <a:rPr b="1" lang="it-IT" sz="2000" spc="-1" strike="noStrike">
                <a:solidFill>
                  <a:srgbClr val="94006b"/>
                </a:solidFill>
                <a:latin typeface="Arial"/>
                <a:ea typeface="Times New Roman"/>
              </a:rPr>
              <a:t>M</a:t>
            </a:r>
            <a:r>
              <a:rPr b="1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ultimediale</a:t>
            </a:r>
            <a:r>
              <a:rPr b="0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 si intende l’utilizzo integrato e in maniera contemporanea di audio, video, testo e immagi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rbel"/>
              </a:rPr>
              <a:t>La tast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9040" y="1857240"/>
            <a:ext cx="82296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La tastiera è la principale unità di input. Permette di dare comandi al computer scrivendo il testo dei comandi, oppure pigiando alcuni tasti particolari detti tasti fun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L’uso principale della tastiera è quello di inserire dati: lettere, numeri e simboli spec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7BC45-FEF5-4D35-B078-399996F5A039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33480" y="3478320"/>
            <a:ext cx="704520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0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 fill="hold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rbel"/>
              </a:rPr>
              <a:t>Unità di usc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9040" y="1728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Le </a:t>
            </a:r>
            <a:r>
              <a:rPr b="1" lang="it-IT" sz="3200" spc="-1" strike="noStrike">
                <a:solidFill>
                  <a:srgbClr val="000000"/>
                </a:solidFill>
                <a:latin typeface="Corbel"/>
              </a:rPr>
              <a:t>unità di uscita </a:t>
            </a: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sono tutti quei dispositivi che permettono di comunicare all’esterno i risultati dell’elaborazione del compu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Quelli più comuni s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il monit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la stampante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le casse acusti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8AC40-ACE5-4851-BFEB-3E411F8F5961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183360" y="3786120"/>
            <a:ext cx="181764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0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0" fill="hold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136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Corbel"/>
              </a:rPr>
              <a:t>DISPOSITIVI DI MEMORIA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295280" y="1981080"/>
            <a:ext cx="2055960" cy="3965760"/>
            <a:chOff x="1295280" y="1981080"/>
            <a:chExt cx="2055960" cy="3965760"/>
          </a:xfrm>
        </p:grpSpPr>
        <p:sp>
          <p:nvSpPr>
            <p:cNvPr id="263" name=""/>
            <p:cNvSpPr/>
            <p:nvPr/>
          </p:nvSpPr>
          <p:spPr>
            <a:xfrm>
              <a:off x="1447920" y="1981080"/>
              <a:ext cx="1751040" cy="760680"/>
            </a:xfrm>
            <a:prstGeom prst="rect">
              <a:avLst/>
            </a:prstGeom>
            <a:solidFill>
              <a:srgbClr val="99ccff"/>
            </a:solidFill>
            <a:ln cap="sq" w="9360">
              <a:solidFill>
                <a:srgbClr val="cc99ff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MEMORI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DI MAS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5280" y="3429000"/>
              <a:ext cx="2055960" cy="2517840"/>
            </a:xfrm>
            <a:prstGeom prst="rect">
              <a:avLst/>
            </a:prstGeom>
            <a:solidFill>
              <a:srgbClr val="99ccff"/>
            </a:solidFill>
            <a:ln cap="sq" w="9360">
              <a:solidFill>
                <a:srgbClr val="cc99ff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FLOPPY DIS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HARD-DIS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CD-R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DV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UNITA’ NAST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Z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"/>
            <p:cNvCxnSpPr>
              <a:stCxn id="263" idx="2"/>
              <a:endCxn id="264" idx="0"/>
            </p:cNvCxnSpPr>
            <p:nvPr/>
          </p:nvCxnSpPr>
          <p:spPr>
            <a:xfrm rot="5400000">
              <a:off x="1981440" y="3084840"/>
              <a:ext cx="685080" cy="1080"/>
            </a:xfrm>
            <a:prstGeom prst="bentConnector3">
              <a:avLst>
                <a:gd name="adj1" fmla="val 50893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</p:grpSp>
      <p:grpSp>
        <p:nvGrpSpPr>
          <p:cNvPr id="266" name=""/>
          <p:cNvGrpSpPr/>
          <p:nvPr/>
        </p:nvGrpSpPr>
        <p:grpSpPr>
          <a:xfrm>
            <a:off x="4876920" y="1981080"/>
            <a:ext cx="2817720" cy="3965760"/>
            <a:chOff x="4876920" y="1981080"/>
            <a:chExt cx="2817720" cy="3965760"/>
          </a:xfrm>
        </p:grpSpPr>
        <p:sp>
          <p:nvSpPr>
            <p:cNvPr id="267" name=""/>
            <p:cNvSpPr/>
            <p:nvPr/>
          </p:nvSpPr>
          <p:spPr>
            <a:xfrm>
              <a:off x="5410080" y="1981080"/>
              <a:ext cx="1751040" cy="760680"/>
            </a:xfrm>
            <a:prstGeom prst="rect">
              <a:avLst/>
            </a:prstGeom>
            <a:solidFill>
              <a:srgbClr val="ccffcc"/>
            </a:solidFill>
            <a:ln cap="sq" w="9360">
              <a:solidFill>
                <a:srgbClr val="339966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MEMO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VELO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76920" y="3429000"/>
              <a:ext cx="2817720" cy="2517840"/>
            </a:xfrm>
            <a:prstGeom prst="rect">
              <a:avLst/>
            </a:prstGeom>
            <a:solidFill>
              <a:srgbClr val="ccffcc"/>
            </a:solidFill>
            <a:ln cap="sq" w="9360">
              <a:solidFill>
                <a:srgbClr val="339966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RO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 </a:t>
              </a: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(Read only memor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SOLA LETTU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(Random access memor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LETTURA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 </a:t>
              </a: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SCITTU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9" name=""/>
            <p:cNvCxnSpPr>
              <a:stCxn id="267" idx="2"/>
              <a:endCxn id="268" idx="0"/>
            </p:cNvCxnSpPr>
            <p:nvPr/>
          </p:nvCxnSpPr>
          <p:spPr>
            <a:xfrm rot="5400000">
              <a:off x="5943960" y="3084840"/>
              <a:ext cx="685080" cy="1080"/>
            </a:xfrm>
            <a:prstGeom prst="bentConnector2">
              <a:avLst/>
            </a:prstGeom>
            <a:ln cap="sq" w="9360">
              <a:solidFill>
                <a:srgbClr val="000000"/>
              </a:solidFill>
              <a:round/>
            </a:ln>
          </p:spPr>
        </p:cxnSp>
      </p:grpSp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rbel"/>
              </a:rPr>
              <a:t>Unità di mem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La memoria centrale è composta dalle memorie RAM e ROM, collocate sulla scheda m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I dispositivi esterni di memoria o memorie di massa so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  <a:ea typeface="Lucida Sans Unicode"/>
              </a:rPr>
              <a:t>Hard disk o disco rig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  <a:ea typeface="Lucida Sans Unicode"/>
              </a:rPr>
              <a:t>Floppy d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rbel"/>
                <a:ea typeface="Lucida Sans Unicode"/>
              </a:rPr>
              <a:t>CD-ROM (Compact Disk Read Only Memory)</a:t>
            </a:r>
            <a:r>
              <a:rPr b="0" lang="it-IT" sz="2000" spc="-1" strike="noStrike">
                <a:solidFill>
                  <a:srgbClr val="000000"/>
                </a:solidFill>
                <a:latin typeface="Corbe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  <a:ea typeface="Lucida Sans Unicode"/>
              </a:rPr>
              <a:t>DVD (Digital Video Dis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  <a:ea typeface="Lucida Sans Unicode"/>
              </a:rPr>
              <a:t>Memorie U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Ultimo tipo di memoria esterna è la memoria USB Key.  Si tratta di piccoli dispositivi portatili dalle dimensioni di una penna da taschino che si collegano direttamente a una porta USB di qualsiasi compu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La loro capacità di memoria attualmente è compresa tra 64 Mb e 256 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FEB65-B302-4B53-A652-000686AEC352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786720" y="2857680"/>
            <a:ext cx="1800000" cy="1104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0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0" fill="hold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658800" y="366840"/>
          <a:ext cx="8116920" cy="259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66840"/>
                    <a:ext cx="8116920" cy="25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514440" y="2965320"/>
          <a:ext cx="7727760" cy="1386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440" y="2965320"/>
                    <a:ext cx="772776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5613480" y="4351320"/>
            <a:ext cx="2852640" cy="22716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611280" y="4749840"/>
            <a:ext cx="3263760" cy="1406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 fill="hold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 fill="hold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rbel"/>
              </a:rPr>
              <a:t>Computer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1600200"/>
            <a:ext cx="8229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Corbel"/>
              </a:rPr>
              <a:t>All’interno del computer case troviamo tutti i dispositivi indicati nella figu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77079-843A-47F7-96D7-19E0AD817DFD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008000" y="2349360"/>
            <a:ext cx="7128000" cy="393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0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5760" y="277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 u="sng">
                <a:solidFill>
                  <a:srgbClr val="000000"/>
                </a:solidFill>
                <a:uFillTx/>
                <a:latin typeface="Corbel"/>
              </a:rPr>
              <a:t>Panoramica sull’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23840" y="1633680"/>
            <a:ext cx="8913960" cy="3549600"/>
            <a:chOff x="123840" y="1633680"/>
            <a:chExt cx="8913960" cy="3549600"/>
          </a:xfrm>
        </p:grpSpPr>
        <p:graphicFrame>
          <p:nvGraphicFramePr>
            <p:cNvPr id="286" name=""/>
            <p:cNvGraphicFramePr/>
            <p:nvPr/>
          </p:nvGraphicFramePr>
          <p:xfrm>
            <a:off x="123840" y="1633680"/>
            <a:ext cx="8913960" cy="3549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3840" y="1633680"/>
                      <a:ext cx="8913960" cy="35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8" name=""/>
            <p:cNvSpPr/>
            <p:nvPr/>
          </p:nvSpPr>
          <p:spPr>
            <a:xfrm>
              <a:off x="123840" y="1633680"/>
              <a:ext cx="8913960" cy="35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04920" y="1293840"/>
            <a:ext cx="84596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7160" y="1071720"/>
            <a:ext cx="83818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162000"/>
            <a:ext cx="77724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900" spc="-1" strike="noStrike" u="sng">
                <a:solidFill>
                  <a:srgbClr val="000000"/>
                </a:solidFill>
                <a:uFillTx/>
                <a:latin typeface="Corbel"/>
              </a:rPr>
              <a:t>Dispositivi del compute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3680" y="1673280"/>
            <a:ext cx="85359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733320"/>
                <a:tab algn="l" pos="903240"/>
                <a:tab algn="l" pos="1817640"/>
                <a:tab algn="l" pos="2732040"/>
                <a:tab algn="l" pos="3646440"/>
                <a:tab algn="l" pos="4560840"/>
                <a:tab algn="l" pos="5475240"/>
                <a:tab algn="l" pos="6389640"/>
                <a:tab algn="l" pos="7304040"/>
                <a:tab algn="l" pos="8218440"/>
                <a:tab algn="l" pos="9132840"/>
                <a:tab algn="l" pos="1004724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rbel"/>
              </a:rPr>
              <a:t>Input</a:t>
            </a: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Tastiera,... </a:t>
            </a:r>
            <a:r>
              <a:rPr b="1" lang="it-IT" sz="2000" spc="-1" strike="noStrike">
                <a:solidFill>
                  <a:srgbClr val="000000"/>
                </a:solidFill>
                <a:latin typeface="Corbel"/>
              </a:rPr>
              <a:t>Output</a:t>
            </a: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: Monitor,... </a:t>
            </a:r>
            <a:r>
              <a:rPr b="1" lang="it-IT" sz="2000" spc="-1" strike="noStrike">
                <a:solidFill>
                  <a:srgbClr val="000000"/>
                </a:solidFill>
                <a:latin typeface="Corbel"/>
              </a:rPr>
              <a:t>Porte</a:t>
            </a: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: USB, ... </a:t>
            </a:r>
            <a:r>
              <a:rPr b="1" lang="it-IT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733320"/>
                <a:tab algn="l" pos="903240"/>
                <a:tab algn="l" pos="1817640"/>
                <a:tab algn="l" pos="2732040"/>
                <a:tab algn="l" pos="3646440"/>
                <a:tab algn="l" pos="4560840"/>
                <a:tab algn="l" pos="5475240"/>
                <a:tab algn="l" pos="6389640"/>
                <a:tab algn="l" pos="7304040"/>
                <a:tab algn="l" pos="8218440"/>
                <a:tab algn="l" pos="9132840"/>
                <a:tab algn="l" pos="10047240"/>
                <a:tab algn="l" pos="1032336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733320"/>
                <a:tab algn="l" pos="903240"/>
                <a:tab algn="l" pos="1817640"/>
                <a:tab algn="l" pos="2732040"/>
                <a:tab algn="l" pos="3646440"/>
                <a:tab algn="l" pos="4560840"/>
                <a:tab algn="l" pos="5475240"/>
                <a:tab algn="l" pos="6389640"/>
                <a:tab algn="l" pos="7304040"/>
                <a:tab algn="l" pos="8218440"/>
                <a:tab algn="l" pos="9132840"/>
                <a:tab algn="l" pos="10047240"/>
                <a:tab algn="l" pos="1032336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733320"/>
                <a:tab algn="l" pos="903240"/>
                <a:tab algn="l" pos="1817640"/>
                <a:tab algn="l" pos="2732040"/>
                <a:tab algn="l" pos="3646440"/>
                <a:tab algn="l" pos="4560840"/>
                <a:tab algn="l" pos="5475240"/>
                <a:tab algn="l" pos="6389640"/>
                <a:tab algn="l" pos="7304040"/>
                <a:tab algn="l" pos="8218440"/>
                <a:tab algn="l" pos="9132840"/>
                <a:tab algn="l" pos="10047240"/>
                <a:tab algn="l" pos="1032336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733320"/>
                <a:tab algn="l" pos="903240"/>
                <a:tab algn="l" pos="1817640"/>
                <a:tab algn="l" pos="2732040"/>
                <a:tab algn="l" pos="3646440"/>
                <a:tab algn="l" pos="4560840"/>
                <a:tab algn="l" pos="5475240"/>
                <a:tab algn="l" pos="6389640"/>
                <a:tab algn="l" pos="7304040"/>
                <a:tab algn="l" pos="8218440"/>
                <a:tab algn="l" pos="9132840"/>
                <a:tab algn="l" pos="10047240"/>
                <a:tab algn="l" pos="1032336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2000" y="914400"/>
            <a:ext cx="881856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Consentono alla macchina di interfacciarsi con il mondo esterno ricevendo informazioni e ritrasmettendole sotto forma di risultati, eleborazio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5520" y="2162160"/>
            <a:ext cx="83930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040" bIns="45000" anchor="t">
            <a:noAutofit/>
          </a:bodyPr>
          <a:p>
            <a:pPr algn="ctr">
              <a:lnSpc>
                <a:spcPct val="98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L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Corbel"/>
              </a:rPr>
              <a:t>’hardware è l’insieme delle componenti fisiche del comp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8000"/>
              </a:lnSpc>
              <a:spcBef>
                <a:spcPts val="143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rbel"/>
              </a:rPr>
              <a:t>La scheda madre (motherboard) supporta, connette e controlla tutte le componenti HW tramite un canale composto da fili di rame</a:t>
            </a: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orbel"/>
              </a:rPr>
              <a:t>bus di sistema</a:t>
            </a: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9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Corbel"/>
              </a:rPr>
              <a:t>MEMO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9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RAM: memoria temporanea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9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9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ROM: memoria non volatile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9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9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CACHE: memoria nascosta e veloce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9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9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Memorie di Massa: memoria permanente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9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638680" y="3351240"/>
            <a:ext cx="3353040" cy="32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 fill="hold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 fill="hold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 fill="hold"/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88880" y="1698480"/>
            <a:ext cx="839952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algn="just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Corbel"/>
              </a:rPr>
              <a:t>Unità di memoria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Corbel"/>
              </a:rPr>
              <a:t>RAM (Random Access Memory)</a:t>
            </a:r>
            <a:r>
              <a:rPr b="0" lang="it-IT" sz="2400" spc="-1" strike="noStrike">
                <a:solidFill>
                  <a:srgbClr val="000000"/>
                </a:solidFill>
                <a:latin typeface="Corbel"/>
              </a:rPr>
              <a:t>  memoria ad accesso casuale, temporanea, è un accesso veloce serve per le elaborazioni (512 Mbyte, 4 Gby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Corbel"/>
              </a:rPr>
              <a:t>Memoria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Corbel"/>
              </a:rPr>
              <a:t>ROM (Read Only Memory)</a:t>
            </a:r>
            <a:r>
              <a:rPr b="0" lang="it-IT" sz="2400" spc="-1" strike="noStrike">
                <a:solidFill>
                  <a:srgbClr val="000000"/>
                </a:solidFill>
                <a:latin typeface="Corbel"/>
              </a:rPr>
              <a:t>  memoria non volatile, contenente dati disponibili per la sola consultazione, in particolare il </a:t>
            </a:r>
            <a:r>
              <a:rPr b="0" i="1" lang="it-IT" sz="2400" spc="-1" strike="noStrike">
                <a:solidFill>
                  <a:srgbClr val="000000"/>
                </a:solidFill>
                <a:latin typeface="Corbel"/>
              </a:rPr>
              <a:t>Bios </a:t>
            </a:r>
            <a:r>
              <a:rPr b="0" lang="it-IT" sz="24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i="1" lang="it-IT" sz="2400" spc="-1" strike="noStrike">
                <a:solidFill>
                  <a:srgbClr val="000000"/>
                </a:solidFill>
                <a:latin typeface="Corbel"/>
              </a:rPr>
              <a:t>B</a:t>
            </a:r>
            <a:r>
              <a:rPr b="0" i="1" lang="it-IT" sz="2400" spc="-1" strike="noStrike">
                <a:solidFill>
                  <a:srgbClr val="000000"/>
                </a:solidFill>
                <a:latin typeface="Corbel"/>
              </a:rPr>
              <a:t>asic </a:t>
            </a:r>
            <a:r>
              <a:rPr b="1" i="1" lang="it-IT" sz="2400" spc="-1" strike="noStrike">
                <a:solidFill>
                  <a:srgbClr val="000000"/>
                </a:solidFill>
                <a:latin typeface="Corbel"/>
              </a:rPr>
              <a:t>I</a:t>
            </a:r>
            <a:r>
              <a:rPr b="0" i="1" lang="it-IT" sz="2400" spc="-1" strike="noStrike">
                <a:solidFill>
                  <a:srgbClr val="000000"/>
                </a:solidFill>
                <a:latin typeface="Corbel"/>
              </a:rPr>
              <a:t>nput </a:t>
            </a:r>
            <a:r>
              <a:rPr b="1" i="1" lang="it-IT" sz="24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i="1" lang="it-IT" sz="2400" spc="-1" strike="noStrike">
                <a:solidFill>
                  <a:srgbClr val="000000"/>
                </a:solidFill>
                <a:latin typeface="Corbel"/>
              </a:rPr>
              <a:t>utput </a:t>
            </a:r>
            <a:r>
              <a:rPr b="1" i="1" lang="it-IT" sz="24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i="1" lang="it-IT" sz="2400" spc="-1" strike="noStrike">
                <a:solidFill>
                  <a:srgbClr val="000000"/>
                </a:solidFill>
                <a:latin typeface="Corbel"/>
              </a:rPr>
              <a:t>istem), </a:t>
            </a:r>
            <a:r>
              <a:rPr b="0" lang="it-IT" sz="2400" spc="-1" strike="noStrike">
                <a:solidFill>
                  <a:srgbClr val="000000"/>
                </a:solidFill>
                <a:latin typeface="Corbel"/>
              </a:rPr>
              <a:t>il primo codice che viene eseguito: testa l’hardware, carica il sistema operativo, funge da interfaccia tra hardware e periferi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Corbel"/>
              </a:rPr>
              <a:t>Memoria di massa</a:t>
            </a:r>
            <a:r>
              <a:rPr b="0" lang="it-IT" sz="2400" spc="-1" strike="noStrike">
                <a:solidFill>
                  <a:srgbClr val="000000"/>
                </a:solidFill>
                <a:latin typeface="Corbel"/>
              </a:rPr>
              <a:t>  memoria permanente, conserva i dati.               Tecnicamente non fa parte del computer. Floppy disk (1.44 Megabyte), CD (700 Megabyte), DVD (4.7 </a:t>
            </a:r>
            <a:r>
              <a:rPr b="0" lang="it-IT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Gigabyte)</a:t>
            </a:r>
            <a:r>
              <a:rPr b="0" lang="it-IT" sz="2400" spc="-1" strike="noStrike">
                <a:solidFill>
                  <a:srgbClr val="000000"/>
                </a:solidFill>
                <a:latin typeface="Corbel"/>
              </a:rPr>
              <a:t>, Blu-ray (55 Gigabyte), pendrive (64 Gigabyte), Hard disk (1.5 Terabyte)</a:t>
            </a:r>
            <a:r>
              <a:rPr b="0" lang="it-IT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71760" y="488880"/>
            <a:ext cx="30895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rbel"/>
              </a:rPr>
              <a:t>MEM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04920" y="228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rbel"/>
              </a:rPr>
              <a:t>HARDWARE: MEMORIE DI MAS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38862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3880" y="1600200"/>
          <a:ext cx="6051600" cy="30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6051600" cy="30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1523880" y="11430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b80047"/>
                </a:solidFill>
                <a:latin typeface="Corbel"/>
              </a:rPr>
              <a:t>Hard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4952880"/>
            <a:ext cx="8512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b80047"/>
                </a:solidFill>
                <a:latin typeface="Corbel"/>
              </a:rPr>
              <a:t>La capacità degli attuali HD si misura in GB (60,80,120,200 ecc.). Periodicamente è bene effettuare una </a:t>
            </a:r>
            <a:r>
              <a:rPr b="1" lang="it-IT" sz="2400" spc="-1" strike="noStrike" u="sng">
                <a:solidFill>
                  <a:srgbClr val="b80047"/>
                </a:solidFill>
                <a:uFillTx/>
                <a:latin typeface="Corbel"/>
              </a:rPr>
              <a:t>deframmentazione</a:t>
            </a:r>
            <a:r>
              <a:rPr b="1" lang="it-IT" sz="2400" spc="-1" strike="noStrike">
                <a:solidFill>
                  <a:srgbClr val="b80047"/>
                </a:solidFill>
                <a:latin typeface="Corbel"/>
              </a:rPr>
              <a:t> per preservarne le prestazio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166680"/>
            <a:ext cx="777240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rbel"/>
              </a:rPr>
              <a:t>La struttura fisica del compu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646360" y="1228680"/>
            <a:ext cx="4183200" cy="2639880"/>
            <a:chOff x="2646360" y="1228680"/>
            <a:chExt cx="4183200" cy="263988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2646360" y="1228680"/>
              <a:ext cx="418320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646360" y="1228680"/>
              <a:ext cx="4183200" cy="26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95200" y="4129200"/>
            <a:ext cx="871380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94476b"/>
                </a:solidFill>
                <a:latin typeface="Corbel"/>
              </a:rPr>
              <a:t>Con </a:t>
            </a:r>
            <a:r>
              <a:rPr b="1" lang="it-IT" sz="2000" spc="-1" strike="noStrike">
                <a:solidFill>
                  <a:srgbClr val="94476b"/>
                </a:solidFill>
                <a:latin typeface="Corbel"/>
              </a:rPr>
              <a:t>HARDWARE</a:t>
            </a:r>
            <a:r>
              <a:rPr b="0" lang="it-IT" sz="2000" spc="-1" strike="noStrike">
                <a:solidFill>
                  <a:srgbClr val="94476b"/>
                </a:solidFill>
                <a:latin typeface="Corbel"/>
              </a:rPr>
              <a:t> si indicano tutte le componenti del PC che hanno consistenza fisica, interne od esterne, elettroniche o elettromeccaniche. Deriva da hard=duro e ware=compo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94476b"/>
                </a:solidFill>
                <a:latin typeface="Corbel"/>
              </a:rPr>
              <a:t>Con </a:t>
            </a:r>
            <a:r>
              <a:rPr b="1" lang="it-IT" sz="2000" spc="-1" strike="noStrike">
                <a:solidFill>
                  <a:srgbClr val="94476b"/>
                </a:solidFill>
                <a:latin typeface="Corbel"/>
              </a:rPr>
              <a:t>SOFTWARE</a:t>
            </a:r>
            <a:r>
              <a:rPr b="0" lang="it-IT" sz="2000" spc="-1" strike="noStrike">
                <a:solidFill>
                  <a:srgbClr val="94476b"/>
                </a:solidFill>
                <a:latin typeface="Corbel"/>
              </a:rPr>
              <a:t> si indica la parte “evanescente” dell’elaboratore, cioè l’insieme dei programmi che consentono all’hardware di svolgere compiti uti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04920" y="228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rbel"/>
              </a:rPr>
              <a:t>Prestazioni del compu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38862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3840" y="3205080"/>
            <a:ext cx="81532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b80047"/>
                </a:solidFill>
                <a:latin typeface="Corbel"/>
              </a:rPr>
              <a:t>Velocità della CP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b80047"/>
                </a:solidFill>
                <a:latin typeface="Corbel"/>
              </a:rPr>
              <a:t>Dimensioni e qualità della Memoria Centr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b80047"/>
                </a:solidFill>
                <a:latin typeface="Corbel"/>
              </a:rPr>
              <a:t>Velocità delle memorie di mas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b80047"/>
                </a:solidFill>
                <a:latin typeface="Corbel"/>
              </a:rPr>
              <a:t>Presenza di dispositivi per accelerare determinate operazion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b80047"/>
                </a:solidFill>
                <a:latin typeface="Corbel"/>
              </a:rPr>
              <a:t>Utilizzo contemporaneo di più program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4960" y="1928880"/>
            <a:ext cx="71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b80047"/>
                </a:solidFill>
                <a:latin typeface="Corbel"/>
              </a:rPr>
              <a:t>Le prestazioni del PC dipendono da fattori qu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0"/>
            <a:ext cx="7772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rbel"/>
              </a:rPr>
              <a:t>Cosa si può fare 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Corbel"/>
              </a:rPr>
              <a:t>il 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4200" y="1957320"/>
            <a:ext cx="800748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333366"/>
                </a:solidFill>
                <a:latin typeface="Corbel"/>
              </a:rPr>
              <a:t>SCRIVERE CON IL 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333366"/>
                </a:solidFill>
                <a:latin typeface="Corbel"/>
              </a:rPr>
              <a:t>CALCO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333366"/>
                </a:solidFill>
                <a:latin typeface="Corbel"/>
              </a:rPr>
              <a:t>PRESENT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333366"/>
                </a:solidFill>
                <a:latin typeface="Corbel"/>
              </a:rPr>
              <a:t>COMUNI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333366"/>
                </a:solidFill>
                <a:latin typeface="Corbel"/>
              </a:rPr>
              <a:t>NAVI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333366"/>
                </a:solidFill>
                <a:latin typeface="Corbel"/>
              </a:rPr>
              <a:t>Saper utilizzare i sevizi e le risorse on line attraverso l’esecuzione di operazioni appropr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rbel"/>
              </a:rPr>
              <a:t>Il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600200"/>
            <a:ext cx="822960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Un computer è una macchina in grado di accettare informazioni provenienti dall’esterno, di effettuare su di esse operazioni aritmetiche e logiche e quindi di fornire risultati in forma comprensib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Per svolgere ciascuna di queste funzioni possiede dei dispositivi idon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2C18F-B044-4E15-9601-93F8D7E892C8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95080" y="1707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rbel"/>
              </a:rPr>
              <a:t>Dispositivo in grado di acquisire informazioni dall’esterno, reagire alle stes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rbel"/>
              </a:rPr>
              <a:t>E inviare informazioni dirette di nuovo all’es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rbel"/>
              </a:rPr>
              <a:t>Per elaborare le informazioni occorre un sistema di dispositivi meccanici 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rbel"/>
              </a:rPr>
              <a:t>elettronici (HARDWARE) e di strumenti che ne permettano e ne definis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rbel"/>
              </a:rPr>
              <a:t>il funzionamento (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124080"/>
            <a:ext cx="30492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3124080"/>
            <a:ext cx="22860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95280" y="2660760"/>
            <a:ext cx="6477120" cy="23590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603520" y="457200"/>
            <a:ext cx="47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rbel"/>
              </a:rPr>
              <a:t>COS’E’ UN COMPU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45540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ff99ff"/>
                </a:solidFill>
                <a:latin typeface="Corbel"/>
              </a:rPr>
              <a:t>COMPONENTI DI UN PC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5410080"/>
            <a:ext cx="6172200" cy="785520"/>
          </a:xfrm>
          <a:prstGeom prst="rect">
            <a:avLst/>
          </a:prstGeom>
          <a:noFill/>
          <a:ln cap="sq" w="19080">
            <a:solidFill>
              <a:srgbClr val="ccffff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99ff"/>
                </a:solidFill>
                <a:latin typeface="Corbel"/>
              </a:rPr>
              <a:t>IL TUTTO E’ RACCHIUSO NELL’UNITA’ CENT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99ff"/>
                </a:solidFill>
                <a:latin typeface="Corbel"/>
              </a:rPr>
              <a:t>CHIAMATA CABINET O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324480" cy="3780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5540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4440" y="1917720"/>
            <a:ext cx="2303280" cy="37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2300dc"/>
                </a:solidFill>
                <a:latin typeface="Corbel"/>
              </a:rPr>
              <a:t>La CPU rappresenta il cuore del computer. E’ costituita da un </a:t>
            </a:r>
            <a:r>
              <a:rPr b="0" i="1" lang="it-IT" sz="1600" spc="-1" strike="noStrike">
                <a:solidFill>
                  <a:srgbClr val="2300dc"/>
                </a:solidFill>
                <a:latin typeface="Corbel"/>
              </a:rPr>
              <a:t>microprocessore (insieme di circuiti integrati) </a:t>
            </a:r>
            <a:r>
              <a:rPr b="0" lang="it-IT" sz="1600" spc="-1" strike="noStrike">
                <a:solidFill>
                  <a:srgbClr val="2300dc"/>
                </a:solidFill>
                <a:latin typeface="Corbel"/>
              </a:rPr>
              <a:t>posto sulla scheda mad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2300dc"/>
                </a:solidFill>
                <a:latin typeface="Corbel"/>
              </a:rPr>
              <a:t>Contie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2300dc"/>
                </a:solidFill>
                <a:latin typeface="Corbel"/>
              </a:rPr>
              <a:t>L’unità aritmetico-logica(AL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2300dc"/>
                </a:solidFill>
                <a:latin typeface="Corbel"/>
              </a:rPr>
              <a:t>La memoria 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2300dc"/>
                </a:solidFill>
                <a:latin typeface="Corbel"/>
              </a:rPr>
              <a:t>Si collega alla memoria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3657600"/>
            <a:ext cx="1218960" cy="609480"/>
          </a:xfrm>
          <a:prstGeom prst="rect">
            <a:avLst/>
          </a:prstGeom>
          <a:solidFill>
            <a:srgbClr val="ffff99"/>
          </a:solidFill>
          <a:ln cap="sq"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44"/>
                </a:solidFill>
                <a:latin typeface="Arial"/>
              </a:rPr>
              <a:t>Funzione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44"/>
                </a:solidFill>
                <a:latin typeface="Arial"/>
              </a:rPr>
              <a:t>calc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3657600"/>
            <a:ext cx="1219320" cy="609480"/>
          </a:xfrm>
          <a:prstGeom prst="rect">
            <a:avLst/>
          </a:prstGeom>
          <a:solidFill>
            <a:srgbClr val="ffff99"/>
          </a:solidFill>
          <a:ln cap="sq"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44"/>
                </a:solidFill>
                <a:latin typeface="Arial"/>
              </a:rPr>
              <a:t>Funzione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44"/>
                </a:solidFill>
                <a:latin typeface="Arial"/>
              </a:rPr>
              <a:t>cont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5181480"/>
            <a:ext cx="3505320" cy="1067040"/>
          </a:xfrm>
          <a:prstGeom prst="rect">
            <a:avLst/>
          </a:prstGeom>
          <a:solidFill>
            <a:srgbClr val="ffff99"/>
          </a:solidFill>
          <a:ln cap="sq"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44"/>
                </a:solidFill>
                <a:latin typeface="Arial"/>
              </a:rPr>
              <a:t>PERIFERICH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44"/>
                </a:solidFill>
                <a:latin typeface="Arial"/>
              </a:rPr>
              <a:t>Unità disco, cd-rom, stampanti, schede di ret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44"/>
                </a:solidFill>
                <a:latin typeface="Arial"/>
              </a:rPr>
              <a:t>Tastiere, mode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44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44"/>
                </a:solidFill>
                <a:latin typeface="Arial"/>
              </a:rPr>
              <a:t>schede video e audi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489560" y="3124080"/>
            <a:ext cx="69840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81480" y="3124080"/>
            <a:ext cx="762120" cy="53352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4267080"/>
            <a:ext cx="1800" cy="83844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1487520" cy="1663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sp>
        <p:nvSpPr>
          <p:cNvPr id="238" name=""/>
          <p:cNvSpPr/>
          <p:nvPr/>
        </p:nvSpPr>
        <p:spPr>
          <a:xfrm>
            <a:off x="3211560" y="2124000"/>
            <a:ext cx="76212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3136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rbel"/>
              </a:rPr>
              <a:t>DISPOSITIVI DI INPU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819520" y="1752120"/>
            <a:ext cx="3047760" cy="26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dc2300"/>
                </a:solidFill>
                <a:latin typeface="Corbel"/>
              </a:rPr>
              <a:t>TAST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dc2300"/>
                </a:solidFill>
                <a:latin typeface="Corbel"/>
              </a:rPr>
              <a:t>M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dc2300"/>
                </a:solidFill>
                <a:latin typeface="Corbel"/>
              </a:rPr>
              <a:t>TRACKB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dc2300"/>
                </a:solidFill>
                <a:latin typeface="Corbel"/>
              </a:rPr>
              <a:t>TOUCH P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dc2300"/>
                </a:solidFill>
                <a:latin typeface="Corbel"/>
              </a:rPr>
              <a:t>JOYST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dc2300"/>
                </a:solidFill>
                <a:latin typeface="Corbel"/>
              </a:rPr>
              <a:t>PENNA OT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dc2300"/>
                </a:solidFill>
                <a:latin typeface="Corbe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dc2300"/>
                </a:solidFill>
                <a:latin typeface="Corbel"/>
              </a:rPr>
              <a:t>TAVOLETTE GRAFI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9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dc2300"/>
                </a:solidFill>
                <a:latin typeface="Corbel"/>
              </a:rPr>
              <a:t>WEBC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0"/>
          <a:stretch/>
        </p:blipFill>
        <p:spPr>
          <a:xfrm>
            <a:off x="533520" y="4572000"/>
            <a:ext cx="2157120" cy="901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1"/>
          <a:stretch/>
        </p:blipFill>
        <p:spPr>
          <a:xfrm>
            <a:off x="3733920" y="4724280"/>
            <a:ext cx="1438200" cy="1090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2"/>
          <a:stretch/>
        </p:blipFill>
        <p:spPr>
          <a:xfrm>
            <a:off x="457200" y="2209680"/>
            <a:ext cx="1798560" cy="10177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3"/>
          <a:stretch/>
        </p:blipFill>
        <p:spPr>
          <a:xfrm>
            <a:off x="6553080" y="4572000"/>
            <a:ext cx="1438560" cy="1000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4"/>
          <a:stretch/>
        </p:blipFill>
        <p:spPr>
          <a:xfrm>
            <a:off x="6248520" y="1981080"/>
            <a:ext cx="2017440" cy="1427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rbel"/>
              </a:rPr>
              <a:t>Unità cent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rbel"/>
              </a:rPr>
              <a:t>Attraverso le unità di ingresso il computer acquisisce i da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rbel"/>
              </a:rPr>
              <a:t>L’ unità centrale di elaborazione elabora le informazion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rbel"/>
              </a:rPr>
              <a:t>Le unità di uscita comunicano i risulta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9DFC0-F5A8-4E12-8CBD-FE7696B71F0A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538280" y="2857680"/>
            <a:ext cx="6067440" cy="3779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rbel"/>
              </a:rPr>
              <a:t>Unità di ingr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600200"/>
            <a:ext cx="822960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rbel"/>
              </a:rPr>
              <a:t>Le </a:t>
            </a:r>
            <a:r>
              <a:rPr b="1" lang="it-IT" sz="3000" spc="-1" strike="noStrike">
                <a:solidFill>
                  <a:srgbClr val="000000"/>
                </a:solidFill>
                <a:latin typeface="Corbel"/>
              </a:rPr>
              <a:t>unità di ingresso </a:t>
            </a:r>
            <a:r>
              <a:rPr b="0" lang="it-IT" sz="3000" spc="-1" strike="noStrike">
                <a:solidFill>
                  <a:srgbClr val="000000"/>
                </a:solidFill>
                <a:latin typeface="Corbel"/>
              </a:rPr>
              <a:t>permettono di dare comandi, inserire dati e programmi al computer. Quelle più comuni sono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rbel"/>
              </a:rPr>
              <a:t>la tastiera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rbel"/>
              </a:rPr>
              <a:t>il mouse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rbel"/>
              </a:rPr>
              <a:t>lo scanner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rbel"/>
              </a:rPr>
              <a:t>il microfono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rbel"/>
              </a:rPr>
              <a:t>la WebCam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rbel"/>
              </a:rPr>
              <a:t>la fotocamera digita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EE7B1-F8A3-4310-8383-ECC7D4F0372D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08:38:45Z</dcterms:created>
  <dc:creator>Marcello Pedpne</dc:creator>
  <dc:description/>
  <dc:language>en-US</dc:language>
  <cp:lastModifiedBy>carmine</cp:lastModifiedBy>
  <dcterms:modified xsi:type="dcterms:W3CDTF">2008-06-20T17:42:06Z</dcterms:modified>
  <cp:revision>19</cp:revision>
  <dc:subject/>
  <dc:title>Presentazione di PowerPoint</dc:title>
</cp:coreProperties>
</file>