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wmf" ContentType="image/x-wmf"/>
  <Override PartName="/ppt/media/image17.png" ContentType="image/png"/>
  <Override PartName="/ppt/media/image4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0520" y="877680"/>
            <a:ext cx="4470480" cy="31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9660-D979-4F22-977D-9CBFCFD9A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69DC-47D5-4266-B438-0F22737A4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A287-4059-47D6-B8E9-93BA42195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EE59-608C-4CBF-98F7-A3CE4EC65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7C7-9DA0-4092-88C6-0F8655B411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F6C-709A-4670-A3F5-91D76C14F4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9B6-58C5-4EBD-98BA-9944DC4268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C5F-9B92-4B91-B9FA-85BDF670A0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DBA-4B26-4F30-8CAC-F8D2F44CA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53D-5342-4B48-8498-32992FF50C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4C4-AAB0-441C-A3C4-A6280B91E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B27E-C399-469C-97A5-C63D2F276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3BC-5BC3-4C29-851F-3AF3F22E6A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E75-F563-4F9F-B57F-4237079941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172-FA92-441D-998A-21BEFB3AA6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E1D-05C7-4488-B23D-0E3D33C02D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B0C-26C2-4C40-BB9C-B154CEFCCB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E9598-95C9-4470-8D73-4991E2953C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FB411-1362-45FF-ACF9-8543A63A5C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185FD-D05D-47DF-BAC8-2BAC516366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5C9C1-853B-4620-A97E-3C456A07F7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ED551-D355-41AD-9E9D-8C981F746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B3D3-CF1E-49A8-9DF1-0439FFD59C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82160-9DD3-4176-8C4E-63D5C4C6C8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0A71B-9B78-4C03-BF7E-ADD4840A80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0C5AD-EB85-4075-BB50-2F74595849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DD73C-8A13-4070-A3AC-EB7BB466A3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6BDF9-09A6-4F5F-BF3A-F688B8F429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C3744-B5F7-4016-BFB9-2861F63B4A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03948-1543-41D6-BB0B-9FF0463D6C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9093-4D85-4E41-9178-FDD871D5E0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A5F4-7A26-410A-8AFC-E24F231675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BDB2-48FF-4432-A5EF-8CC8007657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FD3B-D1E7-4E83-A88A-5DD14674A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9323-DC5E-4EF1-9F37-1C184664A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75DC-8AC4-47A2-B7EE-F7F675881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280"/>
            <a:ext cx="82202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3280"/>
            <a:ext cx="212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D6745-46CE-46D2-9EA7-96A8F52B9C0D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06280"/>
            <a:ext cx="82202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861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Bernardo Pedone, Informatica di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77F388-FB4A-4289-99EF-92282E018F2C}" type="slidenum">
              <a: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06280"/>
            <a:ext cx="82202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19717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761C85-7570-47A1-8FE1-AD0AD69D3AD3}" type="slidenum">
              <a: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66720" y="1055520"/>
            <a:ext cx="740268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INT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Il termine </a:t>
            </a:r>
            <a:r>
              <a:rPr b="1" lang="it-IT" sz="2800" spc="-1" strike="noStrike">
                <a:solidFill>
                  <a:srgbClr val="94006b"/>
                </a:solidFill>
                <a:latin typeface="Arial"/>
                <a:ea typeface="Times New Roman"/>
              </a:rPr>
              <a:t>Informatica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deriva dalla fusione dei termini </a:t>
            </a:r>
            <a:r>
              <a:rPr b="0" lang="it-IT" sz="1800" spc="-1" strike="noStrike">
                <a:solidFill>
                  <a:srgbClr val="2323dc"/>
                </a:solidFill>
                <a:latin typeface="Arial"/>
                <a:ea typeface="Times New Roman"/>
              </a:rPr>
              <a:t>INFORmazione autoMATICA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 si intende indicare la scienza che ha il compito di raccogliere, organizzare, conservare e distribuire le informazioni tramite sistemi automatici di elaborazione dei d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Il termine </a:t>
            </a:r>
            <a:r>
              <a:rPr b="1" lang="it-IT" sz="2800" spc="-1" strike="noStrike">
                <a:solidFill>
                  <a:srgbClr val="94006b"/>
                </a:solidFill>
                <a:latin typeface="Arial"/>
                <a:ea typeface="Times New Roman"/>
              </a:rPr>
              <a:t>Telematica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deriva dalla fusione di </a:t>
            </a:r>
            <a:r>
              <a:rPr b="0" lang="it-IT" sz="1800" spc="-1" strike="noStrike">
                <a:solidFill>
                  <a:srgbClr val="2300dc"/>
                </a:solidFill>
                <a:latin typeface="Arial"/>
                <a:ea typeface="Times New Roman"/>
              </a:rPr>
              <a:t>TELEcomunicazione e inforMATICA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e nasce dall’intreccio tecnologico delle comunicazioni con i computer e si occupa dell’uso delle tecnologie informatiche nell’ambito delle telecomunicazio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Con il termine </a:t>
            </a:r>
            <a:r>
              <a:rPr b="1" lang="it-IT" sz="2200" spc="-1" strike="noStrike">
                <a:solidFill>
                  <a:srgbClr val="94006b"/>
                </a:solidFill>
                <a:latin typeface="Arial"/>
                <a:ea typeface="Times New Roman"/>
              </a:rPr>
              <a:t>File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si indica un insieme omogeneo di dati registrato in modo permanente su un supporto di memorizz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Con il termine </a:t>
            </a:r>
            <a:r>
              <a:rPr b="1" lang="it-IT" sz="2000" spc="-1" strike="noStrike">
                <a:solidFill>
                  <a:srgbClr val="94006b"/>
                </a:solidFill>
                <a:latin typeface="Arial"/>
                <a:ea typeface="Times New Roman"/>
              </a:rPr>
              <a:t>M</a:t>
            </a:r>
            <a:r>
              <a:rPr b="1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ultimediale</a:t>
            </a:r>
            <a:r>
              <a:rPr b="0" lang="it-IT" sz="1800" spc="-1" strike="noStrike">
                <a:solidFill>
                  <a:srgbClr val="94006b"/>
                </a:solidFill>
                <a:latin typeface="Arial"/>
                <a:ea typeface="Times New Roman"/>
              </a:rPr>
              <a:t> si intende l’utilizzo integrato e in maniera contemporanea di audio, video, testo e immag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La tast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040" y="1857240"/>
            <a:ext cx="82296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a tastiera è la principale unità di input. Permette di dare comandi al computer scrivendo il testo dei comandi, oppure pigiando alcuni tasti particolari detti tasti fun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’uso principale della tastiera è quello di inserire dati: lettere, numeri e simboli spe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7F2AC-42FB-4474-9DD7-30D554681AB6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33480" y="3478320"/>
            <a:ext cx="704520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Unità di usc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040" y="1728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Le </a:t>
            </a:r>
            <a:r>
              <a:rPr b="1" lang="it-IT" sz="3200" spc="-1" strike="noStrike">
                <a:solidFill>
                  <a:srgbClr val="000000"/>
                </a:solidFill>
                <a:latin typeface="Corbel"/>
              </a:rPr>
              <a:t>unità di uscita 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sono tutti quei dispositivi che permettono di comunicare all’esterno i risultati dell’elaborazione del compu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Quelli più comuni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il moni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la stampante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le casse acusti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63132-AF41-48FD-8FBA-44D3DE13EA33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83360" y="3786120"/>
            <a:ext cx="18176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13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Corbel"/>
              </a:rPr>
              <a:t>DISPOSITIVI DI MEMORI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95280" y="1981080"/>
            <a:ext cx="2055960" cy="3965760"/>
            <a:chOff x="1295280" y="1981080"/>
            <a:chExt cx="2055960" cy="3965760"/>
          </a:xfrm>
        </p:grpSpPr>
        <p:sp>
          <p:nvSpPr>
            <p:cNvPr id="263" name=""/>
            <p:cNvSpPr/>
            <p:nvPr/>
          </p:nvSpPr>
          <p:spPr>
            <a:xfrm>
              <a:off x="1447920" y="1981080"/>
              <a:ext cx="1751040" cy="760680"/>
            </a:xfrm>
            <a:prstGeom prst="rect">
              <a:avLst/>
            </a:prstGeom>
            <a:solidFill>
              <a:srgbClr val="99ccff"/>
            </a:solidFill>
            <a:ln cap="sq" w="936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MEMORI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DI MAS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280" y="3429000"/>
              <a:ext cx="2055960" cy="2517840"/>
            </a:xfrm>
            <a:prstGeom prst="rect">
              <a:avLst/>
            </a:prstGeom>
            <a:solidFill>
              <a:srgbClr val="99ccff"/>
            </a:solidFill>
            <a:ln cap="sq" w="936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FLOPPY DI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HARD-DI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CD-R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DV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UNITA’ NAST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Z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"/>
            <p:cNvCxnSpPr>
              <a:stCxn id="263" idx="2"/>
              <a:endCxn id="264" idx="0"/>
            </p:cNvCxnSpPr>
            <p:nvPr/>
          </p:nvCxnSpPr>
          <p:spPr>
            <a:xfrm rot="5400000">
              <a:off x="1981440" y="3084840"/>
              <a:ext cx="685080" cy="1080"/>
            </a:xfrm>
            <a:prstGeom prst="bentConnector3">
              <a:avLst>
                <a:gd name="adj1" fmla="val 50893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876920" y="1981080"/>
            <a:ext cx="2817720" cy="3965760"/>
            <a:chOff x="4876920" y="1981080"/>
            <a:chExt cx="2817720" cy="3965760"/>
          </a:xfrm>
        </p:grpSpPr>
        <p:sp>
          <p:nvSpPr>
            <p:cNvPr id="267" name=""/>
            <p:cNvSpPr/>
            <p:nvPr/>
          </p:nvSpPr>
          <p:spPr>
            <a:xfrm>
              <a:off x="5410080" y="1981080"/>
              <a:ext cx="1751040" cy="760680"/>
            </a:xfrm>
            <a:prstGeom prst="rect">
              <a:avLst/>
            </a:prstGeom>
            <a:solidFill>
              <a:srgbClr val="ccffcc"/>
            </a:solidFill>
            <a:ln cap="sq" w="9360">
              <a:solidFill>
                <a:srgbClr val="339966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MEMO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VELO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76920" y="3429000"/>
              <a:ext cx="2817720" cy="2517840"/>
            </a:xfrm>
            <a:prstGeom prst="rect">
              <a:avLst/>
            </a:prstGeom>
            <a:solidFill>
              <a:srgbClr val="ccffcc"/>
            </a:solidFill>
            <a:ln cap="sq" w="9360">
              <a:solidFill>
                <a:srgbClr val="339966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R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 </a:t>
              </a: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(Read only memor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SOLA LET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(Random access memor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LETTURA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 </a:t>
              </a:r>
              <a:r>
                <a:rPr b="1" lang="it-IT" sz="2000" spc="-1" strike="noStrike">
                  <a:solidFill>
                    <a:srgbClr val="000044"/>
                  </a:solidFill>
                  <a:latin typeface="Corbel"/>
                </a:rPr>
                <a:t>SCIT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"/>
            <p:cNvCxnSpPr>
              <a:stCxn id="267" idx="2"/>
              <a:endCxn id="268" idx="0"/>
            </p:cNvCxnSpPr>
            <p:nvPr/>
          </p:nvCxnSpPr>
          <p:spPr>
            <a:xfrm rot="5400000">
              <a:off x="5943960" y="3084840"/>
              <a:ext cx="685080" cy="1080"/>
            </a:xfrm>
            <a:prstGeom prst="bentConnector2">
              <a:avLst/>
            </a:prstGeom>
            <a:ln cap="sq" w="9360">
              <a:solidFill>
                <a:srgbClr val="000000"/>
              </a:solidFill>
              <a:round/>
            </a:ln>
          </p:spPr>
        </p:cxnSp>
      </p:grp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Unità di mem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a memoria centrale è composta dalle memorie RAM e ROM, collocate sulla scheda 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I dispositivi esterni di memoria o memorie di massa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Hard disk o disco rig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Floppy d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CD-ROM (Compact Disk Read Only Memory)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DVD (Digital Video Dis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  <a:ea typeface="Lucida Sans Unicode"/>
              </a:rPr>
              <a:t>Memorie 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Ultimo tipo di memoria esterna è la memoria USB Key.  Si tratta di piccoli dispositivi portatili dalle dimensioni di una penna da taschino che si collegano direttamente a una porta USB di qualsiasi compu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a loro capacità di memoria attualmente è compresa tra 64 Mb e 256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2DD46-E753-47A0-B532-5E472EF7CE42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86720" y="2857680"/>
            <a:ext cx="1800000" cy="110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658800" y="366840"/>
          <a:ext cx="8116920" cy="259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6840"/>
                    <a:ext cx="8116920" cy="25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14440" y="2965320"/>
          <a:ext cx="7727760" cy="13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2965320"/>
                    <a:ext cx="772776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5613480" y="4351320"/>
            <a:ext cx="2852640" cy="2271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611280" y="4749840"/>
            <a:ext cx="326376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Computer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600200"/>
            <a:ext cx="8229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orbel"/>
              </a:rPr>
              <a:t>All’interno del computer case troviamo tutti i dispositivi indicati nella fig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1745F-9B51-49E1-BB49-C8E947AF827D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08000" y="2349360"/>
            <a:ext cx="7128000" cy="393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5760" y="277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Corbel"/>
              </a:rPr>
              <a:t>Panoramica sull’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3840" y="1633680"/>
            <a:ext cx="8913960" cy="3549600"/>
            <a:chOff x="123840" y="1633680"/>
            <a:chExt cx="8913960" cy="3549600"/>
          </a:xfrm>
        </p:grpSpPr>
        <p:graphicFrame>
          <p:nvGraphicFramePr>
            <p:cNvPr id="286" name=""/>
            <p:cNvGraphicFramePr/>
            <p:nvPr/>
          </p:nvGraphicFramePr>
          <p:xfrm>
            <a:off x="123840" y="1633680"/>
            <a:ext cx="8913960" cy="354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3840" y="1633680"/>
                      <a:ext cx="8913960" cy="35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"/>
            <p:cNvSpPr/>
            <p:nvPr/>
          </p:nvSpPr>
          <p:spPr>
            <a:xfrm>
              <a:off x="123840" y="1633680"/>
              <a:ext cx="8913960" cy="35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04920" y="1293840"/>
            <a:ext cx="8459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7160" y="1071720"/>
            <a:ext cx="83818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62000"/>
            <a:ext cx="77724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900" spc="-1" strike="noStrike" u="sng">
                <a:solidFill>
                  <a:srgbClr val="000000"/>
                </a:solidFill>
                <a:uFillTx/>
                <a:latin typeface="Corbel"/>
              </a:rPr>
              <a:t>Dispositivi del comput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3680" y="1673280"/>
            <a:ext cx="85359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rbel"/>
              </a:rPr>
              <a:t>Input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Tastiera,... </a:t>
            </a:r>
            <a:r>
              <a:rPr b="1" lang="it-IT" sz="2000" spc="-1" strike="noStrike">
                <a:solidFill>
                  <a:srgbClr val="000000"/>
                </a:solidFill>
                <a:latin typeface="Corbel"/>
              </a:rPr>
              <a:t>Output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: Monitor,... </a:t>
            </a:r>
            <a:r>
              <a:rPr b="1" lang="it-IT" sz="2000" spc="-1" strike="noStrike">
                <a:solidFill>
                  <a:srgbClr val="000000"/>
                </a:solidFill>
                <a:latin typeface="Corbel"/>
              </a:rPr>
              <a:t>Porte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: USB, ... </a:t>
            </a:r>
            <a:r>
              <a:rPr b="1" lang="it-IT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73332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2000" y="914400"/>
            <a:ext cx="88185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Consentono alla macchina di interfacciarsi con il mondo esterno ricevendo informazioni e ritrasmettendole sotto forma di risultati, eleborazio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5520" y="2162160"/>
            <a:ext cx="83930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040" bIns="45000" anchor="t">
            <a:noAutofit/>
          </a:bodyPr>
          <a:p>
            <a:pPr algn="ctr">
              <a:lnSpc>
                <a:spcPct val="98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orbel"/>
              </a:rPr>
              <a:t>’hardware è l’insieme delle componenti fisiche del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8000"/>
              </a:lnSpc>
              <a:spcBef>
                <a:spcPts val="14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La scheda madre (motherboard) supporta, connette e controlla tutte le componenti HW tramite un canale composto da fili di rame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orbel"/>
              </a:rPr>
              <a:t>bus di sistema</a:t>
            </a: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rbel"/>
              </a:rPr>
              <a:t>MEM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RAM: memoria temporanea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ROM: memoria non volatil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CACHE: memoria nascosta e veloce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Memorie di Massa: memoria permanente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9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638680" y="3351240"/>
            <a:ext cx="3353040" cy="32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 fill="hold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88880" y="1698480"/>
            <a:ext cx="839952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Unità di memori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RAM (Random Access Memory)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  memoria ad accesso casuale, temporanea, è un accesso veloce serve per le elaborazioni (512 Mbyte, 4 Gby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Memori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ROM (Read Only Memory)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  memoria non volatile, contenente dati disponibili per la sola consultazione, in particolare il 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Bios 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it-IT" sz="2400" spc="-1" strike="noStrike">
                <a:solidFill>
                  <a:srgbClr val="000000"/>
                </a:solidFill>
                <a:latin typeface="Corbel"/>
              </a:rPr>
              <a:t>B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asic </a:t>
            </a:r>
            <a:r>
              <a:rPr b="1" i="1" lang="it-IT" sz="24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nput </a:t>
            </a:r>
            <a:r>
              <a:rPr b="1" i="1" lang="it-IT" sz="24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utput </a:t>
            </a:r>
            <a:r>
              <a:rPr b="1" i="1" lang="it-IT" sz="24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i="1" lang="it-IT" sz="2400" spc="-1" strike="noStrike">
                <a:solidFill>
                  <a:srgbClr val="000000"/>
                </a:solidFill>
                <a:latin typeface="Corbel"/>
              </a:rPr>
              <a:t>istem), 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il primo codice che viene eseguito: testa l’hardware, carica il sistema operativo, funge da interfaccia tra hardware e perifer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Corbel"/>
              </a:rPr>
              <a:t>Memoria di massa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  memoria permanente, conserva i dati.               Tecnicamente non fa parte del computer. Floppy disk (1.44 Megabyte), CD (700 Megabyte), DVD (4.7 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Gigabyte)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, Blu-ray (55 Gigabyte), pendrive (64 Gigabyte), Hard disk (1.5 Terabyte)</a:t>
            </a:r>
            <a:r>
              <a:rPr b="0" lang="it-IT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71760" y="488880"/>
            <a:ext cx="3089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MEM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492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rbel"/>
              </a:rPr>
              <a:t>HARDWARE: MEMORIE DI MA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38862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1600200"/>
          <a:ext cx="605160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516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1523880" y="1143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Hard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4952880"/>
            <a:ext cx="8512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La capacità degli attuali HD si misura in GB (60,80,120,200 ecc.). Periodicamente è bene effettuare una </a:t>
            </a:r>
            <a:r>
              <a:rPr b="1" lang="it-IT" sz="2400" spc="-1" strike="noStrike" u="sng">
                <a:solidFill>
                  <a:srgbClr val="b80047"/>
                </a:solidFill>
                <a:uFillTx/>
                <a:latin typeface="Corbel"/>
              </a:rPr>
              <a:t>deframmentazione</a:t>
            </a: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 per preservarne le prest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166680"/>
            <a:ext cx="77724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rbel"/>
              </a:rPr>
              <a:t>La struttura fisica de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646360" y="1228680"/>
            <a:ext cx="4183200" cy="2639880"/>
            <a:chOff x="2646360" y="1228680"/>
            <a:chExt cx="4183200" cy="26398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646360" y="1228680"/>
              <a:ext cx="418320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646360" y="1228680"/>
              <a:ext cx="4183200" cy="26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95200" y="4129200"/>
            <a:ext cx="871380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94476b"/>
                </a:solidFill>
                <a:latin typeface="Corbel"/>
              </a:rPr>
              <a:t>Con </a:t>
            </a:r>
            <a:r>
              <a:rPr b="1" lang="it-IT" sz="2000" spc="-1" strike="noStrike">
                <a:solidFill>
                  <a:srgbClr val="94476b"/>
                </a:solidFill>
                <a:latin typeface="Corbel"/>
              </a:rPr>
              <a:t>HARDWARE</a:t>
            </a:r>
            <a:r>
              <a:rPr b="0" lang="it-IT" sz="2000" spc="-1" strike="noStrike">
                <a:solidFill>
                  <a:srgbClr val="94476b"/>
                </a:solidFill>
                <a:latin typeface="Corbel"/>
              </a:rPr>
              <a:t> si indicano tutte le componenti del PC che hanno consistenza fisica, interne od esterne, elettroniche o elettromeccaniche. Deriva da hard=duro e ware=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94476b"/>
                </a:solidFill>
                <a:latin typeface="Corbel"/>
              </a:rPr>
              <a:t>Con </a:t>
            </a:r>
            <a:r>
              <a:rPr b="1" lang="it-IT" sz="2000" spc="-1" strike="noStrike">
                <a:solidFill>
                  <a:srgbClr val="94476b"/>
                </a:solidFill>
                <a:latin typeface="Corbel"/>
              </a:rPr>
              <a:t>SOFTWARE</a:t>
            </a:r>
            <a:r>
              <a:rPr b="0" lang="it-IT" sz="2000" spc="-1" strike="noStrike">
                <a:solidFill>
                  <a:srgbClr val="94476b"/>
                </a:solidFill>
                <a:latin typeface="Corbel"/>
              </a:rPr>
              <a:t> si indica la parte “evanescente” dell’elaboratore, cioè l’insieme dei programmi che consentono all’hardware di svolgere compiti uti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rbel"/>
              </a:rPr>
              <a:t>Prestazioni de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38862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3840" y="320508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Velocità della CP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Dimensioni e qualità della Memoria Cent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Velocità delle memorie di mas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Presenza di dispositivi per accelerare determinate operazio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Utilizzo contemporaneo di più program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4960" y="1928880"/>
            <a:ext cx="71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b80047"/>
                </a:solidFill>
                <a:latin typeface="Corbel"/>
              </a:rPr>
              <a:t>Le prestazioni del PC dipendono da fattori qu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0"/>
            <a:ext cx="7772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Cosa si può fare 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il 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4200" y="1957320"/>
            <a:ext cx="800748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SCRIVERE CON IL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CAL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PRESE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COMUN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NAVI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333366"/>
                </a:solidFill>
                <a:latin typeface="Corbel"/>
              </a:rPr>
              <a:t>Saper utilizzare i sevizi e le risorse on line attraverso l’esecuzione di operazioni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Il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00200"/>
            <a:ext cx="822960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Un computer è una macchina in grado di accettare informazioni provenienti dall’esterno, di effettuare su di esse operazioni aritmetiche e logiche e quindi di fornire risultati in forma comprensi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Per svolgere ciascuna di queste funzioni possiede dei dispositivi idon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88D33-4A5D-4290-90B1-36B14BE7C64A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95080" y="1707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Dispositivo in grado di acquisire informazioni dall’esterno, reagire alle stes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E inviare informazioni dirette di nuovo all’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Per elaborare le informazioni occorre un sistema di dispositivi meccanici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elettronici (HARDWARE) e di strumenti che ne permettano e ne definis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rbel"/>
              </a:rPr>
              <a:t>il funzionamento 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124080"/>
            <a:ext cx="30492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124080"/>
            <a:ext cx="22860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95280" y="2660760"/>
            <a:ext cx="6477120" cy="2359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03520" y="457200"/>
            <a:ext cx="47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rbel"/>
              </a:rPr>
              <a:t>COS’E’ UN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554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99ff"/>
                </a:solidFill>
                <a:latin typeface="Corbel"/>
              </a:rPr>
              <a:t>COMPONENTI DI UN PC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410080"/>
            <a:ext cx="6172200" cy="785520"/>
          </a:xfrm>
          <a:prstGeom prst="rect">
            <a:avLst/>
          </a:prstGeom>
          <a:noFill/>
          <a:ln cap="sq" w="19080">
            <a:solidFill>
              <a:srgbClr val="cc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99ff"/>
                </a:solidFill>
                <a:latin typeface="Corbel"/>
              </a:rPr>
              <a:t>IL TUTTO E’ RACCHIUSO NELL’UNITA’ CENT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99ff"/>
                </a:solidFill>
                <a:latin typeface="Corbel"/>
              </a:rPr>
              <a:t>CHIAMATA CABINET O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324480" cy="37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4440" y="1917720"/>
            <a:ext cx="230328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La CPU rappresenta il cuore del computer. E’ costituita da un </a:t>
            </a:r>
            <a:r>
              <a:rPr b="0" i="1" lang="it-IT" sz="1600" spc="-1" strike="noStrike">
                <a:solidFill>
                  <a:srgbClr val="2300dc"/>
                </a:solidFill>
                <a:latin typeface="Corbel"/>
              </a:rPr>
              <a:t>microprocessore (insieme di circuiti integrati) </a:t>
            </a: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posto sulla scheda mad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Contie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L’unità aritmetico-logica(AL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La memoria 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300dc"/>
                </a:solidFill>
                <a:latin typeface="Corbel"/>
              </a:rPr>
              <a:t>Si collega alla memoria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657600"/>
            <a:ext cx="1218960" cy="60948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Funzion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cal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657600"/>
            <a:ext cx="1219320" cy="60948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Funzione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5181480"/>
            <a:ext cx="3505320" cy="106704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PERIFERICH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Unità disco, cd-rom, stampanti, schede di ret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Tastiere, mode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44"/>
                </a:solidFill>
                <a:latin typeface="Arial"/>
              </a:rPr>
              <a:t>schede video e audi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489560" y="3124080"/>
            <a:ext cx="69840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3124080"/>
            <a:ext cx="762120" cy="53352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267080"/>
            <a:ext cx="1800" cy="838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1487520" cy="1663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238" name=""/>
          <p:cNvSpPr/>
          <p:nvPr/>
        </p:nvSpPr>
        <p:spPr>
          <a:xfrm>
            <a:off x="3211560" y="2124000"/>
            <a:ext cx="76212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13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rbel"/>
              </a:rPr>
              <a:t>DISPOSITIVI DI INPU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19520" y="1752120"/>
            <a:ext cx="3047760" cy="26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TAST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TOUCH P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JOYST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PENNA OT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TAVOLETTE GRAF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dc2300"/>
                </a:solidFill>
                <a:latin typeface="Corbel"/>
              </a:rPr>
              <a:t>WEBC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533520" y="4572000"/>
            <a:ext cx="2157120" cy="901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1438200" cy="1090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"/>
          <a:stretch/>
        </p:blipFill>
        <p:spPr>
          <a:xfrm>
            <a:off x="457200" y="2209680"/>
            <a:ext cx="1798560" cy="1017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"/>
          <a:stretch/>
        </p:blipFill>
        <p:spPr>
          <a:xfrm>
            <a:off x="6553080" y="4572000"/>
            <a:ext cx="1438560" cy="1000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4"/>
          <a:stretch/>
        </p:blipFill>
        <p:spPr>
          <a:xfrm>
            <a:off x="6248520" y="1981080"/>
            <a:ext cx="2017440" cy="142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Unità cent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Attraverso le unità di ingresso il computer acquisisce i da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L’ unità centrale di elaborazione elabora le informazio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Le unità di uscita comunicano i risulta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93FC9-8130-467B-A9DE-AF052F6D8AC3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38280" y="2857680"/>
            <a:ext cx="6067440" cy="377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rbel"/>
              </a:rPr>
              <a:t>Unità di ingr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600200"/>
            <a:ext cx="822960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e </a:t>
            </a:r>
            <a:r>
              <a:rPr b="1" lang="it-IT" sz="3000" spc="-1" strike="noStrike">
                <a:solidFill>
                  <a:srgbClr val="000000"/>
                </a:solidFill>
                <a:latin typeface="Corbel"/>
              </a:rPr>
              <a:t>unità di ingresso </a:t>
            </a: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permettono di dare comandi, inserire dati e programmi al computer. Quelle più comuni son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a tastiera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il mous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o scanner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il microfon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a WebCam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rbel"/>
              </a:rPr>
              <a:t>la fotocamera digita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59E6A-785A-4593-B50E-E3E67E0601F3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8:38:45Z</dcterms:created>
  <dc:creator>Marcello Pedpne</dc:creator>
  <dc:description/>
  <dc:language>en-US</dc:language>
  <cp:lastModifiedBy>carmine</cp:lastModifiedBy>
  <dcterms:modified xsi:type="dcterms:W3CDTF">2008-06-20T17:42:06Z</dcterms:modified>
  <cp:revision>19</cp:revision>
  <dc:subject/>
  <dc:title>Presentazione di PowerPoint</dc:title>
</cp:coreProperties>
</file>