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FFA-9EDA-4505-8193-F9CA90EA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1B3-524F-4D8E-87AF-6D6DA0E9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66C-AFA0-49AE-B7E1-D530C554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7AE-AB0C-41A9-8649-907BCDE9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0A97-6DA6-4191-908F-84E9D30A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CFB2-D714-4398-9FC8-8DD1F74D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FA4C-DBC2-4008-9FCB-92F783AA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D702-DE78-476B-AF5F-1B075971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611E-C4B4-4CBE-8A9A-63A7E745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E44B-006E-4E20-9562-A6F79663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7D67-ACB5-4439-8951-91DC844D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6C5-2BA7-439B-9E38-899595AF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E906-88D2-4E02-8EED-54432C4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F9D0-90D5-437C-AEF0-0D6CAE1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476F-4A03-47A9-98FA-C36FBD0C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4703-E6CC-4DF1-B051-FC1989AB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3FE5-6A32-452E-A94D-A0233D72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48F-3C71-4B65-8E99-B0275417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621-E841-4DA1-A5BC-E1452633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E78-E948-4762-9C42-A4D9AE81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7D1-8FE4-4EC0-BF99-D2AF1C47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268-7291-4F6C-915A-F8E7B5CA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A4A-FEA8-4DC5-86DB-51C3F4E8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8D4-4E9B-40C6-8C65-FFF36329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0CDC-08EE-469F-91AD-09AC247A7E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C925-E554-41A9-953B-9E9447F2D0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1760" y="837720"/>
            <a:ext cx="7010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ttere in grado 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mprendere i concetti fondamentali riguardanti le Tec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lla Informazione e della Comunicazio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scrivere la  struttura e il funzionamento di un personal comput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mprendere come si strutturano le reti informatiche e qu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patti determinano sulla società contemporane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oscere i criteri ergonomici da adottare quando si usa 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mput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are i problemi riguardanti la sicurezza dei dati e gli aspetti legal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457200"/>
            <a:ext cx="571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IETTIVI DEL COR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3520" y="160020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1905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533520"/>
            <a:ext cx="5410080" cy="306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MORIA PERMANENTE, SCRITTA AL MOMENTO DELLA FABBRICAZIONE DEL COMPUTER;ESSA NON PUÒ ESSERE MODIFICATA DALL’UTENTE NÉ SI CANCELLA ALLO SPEGNIMENTO DEL COMPU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TIENE COMANDI CHE PERMETTONO AL COMPUTER, UNA VOLTA ACCESO, DI TROVARE SUI DISCHI FISSI IL SISTEMA OPERATIVO E CARICARLO NELLA MEMORIA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41972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8d43"/>
                </a:solidFill>
                <a:latin typeface="Times New Roman"/>
              </a:rPr>
              <a:t>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724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114800"/>
            <a:ext cx="40384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MORIA VOLAT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PAZIO DI LAVORO TEMPORAN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 INFORMAZIONI DEVONO ESSERE SALVATE SU SUPPORTI FISS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66680" y="380880"/>
            <a:ext cx="7315200" cy="20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All’interno di un computer le informazioni sono rappresentate con una sequenza di 8 cifre binarie, chiamate bit, che possono assumere il valore 0 e 1. Con 8 bit si ha il byte, con cui si rappresenta un carattere alfabetico, un numero, un simbolo di punteggiatura, uno spaz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i possono ottenere 256 combinazioni, corrispondenti ai tasti della tasti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00200" y="2864880"/>
            <a:ext cx="4419720" cy="1021320"/>
            <a:chOff x="1600200" y="2864880"/>
            <a:chExt cx="4419720" cy="1021320"/>
          </a:xfrm>
        </p:grpSpPr>
        <p:sp>
          <p:nvSpPr>
            <p:cNvPr id="212" name=""/>
            <p:cNvSpPr/>
            <p:nvPr/>
          </p:nvSpPr>
          <p:spPr>
            <a:xfrm>
              <a:off x="16002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74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860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18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004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3124080"/>
              <a:ext cx="609480" cy="30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b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7800" y="3124080"/>
              <a:ext cx="76212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by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20" idx="0"/>
              <a:endCxn id="219" idx="0"/>
            </p:cNvCxnSpPr>
            <p:nvPr/>
          </p:nvCxnSpPr>
          <p:spPr>
            <a:xfrm rot="5400000">
              <a:off x="3789360" y="2648520"/>
              <a:ext cx="2160" cy="9529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endCxn id="219" idx="2"/>
            </p:cNvCxnSpPr>
            <p:nvPr/>
          </p:nvCxnSpPr>
          <p:spPr>
            <a:xfrm>
              <a:off x="1752480" y="3351240"/>
              <a:ext cx="1563120" cy="2160"/>
            </a:xfrm>
            <a:prstGeom prst="bentConnector4">
              <a:avLst>
                <a:gd name="adj1" fmla="val 806"/>
                <a:gd name="adj2" fmla="val 1440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4" name=""/>
            <p:cNvCxnSpPr>
              <a:stCxn id="221" idx="2"/>
            </p:cNvCxnSpPr>
            <p:nvPr/>
          </p:nvCxnSpPr>
          <p:spPr>
            <a:xfrm rot="5400000">
              <a:off x="3847320" y="2095200"/>
              <a:ext cx="381960" cy="32011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 flipV="1">
              <a:off x="2438280" y="35809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143000" y="4800600"/>
            <a:ext cx="3429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l BYTE è anche l’unità di misura della capacità della memoria, che viene espressa tramite i suoi multip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495680"/>
            <a:ext cx="15238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44"/>
                </a:solidFill>
                <a:latin typeface="Times New Roman"/>
              </a:rPr>
              <a:t>Kilobyte (K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4495680"/>
            <a:ext cx="15238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Times New Roman"/>
              </a:rPr>
              <a:t>1024 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4876920"/>
            <a:ext cx="1523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44"/>
                </a:solidFill>
                <a:latin typeface="Times New Roman"/>
              </a:rPr>
              <a:t>Megabyte (M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4876920"/>
            <a:ext cx="1523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Times New Roman"/>
              </a:rPr>
              <a:t>1024 kilo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5257800"/>
            <a:ext cx="1523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44"/>
                </a:solidFill>
                <a:latin typeface="Times New Roman"/>
              </a:rPr>
              <a:t>Gigabyte (G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5257800"/>
            <a:ext cx="1523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Times New Roman"/>
              </a:rPr>
              <a:t>1024 mega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5638680"/>
            <a:ext cx="15238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44"/>
                </a:solidFill>
                <a:latin typeface="Times New Roman"/>
              </a:rPr>
              <a:t>Terabyte (T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5638680"/>
            <a:ext cx="15238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Times New Roman"/>
              </a:rPr>
              <a:t>1024 Giga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43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1244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 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ieme di program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 governa e control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operazioni e l’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l’intero compu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 raccordo t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i applicati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476760" y="1981080"/>
            <a:ext cx="2514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DI R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isce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unicazione tr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colleg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r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1981080"/>
            <a:ext cx="3200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PPLICA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i 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entono all’utente 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ilizzare la macchina p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re documenti, grafici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elle, immagini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Arial Black"/>
              </a:rPr>
              <a:t>SISTEMA OPERATIVO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 Black"/>
              </a:rPr>
              <a:t>(di sistema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1600200"/>
            <a:ext cx="815328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Ha il compito di interpretare i comandi provenienti dall’esterno, tradurli in linguaggio macchina (comprensibile al computer) e poi di ritradurre le risposte in linguaggio a noi comprensi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I più diffusi son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Windows 98/ME/200/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Ma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OS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FTAWRE APPLICATIV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borazione te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ktop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glio elettro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TI INFORMATICHE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o sistemi di connessione tra più computer, che consentono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unicazione e la condivisione di informazioni e servizi, quali stampanti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-disk di notevoli dimens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3429000"/>
            <a:ext cx="3809880" cy="153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Local Area Networ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’ limitata ad un singolo edificio o ad un insieme di edifici posti a breve distanza (non più di 10 K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2438280"/>
            <a:ext cx="3200400" cy="399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Times New Roman"/>
              </a:rPr>
              <a:t>W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Wide Area Networ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s collegati a grandi distanze addirittura planet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Times New Roman"/>
              </a:rPr>
              <a:t>M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Metropolitan Area Networ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amenti all’interno di una provi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3280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INTERNE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’ UNA GIGANTESCA RETE CHE COLLEGA UN ENOR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ERO DI COMPUTER DISLOCATI SU TUTTO IL PIAN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collegarsi è necessario avere u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MOD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rasforma i segnali digitali provenienti dal computer in segnali analogici che corrono lungo la linea telefonica e vicever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BBONAMENTO AL PROV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i fornisce l’accesso alla r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8080" y="914400"/>
            <a:ext cx="7391520" cy="396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UTILIZZO DELLA RETE INTERN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WORLD WIDE WEB (WWW)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stema più usato, basato su pagine ipertestuali collegate tra lo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OSTA ELETTRONICA o E-MA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possibilità di inviare messag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’indirizzo del destinatario è formata da due par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Nomeutente@nomeserv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nome del computer dove viene conservata la po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L COMPUTER NELLA VITA DI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OGNI GIORN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89584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33"/>
                </a:solidFill>
                <a:latin typeface="Arial"/>
              </a:rPr>
              <a:t>Nella cas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ontrollo bilancio famili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lelavo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Memorizza scaden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io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1981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1600200"/>
            <a:ext cx="4495680" cy="192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Nel lavo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fice automati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sieme di hardware e software che facilita i compiti di routine di ufficio e migliora lo scambio di dati tra impiega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038480"/>
            <a:ext cx="2895840" cy="16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ell’istruzion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truzione a distan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D ROM multomedi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ulazio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3352680"/>
            <a:ext cx="4114800" cy="267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ella vita quotidia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nco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mart ca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dice a bar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uter in: biblioteca, supermercato, ambulatorio me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RGONOMIA E COMPU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Arial"/>
                <a:ea typeface="Times New Roman"/>
              </a:rPr>
              <a:t>Per quanto riguarda lo scher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Deve essere sistemato in posizione frontale rispet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all'operato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Deve essere posizionato in modo che gli occhi si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allo stesso livello della sommità del monit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a distanza dal video deve essere di 50~60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I caratteri devono avere una buona definizìone e u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forma chia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'immagine deve essere stabile e priva di sfarfalli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uminosità e contrasto devono essere facilm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regolabi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o schermo deve essere orientabile e non deve av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rifless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a frequenza di refresh (numero di volte in cui vie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ridisegnato lo schermo) deve essere superiore a 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Hz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5320" y="1295280"/>
            <a:ext cx="39625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  <a:ea typeface="Times New Roman"/>
              </a:rPr>
              <a:t>Per quanto riguarda la tasti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Si deve avere la possibilità di regolarne l'inclinazi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Deve essere fisicamente separata dallo schermo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modo che l'utente possa assumere una posizione il più confortevole possibi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Lo spazio davanti alla tastiera deve permett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all'operatore di poter appoggiare le mani e la bracc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98d43"/>
                </a:solidFill>
                <a:latin typeface="Arial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f98d43"/>
                </a:solidFill>
                <a:latin typeface="Arial"/>
                <a:ea typeface="Times New Roman"/>
              </a:rPr>
              <a:t>Per quanto riguarda la se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Deve permettere una certa libertà di movimento e una posizione comoda. L'ideale sarebbe usare una sedia ergonornica che permette di assumere una postura corretta e rilassa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Deve avere un'altezza regolabile e uno schien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regolabi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Si deve comunque mantenere la schiena dirit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appoggiata allo schiena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143000" y="1295280"/>
            <a:ext cx="6934320" cy="4648320"/>
            <a:chOff x="1143000" y="1295280"/>
            <a:chExt cx="6934320" cy="4648320"/>
          </a:xfrm>
        </p:grpSpPr>
        <p:sp>
          <p:nvSpPr>
            <p:cNvPr id="143" name=""/>
            <p:cNvSpPr/>
            <p:nvPr/>
          </p:nvSpPr>
          <p:spPr>
            <a:xfrm>
              <a:off x="3809880" y="129528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HARDWA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9000" y="3048120"/>
              <a:ext cx="213372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CONCETTI DI BA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DELLA TECNOLOG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DELL’INFORMAZI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43000" y="129528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660033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COMPONEN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BASE DI UN P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3000" y="304812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SICUREZZ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RITTI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’AUTO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3000" y="502920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IT E SOCIET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502920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IL COMPUTE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NELLA VI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OGNI GI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53080" y="304812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SOFTWA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53080" y="129528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SPOSITIV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 MEMO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5720" y="502920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RET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INFORMATICH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44" idx="0"/>
              <a:endCxn id="143" idx="2"/>
            </p:cNvCxnSpPr>
            <p:nvPr/>
          </p:nvCxnSpPr>
          <p:spPr>
            <a:xfrm flipV="1">
              <a:off x="4495320" y="2208960"/>
              <a:ext cx="1080" cy="839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2"/>
              <a:endCxn id="148" idx="0"/>
            </p:cNvCxnSpPr>
            <p:nvPr/>
          </p:nvCxnSpPr>
          <p:spPr>
            <a:xfrm>
              <a:off x="4495320" y="3962160"/>
              <a:ext cx="1080" cy="10674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3"/>
              <a:endCxn id="149" idx="1"/>
            </p:cNvCxnSpPr>
            <p:nvPr/>
          </p:nvCxnSpPr>
          <p:spPr>
            <a:xfrm>
              <a:off x="5562360" y="3504960"/>
              <a:ext cx="991080" cy="1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4" idx="1"/>
              <a:endCxn id="146" idx="3"/>
            </p:cNvCxnSpPr>
            <p:nvPr/>
          </p:nvCxnSpPr>
          <p:spPr>
            <a:xfrm flipH="1">
              <a:off x="2514240" y="3504960"/>
              <a:ext cx="915120" cy="1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5181480" y="3962520"/>
              <a:ext cx="1524240" cy="1066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181480" y="2209320"/>
              <a:ext cx="1371600" cy="838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514600" y="3962520"/>
              <a:ext cx="1295280" cy="1066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514600" y="2209320"/>
              <a:ext cx="1295280" cy="838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09680" y="457200"/>
            <a:ext cx="4343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OMMA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38102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Times New Roman"/>
              </a:rPr>
              <a:t>Luce, cal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Occorre garantire un'illuminazione suffic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e un contrasto appropriato tra schermo 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ambie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E’ opportuno che nella stanza dove si lavor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le finestre abbiano le ten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In ogni caso la sorgente luminosa de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arrivare da destra o da sinistra evitan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riflessi sullo scherm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038120" y="228240"/>
            <a:ext cx="4800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Collegamenti elettri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Particolare attenzione va fatta per quel che riguarda la pa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elettrica. L'impianto elettrico dovrà soddisfare a precisi requisiti 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cui la presenza di salvavita e di un buon impianto di messa a ter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ff"/>
                </a:solidFill>
                <a:latin typeface="Arial"/>
                <a:ea typeface="Times New Roman"/>
              </a:rPr>
              <a:t>Radiazio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Arial"/>
                <a:ea typeface="Times New Roman"/>
              </a:rPr>
              <a:t> </a:t>
            </a: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Le radiazioni emesse da uno schermo sono difficili da misurare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quanto molto basse ma è opportuno utilizzare monitor «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radiation» e porsi ad una distanza di 40+ 50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00"/>
                </a:solidFill>
                <a:latin typeface="Arial"/>
                <a:ea typeface="Times New Roman"/>
              </a:rPr>
              <a:t>Aspetti sanita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Affaticamenti visivi, dolori muscolari in genere alle braccia, a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schiena e al collo sono legati per lo più a postazioni di lavoro po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ergonomiche. Pertanto è opportuno curare questi aspetti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assumere tutti gli accorgimenti necessari. Si sottolinea 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necessità in ogni caso di fare numerose pa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5486400"/>
            <a:ext cx="70866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d infine è molto importante fare delle pause, ad esempio volgendo lo sguardo per qualche minuto verso punti lontani dallo scher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ICUREZZ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 memoria centrale o RAM è temporanea e perde tutte le informazioni se viene a mancare la corrente: per evitare di perdere il proprio lavoro sarebbe perciò opportuno fare continui salvataggi dei docum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 prevenire la diffusione dei virus (programmi che si autoduplicano all'interno di altri file e hanno l'obiettivo di distruggere programmi o dati, cambiare le impostazioni dei sistema, disturbare il lavoro dell'utente) bisognerebbe controllare con programmi di utilità antivirus tutti i dati ed i programmi che carichiamo sul compu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operazione che andrebbe eseguita periodicamente è pertanto il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ckup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oè la copia di tutto il contenuto dei disco fisso o delle cartelle più importanti, su supporti esterni com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D‑ROM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schetti, zip‑dis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PYRIGH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La tutela dei software è stata introdotta ad opera dei decreto legislativo n. 518/92, che individua essenzialmente due forme: il brevetto e il diritto d'autore. Il brevetto tutela l'invenzione industriale, il diritto d'autore le opere dell'ingegno. Quindi è necessario, prima di utilizzare un programma, accertarsi che il suo utilizzo sia legale, o perché lo abbiamo acquistato o perché è un software shareware o free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Sono definite </a:t>
            </a:r>
            <a:r>
              <a:rPr b="1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shareware </a:t>
            </a: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le copie dei programmi offerte gratuitamente per un periodo limitato; finito il periodo di prova, l'utente per utilizzare il programma deve pagare una piccola somma all'autore.E’ definito </a:t>
            </a:r>
            <a:r>
              <a:rPr b="1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freeware </a:t>
            </a: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il software offerto gratuitamente in forma compl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IV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Times New Roman"/>
              </a:rPr>
              <a:t>La Legge 675/96 prevede il consenso dei soggetti interessati per l'utilizzo dei dati personali, ossia per la loro raccolta, registrazione, organizzazione, conservazione ed elabor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Times New Roman"/>
              </a:rPr>
              <a:t>I dati personali sono raccolti direttamente presso l'azienda interessata, che deve fornire l'informativa direttamente all'atto della loro raccolta, o inviarla all'atto della registrazione. Tutti questi dati verranno ovviamente trattati nel rispetto della normativa vigente. Per questo motivo occorre adottare tutte le soluzioni possibili per impedirne l'accesso a personale non autorizz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spositivo in grado di acquisire informazioni dall’esterno, reagire alle stess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 inviare informazioni dirette di nuovo all’es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er elaborare le informazioni occorre un sistema di dispositivi meccanici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lettronici (HARDWARE) e di strumenti che ne permettano e ne definisc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funzionamento (SOFTWA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3124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Computer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77120" cy="23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33360" y="457200"/>
            <a:ext cx="4882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S’E’ UN COMPU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Alternative"/>
                <a:ea typeface="Arial Alternative"/>
              </a:rPr>
              <a:t>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frame (grandi dimensio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computer (dimensioni ridot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computer (dimensioni contenute e proprietà di una sola perso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book (portati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omputer (terminale di rete, senza disch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267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419720"/>
            <a:ext cx="6477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LE STUPIDO:sprovvisto di processore e disco rigido, può leggere i dati ma non eleborar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LE INTELLIGENTE: elabora i d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 Black"/>
              </a:rPr>
              <a:t>COMPONENTI DI UN P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410080"/>
            <a:ext cx="6172200" cy="785520"/>
          </a:xfrm>
          <a:prstGeom prst="rect">
            <a:avLst/>
          </a:prstGeom>
          <a:noFill/>
          <a:ln w="19080">
            <a:solidFill>
              <a:srgbClr val="cc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IL TUTTO E’ RACCHIUSO NELL’UNITA’ CENTR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CHIAMATA CABINET O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Schedamadre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324480" cy="37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447920"/>
            <a:ext cx="2971800" cy="279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La CPU rappresenta il cuore del computer. E’ costituita da un </a:t>
            </a:r>
            <a:r>
              <a:rPr b="0" i="1" lang="en-US" sz="1600" spc="-1" strike="noStrike">
                <a:solidFill>
                  <a:srgbClr val="ccffcc"/>
                </a:solidFill>
                <a:latin typeface="Arial"/>
              </a:rPr>
              <a:t>microprocessore (insieme di circuiti integrati) </a:t>
            </a: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posto sulla scheda mad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Contie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L’unità aritmetico-logica(AL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La memoria R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Si collega alla memoria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657600"/>
            <a:ext cx="12189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Funzione 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calco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3657600"/>
            <a:ext cx="12193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Funzione d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control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5181480"/>
            <a:ext cx="350532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PERIFERICHE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Unità disco, cd-rom, stampanti, schede di rete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Tastiere, modem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schede video e audio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495320" y="3124080"/>
            <a:ext cx="6858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3124080"/>
            <a:ext cx="7621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2670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Cpu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1487520" cy="1663560"/>
          </a:xfrm>
          <a:prstGeom prst="rect">
            <a:avLst/>
          </a:prstGeom>
          <a:ln w="9360">
            <a:solidFill>
              <a:srgbClr val="00008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182" name=""/>
          <p:cNvSpPr/>
          <p:nvPr/>
        </p:nvSpPr>
        <p:spPr>
          <a:xfrm>
            <a:off x="3276720" y="19051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DISPOSITIVI DI INPU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520" y="1752120"/>
            <a:ext cx="304776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ASTI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OUCH P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JOYSTI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PENNA OT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AVOLETTE GRAFI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Tastiera" descr=""/>
          <p:cNvPicPr/>
          <p:nvPr/>
        </p:nvPicPr>
        <p:blipFill>
          <a:blip r:embed="rId9"/>
          <a:stretch/>
        </p:blipFill>
        <p:spPr>
          <a:xfrm>
            <a:off x="533520" y="4572000"/>
            <a:ext cx="2157120" cy="901800"/>
          </a:xfrm>
          <a:prstGeom prst="rect">
            <a:avLst/>
          </a:prstGeom>
          <a:ln w="0">
            <a:noFill/>
          </a:ln>
        </p:spPr>
      </p:pic>
      <p:pic>
        <p:nvPicPr>
          <p:cNvPr id="186" name="Trackball" descr=""/>
          <p:cNvPicPr/>
          <p:nvPr/>
        </p:nvPicPr>
        <p:blipFill>
          <a:blip r:embed="rId10"/>
          <a:stretch/>
        </p:blipFill>
        <p:spPr>
          <a:xfrm>
            <a:off x="3733920" y="4724280"/>
            <a:ext cx="1438200" cy="1090800"/>
          </a:xfrm>
          <a:prstGeom prst="rect">
            <a:avLst/>
          </a:prstGeom>
          <a:ln w="0">
            <a:noFill/>
          </a:ln>
        </p:spPr>
      </p:pic>
      <p:pic>
        <p:nvPicPr>
          <p:cNvPr id="187" name="Mouse" descr=""/>
          <p:cNvPicPr/>
          <p:nvPr/>
        </p:nvPicPr>
        <p:blipFill>
          <a:blip r:embed="rId11"/>
          <a:stretch/>
        </p:blipFill>
        <p:spPr>
          <a:xfrm>
            <a:off x="457200" y="2209680"/>
            <a:ext cx="1798560" cy="1017720"/>
          </a:xfrm>
          <a:prstGeom prst="rect">
            <a:avLst/>
          </a:prstGeom>
          <a:ln w="0">
            <a:noFill/>
          </a:ln>
        </p:spPr>
      </p:pic>
      <p:pic>
        <p:nvPicPr>
          <p:cNvPr id="188" name="Scanner" descr=""/>
          <p:cNvPicPr/>
          <p:nvPr/>
        </p:nvPicPr>
        <p:blipFill>
          <a:blip r:embed="rId12"/>
          <a:stretch/>
        </p:blipFill>
        <p:spPr>
          <a:xfrm>
            <a:off x="6553080" y="4572000"/>
            <a:ext cx="1438560" cy="1000080"/>
          </a:xfrm>
          <a:prstGeom prst="rect">
            <a:avLst/>
          </a:prstGeom>
          <a:ln w="0">
            <a:noFill/>
          </a:ln>
        </p:spPr>
      </p:pic>
      <p:pic>
        <p:nvPicPr>
          <p:cNvPr id="189" name="Scanner1" descr=""/>
          <p:cNvPicPr/>
          <p:nvPr/>
        </p:nvPicPr>
        <p:blipFill>
          <a:blip r:embed="rId13"/>
          <a:stretch/>
        </p:blipFill>
        <p:spPr>
          <a:xfrm>
            <a:off x="6248520" y="1981080"/>
            <a:ext cx="2017440" cy="142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DISPOSITIVI DI OUTPU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00400" y="23623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SCHEDA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STAMPA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Monitor" descr=""/>
          <p:cNvPicPr/>
          <p:nvPr/>
        </p:nvPicPr>
        <p:blipFill>
          <a:blip r:embed="rId5"/>
          <a:stretch/>
        </p:blipFill>
        <p:spPr>
          <a:xfrm>
            <a:off x="5867280" y="1676520"/>
            <a:ext cx="938160" cy="957240"/>
          </a:xfrm>
          <a:prstGeom prst="rect">
            <a:avLst/>
          </a:prstGeom>
          <a:ln w="0">
            <a:noFill/>
          </a:ln>
        </p:spPr>
      </p:pic>
      <p:pic>
        <p:nvPicPr>
          <p:cNvPr id="193" name="Plotter" descr=""/>
          <p:cNvPicPr/>
          <p:nvPr/>
        </p:nvPicPr>
        <p:blipFill>
          <a:blip r:embed="rId6"/>
          <a:stretch/>
        </p:blipFill>
        <p:spPr>
          <a:xfrm>
            <a:off x="4343400" y="4114800"/>
            <a:ext cx="1438200" cy="1542960"/>
          </a:xfrm>
          <a:prstGeom prst="rect">
            <a:avLst/>
          </a:prstGeom>
          <a:ln w="0">
            <a:noFill/>
          </a:ln>
        </p:spPr>
      </p:pic>
      <p:pic>
        <p:nvPicPr>
          <p:cNvPr id="194" name="Stampante" descr=""/>
          <p:cNvPicPr/>
          <p:nvPr/>
        </p:nvPicPr>
        <p:blipFill>
          <a:blip r:embed="rId7"/>
          <a:stretch/>
        </p:blipFill>
        <p:spPr>
          <a:xfrm>
            <a:off x="914400" y="2438280"/>
            <a:ext cx="168264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POSITIVI DI MEMOR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295280" y="1981080"/>
            <a:ext cx="2057400" cy="3967200"/>
            <a:chOff x="1295280" y="1981080"/>
            <a:chExt cx="2057400" cy="3967200"/>
          </a:xfrm>
        </p:grpSpPr>
        <p:sp>
          <p:nvSpPr>
            <p:cNvPr id="197" name=""/>
            <p:cNvSpPr/>
            <p:nvPr/>
          </p:nvSpPr>
          <p:spPr>
            <a:xfrm>
              <a:off x="1447920" y="1981080"/>
              <a:ext cx="175248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MEMORI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DI MAS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280" y="3429000"/>
              <a:ext cx="2057400" cy="251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FLOPPY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HARD-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CD-R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DV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UNITA’ NAST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Z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197" idx="2"/>
              <a:endCxn id="198" idx="0"/>
            </p:cNvCxnSpPr>
            <p:nvPr/>
          </p:nvCxnSpPr>
          <p:spPr>
            <a:xfrm>
              <a:off x="2323800" y="2742840"/>
              <a:ext cx="1080" cy="686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00" name=""/>
          <p:cNvGrpSpPr/>
          <p:nvPr/>
        </p:nvGrpSpPr>
        <p:grpSpPr>
          <a:xfrm>
            <a:off x="4876920" y="1981080"/>
            <a:ext cx="2819160" cy="3967200"/>
            <a:chOff x="4876920" y="1981080"/>
            <a:chExt cx="2819160" cy="3967200"/>
          </a:xfrm>
        </p:grpSpPr>
        <p:sp>
          <p:nvSpPr>
            <p:cNvPr id="201" name=""/>
            <p:cNvSpPr/>
            <p:nvPr/>
          </p:nvSpPr>
          <p:spPr>
            <a:xfrm>
              <a:off x="5410080" y="1981080"/>
              <a:ext cx="175212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MEMOR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VELO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76920" y="3429000"/>
              <a:ext cx="2819160" cy="2519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ROM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(Read only memor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SOLA LETTU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R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(Random access memor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LETTURA 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SCITTU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285960" y="2742840"/>
              <a:ext cx="1080" cy="686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6:16:15Z</dcterms:created>
  <dc:creator> Gioalex</dc:creator>
  <dc:description/>
  <dc:language>en-US</dc:language>
  <cp:lastModifiedBy> Gioalex</cp:lastModifiedBy>
  <dcterms:modified xsi:type="dcterms:W3CDTF">2002-12-10T20:32:07Z</dcterms:modified>
  <cp:revision>39</cp:revision>
  <dc:subject/>
  <dc:title>Presentazione di PowerPoint</dc:title>
</cp:coreProperties>
</file>