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DB8A-033F-4CC7-8AE5-E5703306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52E-7D4F-44A2-8C8C-B996FACA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1899-3921-4BA3-8D18-E882AD67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A3F-5E59-4247-BEFB-DC9F24DD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EC54-42B0-49E1-B923-12F3D2FE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1531-F5E7-44A6-BD5B-4E27C0EA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14A5-0937-4CAB-97A8-0457B51D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6065-EE40-4AFC-A455-7C4D8505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08B6-911C-4C34-A36C-DE272ABA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3C4F-B5F1-4EAF-A39C-2599C6BB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AF38-BA37-4AA1-A3CF-64E0D601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434D-2920-4AA2-A6F5-9B07FC51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482E-86C7-4EE9-A29F-0C3788D9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9E41-C0B0-42E2-99EE-2302C5F5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4C34-B2D9-491F-B114-6709BFCC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BBA1-CA37-4192-A3FD-D527DC1C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EF12-E925-4964-A6C7-50E472D2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E09-6BAA-4863-8ED4-8FB97D1F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A11-641B-422E-B526-4DB5AA44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BB2-9BC1-4F0C-8137-3E640FEB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678-BCB7-450B-B544-56CD8AAE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629F-455B-424B-A068-56B44AAC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7BD-BFE5-4F8E-802C-854E07FE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902-193C-4F81-B130-16666AEF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683A-6B50-429A-B441-3A2881C89B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CC5F-A1BE-4999-A782-9B42AEF22F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61760" y="837720"/>
            <a:ext cx="7010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ttere in grado d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mprendere i concetti fondamentali riguardanti le Tecn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lla Informazione e della Comunicazio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scrivere la  struttura e il funzionamento di un personal comput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mprendere come si strutturano le reti informatiche e qu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patti determinano sulla società contemporane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SzPct val="1554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noscere i criteri ergonomici da adottare quando si usa 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mput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SzPct val="1554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are i problemi riguardanti la sicurezza dei dati e gli aspetti legal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457200"/>
            <a:ext cx="5715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IETTIVI DEL COR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33520" y="160020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7400" y="1905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533520"/>
            <a:ext cx="5410080" cy="306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MORIA PERMANENTE, SCRITTA AL MOMENTO DELLA FABBRICAZIONE DEL COMPUTER;ESSA NON PUÒ ESSERE MODIFICATA DALL’UTENTE NÉ SI CANCELLA ALLO SPEGNIMENTO DEL COMPUT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TIENE COMANDI CHE PERMETTONO AL COMPUTER, UNA VOLTA ACCESO, DI TROVARE SUI DISCHI FISSI IL SISTEMA OPERATIVO E CARICARLO NELLA MEMORIA 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41972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8d43"/>
                </a:solidFill>
                <a:latin typeface="Times New Roman"/>
              </a:rPr>
              <a:t>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4724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4114800"/>
            <a:ext cx="40384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MORIA VOLATI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PAZIO DI LAVORO TEMPORANE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 INFORMAZIONI DEVONO ESSERE SALVATE SU SUPPORTI FISSI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66680" y="380880"/>
            <a:ext cx="7315200" cy="208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All’interno di un computer le informazioni sono rappresentate con una sequenza di 8 cifre binarie, chiamate bit, che possono assumere il valore 0 e 1. Con 8 bit si ha il byte, con cui si rappresenta un carattere alfabetico, un numero, un simbolo di punteggiatura, uno spaz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i possono ottenere 256 combinazioni, corrispondenti ai tasti della tasti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600200" y="2864880"/>
            <a:ext cx="4419720" cy="1021320"/>
            <a:chOff x="1600200" y="2864880"/>
            <a:chExt cx="4419720" cy="1021320"/>
          </a:xfrm>
        </p:grpSpPr>
        <p:sp>
          <p:nvSpPr>
            <p:cNvPr id="212" name=""/>
            <p:cNvSpPr/>
            <p:nvPr/>
          </p:nvSpPr>
          <p:spPr>
            <a:xfrm>
              <a:off x="1600200" y="312408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28800" y="312408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57400" y="312408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86000" y="312408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4600" y="312408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3200" y="312408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1800" y="312408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00400" y="312408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62520" y="3124080"/>
              <a:ext cx="609480" cy="304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b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57800" y="3124080"/>
              <a:ext cx="76212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by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220" idx="0"/>
              <a:endCxn id="219" idx="0"/>
            </p:cNvCxnSpPr>
            <p:nvPr/>
          </p:nvCxnSpPr>
          <p:spPr>
            <a:xfrm rot="5400000">
              <a:off x="3789360" y="2648520"/>
              <a:ext cx="2160" cy="95292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endCxn id="219" idx="2"/>
            </p:cNvCxnSpPr>
            <p:nvPr/>
          </p:nvCxnSpPr>
          <p:spPr>
            <a:xfrm>
              <a:off x="1752480" y="3351240"/>
              <a:ext cx="1563120" cy="2160"/>
            </a:xfrm>
            <a:prstGeom prst="bentConnector4">
              <a:avLst>
                <a:gd name="adj1" fmla="val 806"/>
                <a:gd name="adj2" fmla="val 1440000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24" name=""/>
            <p:cNvCxnSpPr>
              <a:stCxn id="221" idx="2"/>
            </p:cNvCxnSpPr>
            <p:nvPr/>
          </p:nvCxnSpPr>
          <p:spPr>
            <a:xfrm rot="5400000">
              <a:off x="3847320" y="2095200"/>
              <a:ext cx="381960" cy="32011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 flipV="1">
              <a:off x="2438280" y="358092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143000" y="4800600"/>
            <a:ext cx="34290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Il BYTE è anche l’unità di misura della capacità della memoria, che viene espressa tramite i suoi multip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4495680"/>
            <a:ext cx="15238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44"/>
                </a:solidFill>
                <a:latin typeface="Times New Roman"/>
              </a:rPr>
              <a:t>Kilobyte (K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4495680"/>
            <a:ext cx="15238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Times New Roman"/>
              </a:rPr>
              <a:t>1024 by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76920" y="4876920"/>
            <a:ext cx="15238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44"/>
                </a:solidFill>
                <a:latin typeface="Times New Roman"/>
              </a:rPr>
              <a:t>Megabyte (M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4876920"/>
            <a:ext cx="15238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Times New Roman"/>
              </a:rPr>
              <a:t>1024 kiloby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5257800"/>
            <a:ext cx="15238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44"/>
                </a:solidFill>
                <a:latin typeface="Times New Roman"/>
              </a:rPr>
              <a:t>Gigabyte (G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0800" y="5257800"/>
            <a:ext cx="15238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Times New Roman"/>
              </a:rPr>
              <a:t>1024 megaby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5638680"/>
            <a:ext cx="15238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44"/>
                </a:solidFill>
                <a:latin typeface="Times New Roman"/>
              </a:rPr>
              <a:t>Terabyte (T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00800" y="5638680"/>
            <a:ext cx="15238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Times New Roman"/>
              </a:rPr>
              <a:t>1024 Gigaby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8436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FTWA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31244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I SIS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ieme di program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 governa e control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 operazioni e l’u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l’intero compu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 raccordo t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i applicati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476760" y="1981080"/>
            <a:ext cx="2514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DI R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stisce 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unicazione tra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colleg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r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1981080"/>
            <a:ext cx="3200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PPLICA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i 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entono all’utente 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tilizzare la macchina p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re documenti, grafici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elle, immagini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33"/>
                </a:solidFill>
                <a:latin typeface="Arial Black"/>
              </a:rPr>
              <a:t>SISTEMA OPERATIVO</a:t>
            </a:r>
            <a:br>
              <a:rPr sz="4000"/>
            </a:br>
            <a:r>
              <a:rPr b="0" lang="en-US" sz="4000" spc="-1" strike="noStrike">
                <a:solidFill>
                  <a:srgbClr val="ccff33"/>
                </a:solidFill>
                <a:latin typeface="Arial Black"/>
              </a:rPr>
              <a:t>(di sistema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1600200"/>
            <a:ext cx="8153280" cy="508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Ha il compito di interpretare i comandi provenienti dall’esterno, tradurli in linguaggio macchina (comprensibile al computer) e poi di ritradurre le risposte in linguaggio a noi comprensib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I più diffusi son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Windows 98/ME/200/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Ma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OS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FTAWRE APPLICATIV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borazione te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ktop publi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zi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glio elettron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RETI INFORMATICHE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1218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no sistemi di connessione tra più computer, che consentono 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unicazione e la condivisione di informazioni e servizi, quali stampanti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-disk di notevoli dimensio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3429000"/>
            <a:ext cx="3809880" cy="153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A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Local Area Networ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’ limitata ad un singolo edificio o ad un insieme di edifici posti a breve distanza (non più di 10 K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2438280"/>
            <a:ext cx="3200400" cy="399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Times New Roman"/>
              </a:rPr>
              <a:t>WA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Wide Area Networ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s collegati a grandi distanze addirittura planet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8d43"/>
                </a:solidFill>
                <a:latin typeface="Times New Roman"/>
              </a:rPr>
              <a:t>MA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Metropolitan Area Networ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amenti all’interno di una provi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532800"/>
            <a:ext cx="7772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INTERNE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’ UNA GIGANTESCA RETE CHE COLLEGA UN ENOR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ERO DI COMPUTER DISLOCATI SU TUTTO IL PIANE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 collegarsi è necessario avere u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MOD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Trasforma i segnali digitali provenienti dal computer in segnali analogici che corrono lungo la linea telefonica e vicever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BBONAMENTO AL PROV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i fornisce l’accesso alla r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38080" y="914400"/>
            <a:ext cx="7391520" cy="396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ff"/>
                </a:solidFill>
                <a:uFillTx/>
                <a:latin typeface="Times New Roman"/>
              </a:rPr>
              <a:t>UTILIZZO DELLA RETE INTERNE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WORLD WIDE WEB (WWW)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istema più usato, basato su pagine ipertestuali collegate tra lo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POSTA ELETTRONICA o E-MAI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possibilità di inviare messag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’indirizzo del destinatario è formata da due part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Nomeutente@nomeserv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nome del computer dove viene conservata la po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94560"/>
            <a:ext cx="7772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IL COMPUTER NELLA VITA DI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OGNI GIORN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89584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33"/>
                </a:solidFill>
                <a:latin typeface="Arial"/>
              </a:rPr>
              <a:t>Nella cas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Controllo bilancio famili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Telelavo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Memorizza scaden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Gio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19810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57600" y="1600200"/>
            <a:ext cx="4495680" cy="192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Nel lavo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fice automati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sieme di hardware e software che facilita i compiti di routine di ufficio e migliora lo scambio di dati tra impiega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038480"/>
            <a:ext cx="2895840" cy="169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Nell’istruzion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truzione a distan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D ROM multomedi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ulazion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8480" y="3352680"/>
            <a:ext cx="4114800" cy="267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Nella vita quotidia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ncom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mart ca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dice a bar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uter in: biblioteca, supermercato, ambulatorio me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45576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RGONOMIA E COMPUT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66"/>
                </a:solidFill>
                <a:latin typeface="Arial"/>
                <a:ea typeface="Times New Roman"/>
              </a:rPr>
              <a:t>Per quanto riguarda lo scher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Deve essere sistemato in posizione frontale rispet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all'operato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Deve essere posizionato in modo che gli occhi sia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allo stesso livello della sommità del monit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La distanza dal video deve essere di 50~60 c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I caratteri devono avere una buona definizìone e u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forma chiar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L'immagine deve essere stabile e priva di sfarfalli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Luminosità e contrasto devono essere facilmen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regolabil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Lo schermo deve essere orientabile e non deve av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rifless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La frequenza di refresh (numero di volte in cui vie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ridisegnato lo schermo) deve essere superiore a 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Hz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95320" y="1295280"/>
            <a:ext cx="39625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ff33"/>
                </a:solidFill>
                <a:latin typeface="Arial"/>
                <a:ea typeface="Times New Roman"/>
              </a:rPr>
              <a:t>Per quanto riguarda la tasti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Si deve avere la possibilità di regolarne l'inclinazi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Deve essere fisicamente separata dallo schermo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modo che l'utente possa assumere una posizione il più confortevole possibi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Lo spazio davanti alla tastiera deve permett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all'operatore di poter appoggiare le mani e la bracc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98d43"/>
                </a:solidFill>
                <a:latin typeface="Arial"/>
                <a:ea typeface="Times New Roman"/>
              </a:rPr>
              <a:t>	</a:t>
            </a:r>
            <a:r>
              <a:rPr b="1" lang="it-IT" sz="1400" spc="-1" strike="noStrike">
                <a:solidFill>
                  <a:srgbClr val="f98d43"/>
                </a:solidFill>
                <a:latin typeface="Arial"/>
                <a:ea typeface="Times New Roman"/>
              </a:rPr>
              <a:t>Per quanto riguarda la sed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Deve permettere una certa libertà di movimento e una posizione comoda. L'ideale sarebbe usare una sedia ergonornica che permette di assumere una postura corretta e rilassat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Deve avere un'altezza regolabile e uno schien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regolabi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Si deve comunque mantenere la schiena dirit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appoggiata allo schiena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143000" y="1295280"/>
            <a:ext cx="6934320" cy="4648320"/>
            <a:chOff x="1143000" y="1295280"/>
            <a:chExt cx="6934320" cy="4648320"/>
          </a:xfrm>
        </p:grpSpPr>
        <p:sp>
          <p:nvSpPr>
            <p:cNvPr id="143" name=""/>
            <p:cNvSpPr/>
            <p:nvPr/>
          </p:nvSpPr>
          <p:spPr>
            <a:xfrm>
              <a:off x="3809880" y="1295280"/>
              <a:ext cx="1371600" cy="914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HARDWA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29000" y="3048120"/>
              <a:ext cx="2133720" cy="914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33"/>
                  </a:solidFill>
                  <a:latin typeface="Times New Roman"/>
                </a:rPr>
                <a:t>CONCETTI DI BA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3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660033"/>
                  </a:solidFill>
                  <a:latin typeface="Times New Roman"/>
                </a:rPr>
                <a:t>DELLA TECNOLOGI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33"/>
                  </a:solidFill>
                  <a:latin typeface="Times New Roman"/>
                </a:rPr>
                <a:t>DELL’INFORMAZI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43000" y="1295280"/>
              <a:ext cx="1371600" cy="914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660033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COMPONEN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BASE DI UN P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43000" y="3048120"/>
              <a:ext cx="1371600" cy="914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SICUREZZ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DIRITTI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D’AUTO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3000" y="5029200"/>
              <a:ext cx="1371600" cy="914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IT E SOCIETÀ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9880" y="5029200"/>
              <a:ext cx="1371600" cy="914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IL COMPUTE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NELLA VIT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OGNI GI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53080" y="3048120"/>
              <a:ext cx="1371600" cy="914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SOFTWA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53080" y="1295280"/>
              <a:ext cx="1371600" cy="914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DISPOSITIV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Times New Roman"/>
                </a:rPr>
                <a:t>DI MEMO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05720" y="5029200"/>
              <a:ext cx="1371600" cy="914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33"/>
                  </a:solidFill>
                  <a:latin typeface="Times New Roman"/>
                </a:rPr>
                <a:t>RET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33"/>
                  </a:solidFill>
                  <a:latin typeface="Times New Roman"/>
                </a:rPr>
                <a:t>INFORMATICH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2" name=""/>
            <p:cNvCxnSpPr>
              <a:stCxn id="144" idx="0"/>
              <a:endCxn id="143" idx="2"/>
            </p:cNvCxnSpPr>
            <p:nvPr/>
          </p:nvCxnSpPr>
          <p:spPr>
            <a:xfrm flipV="1">
              <a:off x="4495320" y="2208960"/>
              <a:ext cx="1080" cy="8391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4" idx="2"/>
              <a:endCxn id="148" idx="0"/>
            </p:cNvCxnSpPr>
            <p:nvPr/>
          </p:nvCxnSpPr>
          <p:spPr>
            <a:xfrm>
              <a:off x="4495320" y="3962160"/>
              <a:ext cx="1080" cy="10674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4" idx="3"/>
              <a:endCxn id="149" idx="1"/>
            </p:cNvCxnSpPr>
            <p:nvPr/>
          </p:nvCxnSpPr>
          <p:spPr>
            <a:xfrm>
              <a:off x="5562360" y="3504960"/>
              <a:ext cx="991080" cy="10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44" idx="1"/>
              <a:endCxn id="146" idx="3"/>
            </p:cNvCxnSpPr>
            <p:nvPr/>
          </p:nvCxnSpPr>
          <p:spPr>
            <a:xfrm flipH="1">
              <a:off x="2514240" y="3504960"/>
              <a:ext cx="915120" cy="10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56" name=""/>
            <p:cNvSpPr/>
            <p:nvPr/>
          </p:nvSpPr>
          <p:spPr>
            <a:xfrm>
              <a:off x="5181480" y="3962520"/>
              <a:ext cx="1524240" cy="1066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181480" y="2209320"/>
              <a:ext cx="1371600" cy="838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514600" y="3962520"/>
              <a:ext cx="1295280" cy="1066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2514600" y="2209320"/>
              <a:ext cx="1295280" cy="838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209680" y="457200"/>
            <a:ext cx="4343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OMMAR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38102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  <a:ea typeface="Times New Roman"/>
              </a:rPr>
              <a:t>Luce, cal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  <a:ea typeface="Times New Roman"/>
              </a:rPr>
              <a:t>Occorre garantire un'illuminazione suffic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  <a:ea typeface="Times New Roman"/>
              </a:rPr>
              <a:t>e un contrasto appropriato tra schermo 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  <a:ea typeface="Times New Roman"/>
              </a:rPr>
              <a:t>ambien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  <a:ea typeface="Times New Roman"/>
              </a:rPr>
              <a:t>E’ opportuno che nella stanza dove si lavor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  <a:ea typeface="Times New Roman"/>
              </a:rPr>
              <a:t>le finestre abbiano le tend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  <a:ea typeface="Times New Roman"/>
              </a:rPr>
              <a:t>In ogni caso la sorgente luminosa de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  <a:ea typeface="Times New Roman"/>
              </a:rPr>
              <a:t>arrivare da destra o da sinistra evitan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  <a:ea typeface="Times New Roman"/>
              </a:rPr>
              <a:t>riflessi sullo scherm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038120" y="228240"/>
            <a:ext cx="48006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Collegamenti elettric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Particolare attenzione va fatta per quel che riguarda la par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elettrica. L'impianto elettrico dovrà soddisfare a precisi requisiti 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cui la presenza di salvavita e di un buon impianto di messa a ter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ff"/>
                </a:solidFill>
                <a:latin typeface="Arial"/>
                <a:ea typeface="Times New Roman"/>
              </a:rPr>
              <a:t>Radiazio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ff"/>
                </a:solidFill>
                <a:latin typeface="Arial"/>
                <a:ea typeface="Times New Roman"/>
              </a:rPr>
              <a:t> </a:t>
            </a: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Le radiazioni emesse da uno schermo sono difficili da misurare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quanto molto basse ma è opportuno utilizzare monitor «l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radiation» e porsi ad una distanza di 40+ 50 c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cc00"/>
                </a:solidFill>
                <a:latin typeface="Arial"/>
                <a:ea typeface="Times New Roman"/>
              </a:rPr>
              <a:t>Aspetti sanita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Affaticamenti visivi, dolori muscolari in genere alle braccia, a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schiena e al collo sono legati per lo più a postazioni di lavoro po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ergonomiche. Pertanto è opportuno curare questi aspetti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assumere tutti gli accorgimenti necessari. Si sottolinea 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99"/>
                </a:solidFill>
                <a:latin typeface="Arial"/>
                <a:ea typeface="Times New Roman"/>
              </a:rPr>
              <a:t>necessità in ogni caso di fare numerose pa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5486400"/>
            <a:ext cx="70866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d infine è molto importante fare delle pause, ad esempio volgendo lo sguardo per qualche minuto verso punti lontani dallo scher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ICUREZZ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30000"/>
              </a:lnSpc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 memoria centrale o RAM è temporanea e perde tutte le informazioni se viene a mancare la corrente: per evitare di perdere il proprio lavoro sarebbe perciò opportuno fare continui salvataggi dei document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45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er prevenire la diffusione dei virus (programmi che si autoduplicano all'interno di altri file e hanno l'obiettivo di distruggere programmi o dati, cambiare le impostazioni dei sistema, disturbare il lavoro dell'utente) bisognerebbe controllare con programmi di utilità antivirus tutti i dati ed i programmi che carichiamo sul compu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operazione che andrebbe eseguita periodicamente è pertanto il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ckup,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oè la copia di tutto il contenuto dei disco fisso o delle cartelle più importanti, su supporti esterni come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D‑ROM,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ischetti, zip‑dis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3038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PYRIGH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ff99"/>
                </a:solidFill>
                <a:latin typeface="Arial"/>
                <a:ea typeface="Times New Roman"/>
              </a:rPr>
              <a:t>La tutela dei software è stata introdotta ad opera dei decreto legislativo n. 518/92, che individua essenzialmente due forme: il brevetto e il diritto d'autore. Il brevetto tutela l'invenzione industriale, il diritto d'autore le opere dell'ingegno. Quindi è necessario, prima di utilizzare un programma, accertarsi che il suo utilizzo sia legale, o perché lo abbiamo acquistato o perché è un software shareware o freew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ff99"/>
                </a:solidFill>
                <a:latin typeface="Arial"/>
                <a:ea typeface="Times New Roman"/>
              </a:rPr>
              <a:t>Sono definite </a:t>
            </a:r>
            <a:r>
              <a:rPr b="1" lang="it-IT" sz="2000" spc="-1" strike="noStrike">
                <a:solidFill>
                  <a:srgbClr val="ccff99"/>
                </a:solidFill>
                <a:latin typeface="Arial"/>
                <a:ea typeface="Times New Roman"/>
              </a:rPr>
              <a:t>shareware </a:t>
            </a:r>
            <a:r>
              <a:rPr b="0" lang="it-IT" sz="2000" spc="-1" strike="noStrike">
                <a:solidFill>
                  <a:srgbClr val="ccff99"/>
                </a:solidFill>
                <a:latin typeface="Arial"/>
                <a:ea typeface="Times New Roman"/>
              </a:rPr>
              <a:t>le copie dei programmi offerte gratuitamente per un periodo limitato; finito il periodo di prova, l'utente per utilizzare il programma deve pagare una piccola somma all'autore.E’ definito </a:t>
            </a:r>
            <a:r>
              <a:rPr b="1" lang="it-IT" sz="2000" spc="-1" strike="noStrike">
                <a:solidFill>
                  <a:srgbClr val="ccff99"/>
                </a:solidFill>
                <a:latin typeface="Arial"/>
                <a:ea typeface="Times New Roman"/>
              </a:rPr>
              <a:t>freeware </a:t>
            </a:r>
            <a:r>
              <a:rPr b="0" lang="it-IT" sz="2000" spc="-1" strike="noStrike">
                <a:solidFill>
                  <a:srgbClr val="ccff99"/>
                </a:solidFill>
                <a:latin typeface="Arial"/>
                <a:ea typeface="Times New Roman"/>
              </a:rPr>
              <a:t>il software offerto gratuitamente in forma comple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ff99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45576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IVAC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  <a:ea typeface="Times New Roman"/>
              </a:rPr>
              <a:t>La Legge 675/96 prevede il consenso dei soggetti interessati per l'utilizzo dei dati personali, ossia per la loro raccolta, registrazione, organizzazione, conservazione ed elaborazi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  <a:ea typeface="Times New Roman"/>
              </a:rPr>
              <a:t>I dati personali sono raccolti direttamente presso l'azienda interessata, che deve fornire l'informativa direttamente all'atto della loro raccolta, o inviarla all'atto della registrazione. Tutti questi dati verranno ovviamente trattati nel rispetto della normativa vigente. Per questo motivo occorre adottare tutte le soluzioni possibili per impedirne l'accesso a personale non autorizza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ispositivo in grado di acquisire informazioni dall’esterno, reagire alle stess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 inviare informazioni dirette di nuovo all’es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er elaborare le informazioni occorre un sistema di dispositivi meccanici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lettronici (HARDWARE) e di strumenti che ne permettano e ne definisc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funzionamento (SOFTWA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3124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3124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Computer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477120" cy="2359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33360" y="457200"/>
            <a:ext cx="4882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S’E’ UN COMPU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Alternative"/>
                <a:ea typeface="Arial Alternative"/>
              </a:rPr>
              <a:t>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361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frame (grandi dimension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icomputer (dimensioni ridot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al computer (dimensioni contenute e proprietà di una sola person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book (portati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computer (terminale di rete, senza disch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42670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419720"/>
            <a:ext cx="6477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ALE STUPIDO:sprovvisto di processore e disco rigido, può leggere i dati ma non eleborar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ALE INTELLIGENTE: elabora i da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45576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 Black"/>
              </a:rPr>
              <a:t>COMPONENTI DI UN PC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5410080"/>
            <a:ext cx="6172200" cy="785520"/>
          </a:xfrm>
          <a:prstGeom prst="rect">
            <a:avLst/>
          </a:prstGeom>
          <a:noFill/>
          <a:ln w="19080">
            <a:solidFill>
              <a:srgbClr val="ccffff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Times New Roman"/>
              </a:rPr>
              <a:t>IL TUTTO E’ RACCHIUSO NELL’UNITA’ CENTR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Times New Roman"/>
              </a:rPr>
              <a:t>CHIAMATA CABINET O C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Schedamadre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324480" cy="3780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HARDWA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447920"/>
            <a:ext cx="2971800" cy="279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cc"/>
                </a:solidFill>
                <a:latin typeface="Arial"/>
              </a:rPr>
              <a:t>La CPU rappresenta il cuore del computer. E’ costituita da un </a:t>
            </a:r>
            <a:r>
              <a:rPr b="0" i="1" lang="en-US" sz="1600" spc="-1" strike="noStrike">
                <a:solidFill>
                  <a:srgbClr val="ccffcc"/>
                </a:solidFill>
                <a:latin typeface="Arial"/>
              </a:rPr>
              <a:t>microprocessore (insieme di circuiti integrati) </a:t>
            </a:r>
            <a:r>
              <a:rPr b="0" lang="en-US" sz="1600" spc="-1" strike="noStrike">
                <a:solidFill>
                  <a:srgbClr val="ccffcc"/>
                </a:solidFill>
                <a:latin typeface="Arial"/>
              </a:rPr>
              <a:t>posto sulla scheda mad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cc"/>
                </a:solidFill>
                <a:latin typeface="Arial"/>
              </a:rPr>
              <a:t>Contie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cc"/>
                </a:solidFill>
                <a:latin typeface="Arial"/>
              </a:rPr>
              <a:t>L’unità aritmetico-logica(ALU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cc"/>
                </a:solidFill>
                <a:latin typeface="Arial"/>
              </a:rPr>
              <a:t>La memoria R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cc"/>
                </a:solidFill>
                <a:latin typeface="Arial"/>
              </a:rPr>
              <a:t>Si collega alla memoria 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3657600"/>
            <a:ext cx="12189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4"/>
                </a:solidFill>
                <a:latin typeface="Times New Roman"/>
              </a:rPr>
              <a:t>Funzione 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4"/>
                </a:solidFill>
                <a:latin typeface="Times New Roman"/>
              </a:rPr>
              <a:t>calcol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3657600"/>
            <a:ext cx="12193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4"/>
                </a:solidFill>
                <a:latin typeface="Times New Roman"/>
              </a:rPr>
              <a:t>Funzione di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4"/>
                </a:solidFill>
                <a:latin typeface="Times New Roman"/>
              </a:rPr>
              <a:t>controll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5181480"/>
            <a:ext cx="350532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4"/>
                </a:solidFill>
                <a:latin typeface="Times New Roman"/>
              </a:rPr>
              <a:t>PERIFERICHE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4"/>
                </a:solidFill>
                <a:latin typeface="Times New Roman"/>
              </a:rPr>
              <a:t>Unità disco, cd-rom, stampanti, schede di rete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4"/>
                </a:solidFill>
                <a:latin typeface="Times New Roman"/>
              </a:rPr>
              <a:t>Tastiere, modem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44"/>
                </a:solidFill>
                <a:latin typeface="Times New Roman"/>
              </a:rPr>
              <a:t>schede video e audio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495320" y="3124080"/>
            <a:ext cx="68580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3124080"/>
            <a:ext cx="7621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42670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Cpu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1487520" cy="1663560"/>
          </a:xfrm>
          <a:prstGeom prst="rect">
            <a:avLst/>
          </a:prstGeom>
          <a:ln w="9360">
            <a:solidFill>
              <a:srgbClr val="000080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</p:pic>
      <p:sp>
        <p:nvSpPr>
          <p:cNvPr id="182" name=""/>
          <p:cNvSpPr/>
          <p:nvPr/>
        </p:nvSpPr>
        <p:spPr>
          <a:xfrm>
            <a:off x="3276720" y="19051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Black"/>
              </a:rPr>
              <a:t>DISPOSITIVI DI INPU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19520" y="1752120"/>
            <a:ext cx="304776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TASTI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TRACKB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TOUCH P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JOYSTI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PENNA OT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TAVOLETTE GRAFIC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Tastiera" descr=""/>
          <p:cNvPicPr/>
          <p:nvPr/>
        </p:nvPicPr>
        <p:blipFill>
          <a:blip r:embed="rId9"/>
          <a:stretch/>
        </p:blipFill>
        <p:spPr>
          <a:xfrm>
            <a:off x="533520" y="4572000"/>
            <a:ext cx="2157120" cy="901800"/>
          </a:xfrm>
          <a:prstGeom prst="rect">
            <a:avLst/>
          </a:prstGeom>
          <a:ln w="0">
            <a:noFill/>
          </a:ln>
        </p:spPr>
      </p:pic>
      <p:pic>
        <p:nvPicPr>
          <p:cNvPr id="186" name="Trackball" descr=""/>
          <p:cNvPicPr/>
          <p:nvPr/>
        </p:nvPicPr>
        <p:blipFill>
          <a:blip r:embed="rId10"/>
          <a:stretch/>
        </p:blipFill>
        <p:spPr>
          <a:xfrm>
            <a:off x="3733920" y="4724280"/>
            <a:ext cx="1438200" cy="1090800"/>
          </a:xfrm>
          <a:prstGeom prst="rect">
            <a:avLst/>
          </a:prstGeom>
          <a:ln w="0">
            <a:noFill/>
          </a:ln>
        </p:spPr>
      </p:pic>
      <p:pic>
        <p:nvPicPr>
          <p:cNvPr id="187" name="Mouse" descr=""/>
          <p:cNvPicPr/>
          <p:nvPr/>
        </p:nvPicPr>
        <p:blipFill>
          <a:blip r:embed="rId11"/>
          <a:stretch/>
        </p:blipFill>
        <p:spPr>
          <a:xfrm>
            <a:off x="457200" y="2209680"/>
            <a:ext cx="1798560" cy="1017720"/>
          </a:xfrm>
          <a:prstGeom prst="rect">
            <a:avLst/>
          </a:prstGeom>
          <a:ln w="0">
            <a:noFill/>
          </a:ln>
        </p:spPr>
      </p:pic>
      <p:pic>
        <p:nvPicPr>
          <p:cNvPr id="188" name="Scanner" descr=""/>
          <p:cNvPicPr/>
          <p:nvPr/>
        </p:nvPicPr>
        <p:blipFill>
          <a:blip r:embed="rId12"/>
          <a:stretch/>
        </p:blipFill>
        <p:spPr>
          <a:xfrm>
            <a:off x="6553080" y="4572000"/>
            <a:ext cx="1438560" cy="1000080"/>
          </a:xfrm>
          <a:prstGeom prst="rect">
            <a:avLst/>
          </a:prstGeom>
          <a:ln w="0">
            <a:noFill/>
          </a:ln>
        </p:spPr>
      </p:pic>
      <p:pic>
        <p:nvPicPr>
          <p:cNvPr id="189" name="Scanner1" descr=""/>
          <p:cNvPicPr/>
          <p:nvPr/>
        </p:nvPicPr>
        <p:blipFill>
          <a:blip r:embed="rId13"/>
          <a:stretch/>
        </p:blipFill>
        <p:spPr>
          <a:xfrm>
            <a:off x="6248520" y="1981080"/>
            <a:ext cx="2017440" cy="1427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DISPOSITIVI DI OUTPU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00400" y="2362320"/>
            <a:ext cx="2286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SCHEDA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STAMPA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PLOT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Monitor" descr=""/>
          <p:cNvPicPr/>
          <p:nvPr/>
        </p:nvPicPr>
        <p:blipFill>
          <a:blip r:embed="rId5"/>
          <a:stretch/>
        </p:blipFill>
        <p:spPr>
          <a:xfrm>
            <a:off x="5867280" y="1676520"/>
            <a:ext cx="938160" cy="957240"/>
          </a:xfrm>
          <a:prstGeom prst="rect">
            <a:avLst/>
          </a:prstGeom>
          <a:ln w="0">
            <a:noFill/>
          </a:ln>
        </p:spPr>
      </p:pic>
      <p:pic>
        <p:nvPicPr>
          <p:cNvPr id="193" name="Plotter" descr=""/>
          <p:cNvPicPr/>
          <p:nvPr/>
        </p:nvPicPr>
        <p:blipFill>
          <a:blip r:embed="rId6"/>
          <a:stretch/>
        </p:blipFill>
        <p:spPr>
          <a:xfrm>
            <a:off x="4343400" y="4114800"/>
            <a:ext cx="1438200" cy="1542960"/>
          </a:xfrm>
          <a:prstGeom prst="rect">
            <a:avLst/>
          </a:prstGeom>
          <a:ln w="0">
            <a:noFill/>
          </a:ln>
        </p:spPr>
      </p:pic>
      <p:pic>
        <p:nvPicPr>
          <p:cNvPr id="194" name="Stampante" descr=""/>
          <p:cNvPicPr/>
          <p:nvPr/>
        </p:nvPicPr>
        <p:blipFill>
          <a:blip r:embed="rId7"/>
          <a:stretch/>
        </p:blipFill>
        <p:spPr>
          <a:xfrm>
            <a:off x="914400" y="2438280"/>
            <a:ext cx="168264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SPOSITIVI DI MEMORI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295280" y="1981080"/>
            <a:ext cx="2057400" cy="3967200"/>
            <a:chOff x="1295280" y="1981080"/>
            <a:chExt cx="2057400" cy="3967200"/>
          </a:xfrm>
        </p:grpSpPr>
        <p:sp>
          <p:nvSpPr>
            <p:cNvPr id="197" name=""/>
            <p:cNvSpPr/>
            <p:nvPr/>
          </p:nvSpPr>
          <p:spPr>
            <a:xfrm>
              <a:off x="1447920" y="1981080"/>
              <a:ext cx="1752480" cy="762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cc99ff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MEMORIA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DI MASS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95280" y="3429000"/>
              <a:ext cx="2057400" cy="2519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cc99ff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FLOPPY DIS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HARD-DIS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CD-RO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DV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UNITA’ NASTR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Z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9" name=""/>
            <p:cNvCxnSpPr>
              <a:stCxn id="197" idx="2"/>
              <a:endCxn id="198" idx="0"/>
            </p:cNvCxnSpPr>
            <p:nvPr/>
          </p:nvCxnSpPr>
          <p:spPr>
            <a:xfrm>
              <a:off x="2323800" y="2742840"/>
              <a:ext cx="1080" cy="686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200" name=""/>
          <p:cNvGrpSpPr/>
          <p:nvPr/>
        </p:nvGrpSpPr>
        <p:grpSpPr>
          <a:xfrm>
            <a:off x="4876920" y="1981080"/>
            <a:ext cx="2819160" cy="3967200"/>
            <a:chOff x="4876920" y="1981080"/>
            <a:chExt cx="2819160" cy="3967200"/>
          </a:xfrm>
        </p:grpSpPr>
        <p:sp>
          <p:nvSpPr>
            <p:cNvPr id="201" name=""/>
            <p:cNvSpPr/>
            <p:nvPr/>
          </p:nvSpPr>
          <p:spPr>
            <a:xfrm>
              <a:off x="5410080" y="1981080"/>
              <a:ext cx="1752120" cy="762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9966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MEMOR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VELO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76920" y="3429000"/>
              <a:ext cx="2819160" cy="2519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9966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ROM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(Read only memory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SOLA LETTU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R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(Random access memory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LETTURA 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44"/>
                  </a:solidFill>
                  <a:latin typeface="Times New Roman"/>
                </a:rPr>
                <a:t>SCITTU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1" idx="2"/>
              <a:endCxn id="202" idx="0"/>
            </p:cNvCxnSpPr>
            <p:nvPr/>
          </p:nvCxnSpPr>
          <p:spPr>
            <a:xfrm>
              <a:off x="6285960" y="2742840"/>
              <a:ext cx="1080" cy="686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6:16:15Z</dcterms:created>
  <dc:creator> Gioalex</dc:creator>
  <dc:description/>
  <dc:language>en-US</dc:language>
  <cp:lastModifiedBy> Gioalex</cp:lastModifiedBy>
  <dcterms:modified xsi:type="dcterms:W3CDTF">2002-12-10T20:32:07Z</dcterms:modified>
  <cp:revision>39</cp:revision>
  <dc:subject/>
  <dc:title>Presentazione di PowerPoint</dc:title>
</cp:coreProperties>
</file>