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62F-14B1-4923-9546-FE61A903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CD9-01EC-4B55-81A4-B7A6F288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36CA-C0A8-448F-A1AF-D8ADE4A9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1D2-1539-4E1B-ACDF-438A3ADA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BA60-B9F2-4715-97AB-416B69FC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B120-843E-427E-B980-4E7BAA27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50DD-2AF8-4644-A74F-52A18A00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2433-60AE-4554-BCFD-052DEAD9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53B0-222F-436F-B017-F7BBF606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9AEE-B880-4DCB-B84A-E2225AD8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A78E-A3BB-4222-9CCC-45789DBB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3EE9-DCBF-4345-9B3E-6643EF3D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9957-3DA8-4E63-9ACD-5ACBFD54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5EE5-C46C-4A0D-8E79-A3C2BB52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F758-A5DB-4C82-9C23-30DEA79E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DDD5-C058-4FAB-AAE0-1CDE71B3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50B0-CACD-4AE0-9628-3E4FD820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41D-A456-40D7-861A-561F6611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382-2583-489F-A1BC-B10F0D9E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0FD8-D6E2-40C2-A458-53F9B230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9116-BCB3-4F13-A4DB-3EEC238D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1A86-2048-48AC-B5B8-A88D5680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3F1B-B43A-4369-A89B-13D24CBC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45D-B2B3-47A5-9C56-ACC9B73A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113F-1849-44BF-A97B-712AC3C2CF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28A1-1227-412F-9D55-5A98BEC7BA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isgadda.it/wp2/" TargetMode="External"/><Relationship Id="rId2" Type="http://schemas.openxmlformats.org/officeDocument/2006/relationships/hyperlink" Target="http://www.iisgadda.it/wp2/" TargetMode="External"/><Relationship Id="rId3" Type="http://schemas.openxmlformats.org/officeDocument/2006/relationships/hyperlink" Target="http://www.iisgadda.it/wp2/" TargetMode="External"/><Relationship Id="rId4" Type="http://schemas.openxmlformats.org/officeDocument/2006/relationships/hyperlink" Target="http://www.iisgadda.it/wp2/" TargetMode="External"/><Relationship Id="rId5" Type="http://schemas.openxmlformats.org/officeDocument/2006/relationships/hyperlink" Target="http://www.iisgadda.it/wp2/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isgadda.it/wp2/" TargetMode="External"/><Relationship Id="rId2" Type="http://schemas.openxmlformats.org/officeDocument/2006/relationships/hyperlink" Target="http://www.iisgadda.it/wp2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848720" cy="192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2533c"/>
                </a:solidFill>
                <a:latin typeface="Monotype Corsiva"/>
              </a:rPr>
              <a:t>IL NOSTRO LABORATORIO</a:t>
            </a:r>
            <a:endParaRPr b="0" lang="en-US" sz="6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76e"/>
                </a:solidFill>
                <a:latin typeface="Comic Sans MS"/>
              </a:rPr>
              <a:t>Di INFORMATIC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788000" y="3538440"/>
            <a:ext cx="42354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Interne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internet (contrazione della locuzione inglese Interconnected Networks, ovvero Reti Interconnesse) è una rete di computer mondiale ad accesso pubblico, attualmente rappresentante il principale mezzo di comunicazione di massa, e che offre all'utente tutta una vasta serie di possibili contenuti e servizi. Tale interconnessione è resa possibile da una suite di protocolli di rete chiamata "TCP/IP" dal nome dei due protocolli principali, il TCP e l'IP, che costituiscono la "lingua" comune con cui i computer connessi ad Internet (host) si interconnettono e comunicano tra loro indipendentemente dalla loro architettura hardware e software garantendo l'interoperabilità tra sistemi e sottoreti diverse. L'avvento e la diffusione di Internet ha rappresentato una vera e propria rivoluzione sociologica e tecnologica assieme ad altre invenzioni quali i telefoni cellulari e il GPS, nonché uno dei motori dello sviluppo economico mondiale nell'ambito dell'Information and Communication Technology (ICT) e oltre.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16" name="opera_logo" descr=""/>
          <p:cNvPicPr/>
          <p:nvPr/>
        </p:nvPicPr>
        <p:blipFill>
          <a:blip r:embed="rId1"/>
          <a:stretch/>
        </p:blipFill>
        <p:spPr>
          <a:xfrm>
            <a:off x="0" y="5057640"/>
            <a:ext cx="2057400" cy="1800360"/>
          </a:xfrm>
          <a:prstGeom prst="rect">
            <a:avLst/>
          </a:prstGeom>
          <a:ln w="0">
            <a:noFill/>
          </a:ln>
        </p:spPr>
      </p:pic>
      <p:pic>
        <p:nvPicPr>
          <p:cNvPr id="117" name="firefox_logo" descr=""/>
          <p:cNvPicPr/>
          <p:nvPr/>
        </p:nvPicPr>
        <p:blipFill>
          <a:blip r:embed="rId2"/>
          <a:stretch/>
        </p:blipFill>
        <p:spPr>
          <a:xfrm>
            <a:off x="2438280" y="5029200"/>
            <a:ext cx="198144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google_chrome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2133720" cy="1905120"/>
          </a:xfrm>
          <a:prstGeom prst="rect">
            <a:avLst/>
          </a:prstGeom>
          <a:ln w="0">
            <a:noFill/>
          </a:ln>
        </p:spPr>
      </p:pic>
      <p:pic>
        <p:nvPicPr>
          <p:cNvPr id="119" name="internet" descr=""/>
          <p:cNvPicPr/>
          <p:nvPr/>
        </p:nvPicPr>
        <p:blipFill>
          <a:blip r:embed="rId4"/>
          <a:stretch/>
        </p:blipFill>
        <p:spPr>
          <a:xfrm>
            <a:off x="4648320" y="48769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2533c"/>
                </a:solidFill>
                <a:latin typeface="Comic Sans MS"/>
              </a:rPr>
              <a:t>Provider e linee di comunicazion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-17316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92934"/>
                </a:solidFill>
                <a:latin typeface="Comic Sans MS"/>
              </a:rPr>
              <a:t>Un provider è Il PROVIDER è la società che ti mette a disposizione il collegamento ad internet....ad esempio INFOSTRADA o TELECOM ITALIA con il suo servizio "Alice". Il SERVER invece è il computer del PROVIDER che si collega al tuo computer (detto CLIENT) per fornirti internet.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Comic Sans MS"/>
              </a:rPr>
              <a:t>Le linee di comunicazione sono: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Comic Sans MS"/>
              </a:rPr>
              <a:t>PSTN: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(Public Switched Telephone Network) La normale rete telefonica analogica.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Comic Sans MS"/>
              </a:rPr>
              <a:t>ISDN: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Integrated Service Digital Network. Standard europeo per la telefonia fissa digitale. Comprende due canali: uno per la trasmissione di dati ed uno per la voce. Ha una velocità di trasferimento maggiore di quella analogica.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Comic Sans MS"/>
              </a:rPr>
              <a:t>ADSL: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Asymmetric Digital Subscriver Line, tradotto in italiano vuol dire Linea Digitale Asimmetrica per l'Abbonato.</a:t>
            </a:r>
            <a:br>
              <a:rPr sz="1400"/>
            </a:b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Rappresenta una tecnologia in grado di trasformare la normale linea telefonica, o "doppino telefonico", in una linea digitale a velocità elevata, di gran lunga superiore al collegamento digitale ISDN.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L'ADSL viene definita asimmetrica in quanto la velocità di ricezione dati (o Downstream) è maggiore rispetto a quella di trasmissione (Upstream).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L'ADSL consente inoltre di mantenere contemporaneamente la connessione ad internet ed il telefono libero, grazie al fatto che il canale voce e quello dati sono distinti e dunque non si sovrappongono.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Gli indirizzi IP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Un Indirizzo IP (dall'inglese Internet Protocol address) è un numero che identifica univocamente un dispositivo collegato a una rete che utilizza Internet Protocol come protocollo di comunicazione. Un indirizzo IP assolve essenzialmente a due funzioni principali: identificare un dispositivo sulla rete e fornirne il percorso di raggiungibilità.</a:t>
            </a:r>
            <a:br>
              <a:rPr sz="1600"/>
            </a:b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L’indirizzo IP all’inizio contiene 3 cifre (che posso partire da 0 a 255), poi c’è un punto, altre 3 cifre (che possono sempre contenere numeri da 0 a 255), poi un punto, un’altra cifra, un punto e infine un’altra cifra.</a:t>
            </a:r>
            <a:br>
              <a:rPr sz="1600"/>
            </a:b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Un esempio di indirizzo IP: </a:t>
            </a:r>
            <a:r>
              <a:rPr b="1" lang="it-IT" sz="1800" spc="-1" strike="noStrike">
                <a:solidFill>
                  <a:srgbClr val="292934"/>
                </a:solidFill>
                <a:latin typeface="Comic Sans MS"/>
              </a:rPr>
              <a:t>192.168.1.9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Gli indirizzi dei siti (URL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Letteralmente: Uniform Resource Locator</a:t>
            </a:r>
            <a:br>
              <a:rPr sz="1600"/>
            </a:b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Indirizzo che identifica univocamente una risorsa (pagine html, file, immagini e quant'altro) su Internet. 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In base alle operazioni che intendiamo fare con il file in questione verranno utilizzati differenti protocolli come l'HTTP o l'FTP. </a:t>
            </a:r>
            <a:br>
              <a:rPr sz="1600"/>
            </a:b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Un esempio di URL: </a:t>
            </a:r>
            <a:r>
              <a:rPr b="1" lang="it-IT" sz="16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ttp://www.</a:t>
            </a:r>
            <a:r>
              <a:rPr b="1" lang="it-IT" sz="16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iisgadda</a:t>
            </a:r>
            <a:r>
              <a:rPr b="1" lang="it-IT" sz="16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.</a:t>
            </a:r>
            <a:r>
              <a:rPr b="1" lang="it-IT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it</a:t>
            </a:r>
            <a:r>
              <a:rPr b="1" lang="it-IT" sz="1600" spc="-1" strike="noStrike" u="sng">
                <a:solidFill>
                  <a:srgbClr val="0000ff"/>
                </a:solidFill>
                <a:uFillTx/>
                <a:latin typeface="Comic Sans MS"/>
                <a:hlinkClick r:id="rId5"/>
              </a:rPr>
              <a:t>/wp2/</a:t>
            </a:r>
            <a:r>
              <a:rPr b="0" lang="it-IT" sz="32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26" name="URL-cliccabile" descr=""/>
          <p:cNvPicPr/>
          <p:nvPr/>
        </p:nvPicPr>
        <p:blipFill>
          <a:blip r:embed="rId6"/>
          <a:stretch/>
        </p:blipFill>
        <p:spPr>
          <a:xfrm>
            <a:off x="2286000" y="3886200"/>
            <a:ext cx="40957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Il WWW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Il World Wide Web (nome di origine inglese), in sigla WWW, più spesso abbreviato in Web, anche conosciuto come Grande Rete Mondiale, è un servizio di Internet che permette di navigare ed usufruire di un insieme vastissimo di contenuti multimediali e di ulteriori servizi accessibili a tutti o ad una parte selezionata degli utenti di Internet.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29" name="www_link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Altri Servizi di Interne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FTP: </a:t>
            </a: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Il file transfer protocol (FTP) protocollo di trasferimento file, è un protocollo per il trasferimento di file tra un host ed un altro.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E-MAIL: </a:t>
            </a: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La posta elettronica è un servizio internet grazie al quale ogni utente può inviare o ricevere messaggi. È l’applicazione di internet più usata al mondo.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CHAT:</a:t>
            </a: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Sistema che permette di scambiarsi messaggi in diretta attraverso Internet. Più persone lontane si collegano direttamente ad uno stesso sito e discutono fra di loro usando uno speciale protocollo chiamato IRC. Perché ciò avvenga occorre che il gestore del sito abbia deciso di consentire tale attività, installando il software opportuno.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NEWSGROUP: </a:t>
            </a: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Gruppo di discussione ovvero area virtuale che raccoglie i messaggi relativi ad un particolare argomento che vengono distribuiti via USENET.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TELNET: </a:t>
            </a: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Protocollo e servizio che permette ad un utente di collegarsi ad un pc in remoto, è un applicazione usata per interrogazioni di data base o per usufrire di servizi specifici.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Presentazion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Nel nostro laboratorio abbiamo 24 postazioni con dei computer di tipo Desktop con queste caratteristich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Sistema Operativo: Microsoft Window 200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CPU: Intel® Celeron® CPU 2.40GHz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Memoria RAM: 490.992 K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Hard disk da: 76,3 G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788000" y="4076640"/>
            <a:ext cx="41148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La rete del laboratorio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Tutti i computer sono dotati di una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scheda di rete di tipo Ethernet</a:t>
            </a: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, alla cui porta è connesso un cavo Ethernet che arriva ad uno dei 2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switch </a:t>
            </a: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presenti in laboratorio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I due switch sono collegati ad un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router</a:t>
            </a: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 che consente l’accesso ad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Internet</a:t>
            </a: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I computer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quindi formano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   </a:t>
            </a: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rete loca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LAN</a:t>
            </a: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57150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Collegamento ad Interne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34"/>
                </a:solidFill>
                <a:latin typeface="Comic Sans MS"/>
              </a:rPr>
              <a:t>Ogni computer ha un proprio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indirizzo IP privato</a:t>
            </a:r>
            <a:r>
              <a:rPr b="1" lang="it-IT" sz="1800" spc="-1" strike="noStrike">
                <a:solidFill>
                  <a:srgbClr val="292934"/>
                </a:solidFill>
                <a:latin typeface="Comic Sans MS"/>
              </a:rPr>
              <a:t>;  il mio computer ha l’indirizzo IP 192.168.1.9 Il router interfacciato ad Internet ha un indirizzo IP (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79.4.253.184</a:t>
            </a:r>
            <a:r>
              <a:rPr b="1" lang="it-IT" sz="1800" spc="-1" strike="noStrike">
                <a:solidFill>
                  <a:srgbClr val="292934"/>
                </a:solidFill>
                <a:latin typeface="Comic Sans MS"/>
              </a:rPr>
              <a:t>) fornito in modo dinamico dal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Provider</a:t>
            </a:r>
            <a:r>
              <a:rPr b="1" lang="it-IT" sz="1800" spc="-1" strike="noStrike">
                <a:solidFill>
                  <a:srgbClr val="292934"/>
                </a:solidFill>
                <a:latin typeface="Comic Sans MS"/>
              </a:rPr>
              <a:t> Telecom: TELECOM-ADSL-9 ( Telecom Italia S.p.A. TIN EASY LITE ) La linea di comunicazione utilizzata è di tipo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ADSL.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676520" y="3429000"/>
            <a:ext cx="52387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Il sito della scuola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La nostra scuola ha un proprio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sito Internet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, presente nel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ttp://www.iisgadda.it/wp2/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 L’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URL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 è il seguent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http://www.iisgadda.it/wp2/</a:t>
            </a:r>
            <a:r>
              <a:rPr b="0" lang="it-IT" sz="32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01" name="scuola%20gadda" descr=""/>
          <p:cNvPicPr/>
          <p:nvPr/>
        </p:nvPicPr>
        <p:blipFill>
          <a:blip r:embed="rId3"/>
          <a:stretch/>
        </p:blipFill>
        <p:spPr>
          <a:xfrm>
            <a:off x="2209680" y="3505320"/>
            <a:ext cx="4648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DEFINIZIONI dei termini sottolineati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3640" y="159984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34"/>
                </a:solidFill>
                <a:latin typeface="Microsoft Sans Serif"/>
              </a:rPr>
              <a:t>INDICE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Le reti di computer (LAN, MAN,WAN,GAN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Schede di rete, switch e rout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Interne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Provider e linee di comunicazion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Gli indirizzi IP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Gli indirizzi dei siti (URL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Il WWW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Altri servizi di Interne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Le reti di computer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Una rete è Una rete informatica è un insieme di PC e di altri dispositivi che sono collegati tramite un opportuno sistema di comunicazione.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Il sistema consente a questi dispositivi di comunicare tra loro e di condividere informazioni e risorse. </a:t>
            </a:r>
            <a:br>
              <a:rPr sz="1600"/>
            </a:b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Le reti possono avere dimensioni differenti ed è possibile ospitarle in una sede singola oppure dislocarle in tutto il mondo.</a:t>
            </a:r>
            <a:r>
              <a:rPr b="0" lang="it-IT" sz="16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A seconda della dimensione dell’area geografica in cui sono dislocati i PC, le reti possono essere classificate in: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34"/>
                </a:solidFill>
                <a:latin typeface="Comic Sans MS"/>
              </a:rPr>
              <a:t>LAN:</a:t>
            </a:r>
            <a:r>
              <a:rPr b="0" lang="it-IT" sz="1600" spc="-1" strike="noStrike">
                <a:solidFill>
                  <a:srgbClr val="292934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è una tipologia di rete informatica contraddistinta da un'estensione territoriale non superiore a qualche chilometro. Si tratta storicamente delle prime tipologie di reti informatiche realizzate al mondo per semplicità di realizzazione e costi sostenibili anche da piccoli privati.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380880"/>
            <a:ext cx="8763120" cy="42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mic Sans MS"/>
              </a:rPr>
              <a:t>MAN: i</a:t>
            </a:r>
            <a:r>
              <a:rPr b="1" lang="en-US" sz="1600" spc="-1" strike="noStrike">
                <a:solidFill>
                  <a:srgbClr val="292934"/>
                </a:solidFill>
                <a:latin typeface="Comic Sans MS"/>
              </a:rPr>
              <a:t> computer si trovano all’interno di un’area urbana di grandi dimensioni oppure sono dislocati in più comuni limitrofi. Fra i vari esempi, prendiamo in considerazione quello riguardante più computer interconnessi tra loro e collegati ad un server centrale nell’intero territorio comunale e quello relativo ai PC delle segreterie delle facoltà universitarie dislocate in una determinata area metropolitana.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mic Sans MS"/>
              </a:rPr>
              <a:t>WAN: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na rete WAN è una rete che si estende coprendo zone dall’ambito fino all’intero globo. Come mezzo di comunicazione si utilizza la rete telefonica in quanto era già esistente e garantiva la copertura dell’intero globo, senza bisogno di nessun intervento di cablaggio.</a:t>
            </a:r>
            <a:r>
              <a:rPr b="1" lang="en-US" sz="1600" spc="-1" strike="noStrike">
                <a:solidFill>
                  <a:srgbClr val="292934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mic Sans MS"/>
              </a:rPr>
              <a:t>GAN:</a:t>
            </a:r>
            <a:r>
              <a:rPr b="0" lang="en-US" sz="1600" spc="-1" strike="noStrike">
                <a:solidFill>
                  <a:srgbClr val="292934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292934"/>
                </a:solidFill>
                <a:latin typeface="Comic Sans MS"/>
              </a:rPr>
              <a:t>E’ facile intuire, dalla traduzione stessa dell’acronimo, che si tratta di reti che collegano computer dislocati in tutti i continenti. Diverse le tecnologie impiegate per interconnettere le macchine: dal cavo in rame del comune doppino telefonico agli avanzati sistemi satellitari.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07" name="lan-man-wan" descr=""/>
          <p:cNvPicPr/>
          <p:nvPr/>
        </p:nvPicPr>
        <p:blipFill>
          <a:blip r:embed="rId1"/>
          <a:stretch/>
        </p:blipFill>
        <p:spPr>
          <a:xfrm>
            <a:off x="380880" y="4133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8" name="gan" descr=""/>
          <p:cNvPicPr/>
          <p:nvPr/>
        </p:nvPicPr>
        <p:blipFill>
          <a:blip r:embed="rId2"/>
          <a:stretch/>
        </p:blipFill>
        <p:spPr>
          <a:xfrm>
            <a:off x="4876920" y="419112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2533c"/>
                </a:solidFill>
                <a:latin typeface="Comic Sans MS"/>
              </a:rPr>
              <a:t>Schede di rete, switch e router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88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La scheda di rete:</a:t>
            </a:r>
            <a:r>
              <a:rPr b="0" lang="it-IT" sz="1400" spc="-1" strike="noStrike">
                <a:solidFill>
                  <a:srgbClr val="292934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è  un dispositivo che permette al computer di colloquiare con la rete. Le schede di rete (NIC - Network Interface Card ) sono generalmente installate all'interno del PC. Sul retro del computer compare la parte terminale della scheda, dove si inserisce il cavo di rete. Portatili e notebook hanno schede di rete differenti (formato PCMCIA), ed occupano uno slot che si trova solitamente su uno dei lati. Esistono schede di rete Ethernet (10 Mbps) e Fast Ethernet (100 Mbps).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Lo switch:</a:t>
            </a:r>
            <a:r>
              <a:rPr b="0" lang="it-IT" sz="1400" spc="-1" strike="noStrike">
                <a:solidFill>
                  <a:srgbClr val="292934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è un dispositivo che, in una rete, seleziona la via di instradamento dei pacchetti di dati verso la loro destinazione. E' un dispositivo più veloce e semplice di un router, il quale sceglie l'instradamento anche giudicando in base ad un resoconto dei costi e dei tempi di trasmissione.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Il router:</a:t>
            </a:r>
            <a:r>
              <a:rPr b="0" lang="it-IT" sz="1400" spc="-1" strike="noStrike">
                <a:solidFill>
                  <a:srgbClr val="292934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è un dispositivo su una rete di computer che collega computer e reti e da l’accesso ad internet.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11" name="switch" descr=""/>
          <p:cNvPicPr/>
          <p:nvPr/>
        </p:nvPicPr>
        <p:blipFill>
          <a:blip r:embed="rId1"/>
          <a:stretch/>
        </p:blipFill>
        <p:spPr>
          <a:xfrm>
            <a:off x="3657600" y="5087880"/>
            <a:ext cx="2362320" cy="1770120"/>
          </a:xfrm>
          <a:prstGeom prst="rect">
            <a:avLst/>
          </a:prstGeom>
          <a:ln w="0">
            <a:noFill/>
          </a:ln>
        </p:spPr>
      </p:pic>
      <p:pic>
        <p:nvPicPr>
          <p:cNvPr id="112" name="router" descr=""/>
          <p:cNvPicPr/>
          <p:nvPr/>
        </p:nvPicPr>
        <p:blipFill>
          <a:blip r:embed="rId2"/>
          <a:stretch/>
        </p:blipFill>
        <p:spPr>
          <a:xfrm>
            <a:off x="6858000" y="5064120"/>
            <a:ext cx="2286000" cy="1793880"/>
          </a:xfrm>
          <a:prstGeom prst="rect">
            <a:avLst/>
          </a:prstGeom>
          <a:ln w="0">
            <a:noFill/>
          </a:ln>
        </p:spPr>
      </p:pic>
      <p:pic>
        <p:nvPicPr>
          <p:cNvPr id="113" name="scheda%20di%20rete%201" descr=""/>
          <p:cNvPicPr/>
          <p:nvPr/>
        </p:nvPicPr>
        <p:blipFill>
          <a:blip r:embed="rId3"/>
          <a:stretch/>
        </p:blipFill>
        <p:spPr>
          <a:xfrm>
            <a:off x="0" y="5081760"/>
            <a:ext cx="28954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3:46:59Z</dcterms:created>
  <dc:creator>Giugy &amp; Manu</dc:creator>
  <dc:description/>
  <dc:language>en-US</dc:language>
  <cp:lastModifiedBy>ospite</cp:lastModifiedBy>
  <dcterms:modified xsi:type="dcterms:W3CDTF">2012-04-04T09:20:44Z</dcterms:modified>
  <cp:revision>44</cp:revision>
  <dc:subject/>
  <dc:title>Il nostro laboratorio</dc:title>
</cp:coreProperties>
</file>