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51F-6E9E-47A0-9B6F-3C399F77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A95-A9EE-4A33-96B6-F5F67181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A03-E771-46CC-9A06-49623FFC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A52-CB32-41B1-AFA8-12A60C1D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C691-9144-42C9-8508-F148C596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CC0E-F76A-47AE-ABD2-2D61DD5F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2FD4-DD79-44CD-A26D-95B9099A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9D69-C0BF-4CC7-A99F-4F3C19A0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3E36-C7B4-4351-907C-323D7931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74D3-76D5-4D05-8BE9-851523CD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145F-7CCE-4BDC-823F-30CA9E9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006-35D6-4A17-A6E1-41321BFA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B838-7066-4DCD-9786-D53F1B37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80B-24D2-4CD4-BC7F-819F147B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A65E-3AD8-4EF1-9E33-EBAF93E9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9B9F-FA1C-48F5-9FAD-B79C6058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A87B-62BC-4588-B224-72533524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ECB-6EF0-4D8D-AD1A-25F8F9C1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518-1797-4451-8680-7C7188B3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566-2A26-4154-942E-BB40A51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CFB-FCDC-4C1C-A225-A2BB28CB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0E9-8823-4AC0-BD3B-30AB32C3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069-3781-4570-970F-2BB095C0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3FE-3C6B-4AAD-9F68-944EBD1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2E6-E386-4149-AEF6-949CCE7671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BDA8-F5A2-4886-BE76-15A9311FCA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isgadda.it/wp2/" TargetMode="External"/><Relationship Id="rId2" Type="http://schemas.openxmlformats.org/officeDocument/2006/relationships/hyperlink" Target="http://www.iisgadda.it/wp2/" TargetMode="External"/><Relationship Id="rId3" Type="http://schemas.openxmlformats.org/officeDocument/2006/relationships/hyperlink" Target="http://www.iisgadda.it/wp2/" TargetMode="External"/><Relationship Id="rId4" Type="http://schemas.openxmlformats.org/officeDocument/2006/relationships/hyperlink" Target="http://www.iisgadda.it/wp2/" TargetMode="External"/><Relationship Id="rId5" Type="http://schemas.openxmlformats.org/officeDocument/2006/relationships/hyperlink" Target="http://www.iisgadda.it/wp2/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isgadda.it/wp2/" TargetMode="External"/><Relationship Id="rId2" Type="http://schemas.openxmlformats.org/officeDocument/2006/relationships/hyperlink" Target="http://www.iisgadda.it/wp2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2533c"/>
                </a:solidFill>
                <a:latin typeface="Monotype Corsiva"/>
              </a:rPr>
              <a:t>IL NOSTRO LABORATORIO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Comic Sans MS"/>
              </a:rPr>
              <a:t>Di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88000" y="3538440"/>
            <a:ext cx="42354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nternet (contrazione della locuzione inglese Interconnected Networks, ovvero Reti Interconnesse) è una rete di computer mondiale ad accesso pubblico, attualmente rappresentante il principale mezzo di comunicazione di massa, e che offre all'utente tutta una vasta serie di possibili contenuti e servizi. Tale interconnessione è resa possibile da una suite di protocolli di rete chiamata "TCP/IP" dal nome dei due protocolli principali, il TCP e l'IP, che costituiscono la "lingua" comune con cui i computer connessi ad Internet (host) si interconnettono e comunicano tra loro indipendentemente dalla loro architettura hardware e software garantendo l'interoperabilità tra sistemi e sottoreti diverse. L'avvento e la diffusione di Internet ha rappresentato una vera e propria rivoluzione sociologica e tecnologica assieme ad altre invenzioni quali i telefoni cellulari e il GPS, nonché uno dei motori dello sviluppo economico mondiale nell'ambito dell'Information and Communication Technology (ICT) e oltre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6" name="opera_logo" descr=""/>
          <p:cNvPicPr/>
          <p:nvPr/>
        </p:nvPicPr>
        <p:blipFill>
          <a:blip r:embed="rId1"/>
          <a:stretch/>
        </p:blipFill>
        <p:spPr>
          <a:xfrm>
            <a:off x="0" y="5057640"/>
            <a:ext cx="205740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firefox_logo" descr=""/>
          <p:cNvPicPr/>
          <p:nvPr/>
        </p:nvPicPr>
        <p:blipFill>
          <a:blip r:embed="rId2"/>
          <a:stretch/>
        </p:blipFill>
        <p:spPr>
          <a:xfrm>
            <a:off x="2438280" y="502920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google_chrome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21337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internet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Comic Sans MS"/>
              </a:rPr>
              <a:t>Provider e linee di comunicazion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34"/>
                </a:solidFill>
                <a:latin typeface="Comic Sans MS"/>
              </a:rPr>
              <a:t>Un provider è Il PROVIDER è la società che ti mette a disposizione il collegamento ad internet....ad esempio INFOSTRADA o TELECOM ITALIA con il suo servizio "Alice". Il SERVER invece è il computer del PROVIDER che si collega al tuo computer (detto CLIENT) per fornirti internet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PSTN: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(Public Switched Telephone Network) La normale rete telefonica analogica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ISDN: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Integrated Service Digital Network. Standard europeo per la telefonia fissa digitale. Comprende due canali: uno per la trasmissione di dati ed uno per la voce. Ha una velocità di trasferimento maggiore di quella analogica.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ADSL: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Asymmetric Digital Subscriver Line, tradotto in italiano vuol dire Linea Digitale Asimmetrica per l'Abbonato.</a:t>
            </a:r>
            <a:br>
              <a:rPr sz="1400"/>
            </a:b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Rappresenta una tecnologia in grado di trasformare la normale linea telefonica, o "doppino telefonico", in una linea digitale a velocità elevata, di gran lunga superiore al collegamento digitale ISDN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L'ADSL viene definita asimmetrica in quanto la velocità di ricezione dati (o Downstream) è maggiore rispetto a quella di trasmissione (Upstream)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L'ADSL consente inoltre di mantenere contemporaneamente la connessione ad internet ed il telefono libero, grazie al fatto che il canale voce e quello dati sono distinti e dunque non si sovrappongono.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Gli indirizzi IP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 Indirizzo IP (dall'inglese Internet Protocol address) è un numero che identifica univocamente un dispositivo collegato a una rete che utilizza Internet Protocol come protocollo di comunicazione. Un indirizzo IP assolve essenzialmente a due funzioni principali: identificare un dispositivo sulla rete e fornirne il percorso di raggiungibilità.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’indirizzo IP all’inizio contiene 3 cifre (che posso partire da 0 a 255), poi c’è un punto, altre 3 cifre (che possono sempre contenere numeri da 0 a 255), poi un punto, un’altra cifra, un punto e infine un’altra cifra.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 esempio di indirizzo IP: 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192.168.1.9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Gli indirizzi dei siti (URL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etteralmente: Uniform Resource Locator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ndirizzo che identifica univocamente una risorsa (pagine html, file, immagini e quant'altro) su Internet. 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n base alle operazioni che intendiamo fare con il file in questione verranno utilizzati differenti protocolli come l'HTTP o l'FTP. 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 esempio di URL: 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iisgadda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.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it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/wp2/</a:t>
            </a:r>
            <a:r>
              <a:rPr b="0" lang="it-IT" sz="3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6" name="URL-cliccabile" descr=""/>
          <p:cNvPicPr/>
          <p:nvPr/>
        </p:nvPicPr>
        <p:blipFill>
          <a:blip r:embed="rId6"/>
          <a:stretch/>
        </p:blipFill>
        <p:spPr>
          <a:xfrm>
            <a:off x="2286000" y="3886200"/>
            <a:ext cx="40957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Il WWW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World Wide Web (nome di origine inglese), in sigla WWW, più spesso abbreviato in Web, anche conosciuto come Grande Rete Mondiale, è un servizio di Internet che permette di navigare ed usufruire di un insieme vastissimo di contenuti multimediali e di ulteriori servizi accessibili a tutti o ad una parte selezionata degli utenti di Internet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9" name="www_link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Altri Servizi di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FTP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file transfer protocol (FTP) protocollo di trasferimento file, è un protocollo per il trasferimento di file tra un host ed un altro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E-MAIL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a posta elettronica è un servizio internet grazie al quale ogni utente può inviare o ricevere messaggi. È l’applicazione di internet più usata al mondo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CHAT: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Sistema che permette di scambiarsi messaggi in diretta attraverso Internet. Più persone lontane si collegano direttamente ad uno stesso sito e discutono fra di loro usando uno speciale protocollo chiamato IRC. Perché ciò avvenga occorre che il gestore del sito abbia deciso di consentire tale attività, installando il software opportuno.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NEWSGROUP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Gruppo di discussione ovvero area virtuale che raccoglie i messaggi relativi ad un particolare argomento che vengono distribuiti via USENET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TELNET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Protocollo e servizio che permette ad un utente di collegarsi ad un pc in remoto, è un applicazione usata per interrogazioni di data base o per usufrire di servizi specifici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Presentazion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Sistema Operativo: Microsoft Window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CPU: Intel® Celeron® CPU 2.40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Hard disk da: 76,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La rete del laboratorio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Tutti i computer sono dotati di una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cheda di rete di tipo Ethernet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, alla cui porta è connesso un cavo Ethernet che arriva ad uno dei 2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quindi formano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ete loc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Collegamento ad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;  il mio computer ha l’indirizzo IP 192.168.1.9 Il router interfacciato ad Internet ha un indirizzo IP (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79.4.253.184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) fornito in modo dinamico dal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 Telecom: TELECOM-ADSL-9 ( Telecom Italia S.p.A. TIN EASY LITE ) La linea di comunicazione utilizzata è di tipo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5238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Il sito della scuol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La nostra scuola ha un proprio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ito Internet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, presente nel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iisgadda.it/wp2/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 L’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 è il seguent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www.iisgadda.it/wp2/</a:t>
            </a:r>
            <a:r>
              <a:rPr b="0" lang="it-IT" sz="3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1" name="scuola%20gadda" descr=""/>
          <p:cNvPicPr/>
          <p:nvPr/>
        </p:nvPicPr>
        <p:blipFill>
          <a:blip r:embed="rId3"/>
          <a:stretch/>
        </p:blipFill>
        <p:spPr>
          <a:xfrm>
            <a:off x="2209680" y="35053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DEFINIZIONI dei termini sottolineat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34"/>
                </a:solidFill>
                <a:latin typeface="Microsoft Sans Serif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Le reti di computer (LAN, MAN,WAN,GA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Schede di rete, switch e rout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Inter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Provider e linee di comunicazion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Gli indirizzi I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Gli indirizzi dei siti (URL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Il WWW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Altri servizi di Inter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Le reti di comp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a rete è Una rete informatica è un insieme di PC e di altri dispositivi che sono collegati tramite un opportuno sistema di comunicazione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sistema consente a questi dispositivi di comunicare tra loro e di condividere informazioni e risorse. 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e reti possono avere dimensioni differenti ed è possibile ospitarle in una sede singola oppure dislocarle in tutto il mondo.</a:t>
            </a:r>
            <a:r>
              <a:rPr b="0" lang="it-IT" sz="16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LAN:</a:t>
            </a:r>
            <a:r>
              <a:rPr b="0" lang="it-IT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è una tipologia di rete informatica contraddistinta da un'estensione territoriale non superiore a qualche chilometro. Si tratta storicamente delle prime tipologie di reti informatiche realizzate al mondo per semplicità di realizzazione e costi sostenibili anche da piccoli privati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380880"/>
            <a:ext cx="8763120" cy="42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mic Sans MS"/>
              </a:rPr>
              <a:t>MAN: i</a:t>
            </a:r>
            <a:r>
              <a:rPr b="1" lang="en-US" sz="1600" spc="-1" strike="noStrike">
                <a:solidFill>
                  <a:srgbClr val="292934"/>
                </a:solidFill>
                <a:latin typeface="Comic Sans MS"/>
              </a:rPr>
              <a:t> computer si trovano all’interno di un’area urbana di grandi dimensioni oppure sono dislocati in più comuni limitrofi. Fra i vari esempi, prendiamo in considerazione quello riguardante più computer interconnessi tra loro e collegati ad un server centrale nell’intero territorio comunale e quello relativo ai PC delle segreterie delle facoltà universitarie dislocate in una determinata area metropolitana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mic Sans MS"/>
              </a:rPr>
              <a:t>WAN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na rete WAN è una rete che si estende coprendo zone dall’ambito fino all’intero globo. Come mezzo di comunicazione si utilizza la rete telefonica in quanto era già esistente e garantiva la copertura dell’intero globo, senza bisogno di nessun intervento di cablaggio.</a:t>
            </a:r>
            <a:r>
              <a:rPr b="1" lang="en-US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mic Sans MS"/>
              </a:rPr>
              <a:t>GAN:</a:t>
            </a:r>
            <a:r>
              <a:rPr b="0" lang="en-US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292934"/>
                </a:solidFill>
                <a:latin typeface="Comic Sans MS"/>
              </a:rPr>
              <a:t>E’ facile intuire, dalla traduzione stessa dell’acronimo, che si tratta di reti che collegano computer dislocati in tutti i continenti. Diverse le tecnologie impiegate per interconnettere le macchine: dal cavo in rame del comune doppino telefonico agli avanzati sistemi satellitari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7" name="lan-man-wan" descr=""/>
          <p:cNvPicPr/>
          <p:nvPr/>
        </p:nvPicPr>
        <p:blipFill>
          <a:blip r:embed="rId1"/>
          <a:stretch/>
        </p:blipFill>
        <p:spPr>
          <a:xfrm>
            <a:off x="380880" y="4133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8" name="gan" descr=""/>
          <p:cNvPicPr/>
          <p:nvPr/>
        </p:nvPicPr>
        <p:blipFill>
          <a:blip r:embed="rId2"/>
          <a:stretch/>
        </p:blipFill>
        <p:spPr>
          <a:xfrm>
            <a:off x="4876920" y="41911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Comic Sans MS"/>
              </a:rPr>
              <a:t>Schede di rete, switch e ro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a scheda di rete:</a:t>
            </a:r>
            <a:r>
              <a:rPr b="0" lang="it-IT" sz="1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è  un dispositivo che permette al computer di colloquiare con la rete. Le schede di rete (NIC - Network Interface Card ) sono generalmente installate all'interno del PC. Sul retro del computer compare la parte terminale della scheda, dove si inserisce il cavo di rete. Portatili e notebook hanno schede di rete differenti (formato PCMCIA), ed occupano uno slot che si trova solitamente su uno dei lati. Esistono schede di rete Ethernet (10 Mbps) e Fast Ethernet (100 Mbps)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o switch:</a:t>
            </a:r>
            <a:r>
              <a:rPr b="0" lang="it-IT" sz="1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è un dispositivo che, in una rete, seleziona la via di instradamento dei pacchetti di dati verso la loro destinazione. E' un dispositivo più veloce e semplice di un router, il quale sceglie l'instradamento anche giudicando in base ad un resoconto dei costi e dei tempi di trasmissione.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router:</a:t>
            </a:r>
            <a:r>
              <a:rPr b="0" lang="it-IT" sz="1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è un dispositivo su una rete di computer che collega computer e reti e da l’accesso ad internet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1" name="switch" descr=""/>
          <p:cNvPicPr/>
          <p:nvPr/>
        </p:nvPicPr>
        <p:blipFill>
          <a:blip r:embed="rId1"/>
          <a:stretch/>
        </p:blipFill>
        <p:spPr>
          <a:xfrm>
            <a:off x="3657600" y="5087880"/>
            <a:ext cx="2362320" cy="1770120"/>
          </a:xfrm>
          <a:prstGeom prst="rect">
            <a:avLst/>
          </a:prstGeom>
          <a:ln w="0">
            <a:noFill/>
          </a:ln>
        </p:spPr>
      </p:pic>
      <p:pic>
        <p:nvPicPr>
          <p:cNvPr id="112" name="router" descr=""/>
          <p:cNvPicPr/>
          <p:nvPr/>
        </p:nvPicPr>
        <p:blipFill>
          <a:blip r:embed="rId2"/>
          <a:stretch/>
        </p:blipFill>
        <p:spPr>
          <a:xfrm>
            <a:off x="6858000" y="5064120"/>
            <a:ext cx="2286000" cy="1793880"/>
          </a:xfrm>
          <a:prstGeom prst="rect">
            <a:avLst/>
          </a:prstGeom>
          <a:ln w="0">
            <a:noFill/>
          </a:ln>
        </p:spPr>
      </p:pic>
      <p:pic>
        <p:nvPicPr>
          <p:cNvPr id="113" name="scheda%20di%20rete%201" descr=""/>
          <p:cNvPicPr/>
          <p:nvPr/>
        </p:nvPicPr>
        <p:blipFill>
          <a:blip r:embed="rId3"/>
          <a:stretch/>
        </p:blipFill>
        <p:spPr>
          <a:xfrm>
            <a:off x="0" y="5081760"/>
            <a:ext cx="28954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4-04T09:20:44Z</dcterms:modified>
  <cp:revision>44</cp:revision>
  <dc:subject/>
  <dc:title>Il nostro laboratorio</dc:title>
</cp:coreProperties>
</file>