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F26-C72E-4355-92DE-CCE6B429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B44-5D7A-4C87-BF86-A1174819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73A-FC7F-422F-B69F-48EE16E5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F57-9CC6-4AC6-9FF9-AE3726C2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B287-D3AA-462D-92DC-0C08E283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9826-75FC-4427-9BD3-A31571C9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5B40-7A69-4ECF-9A9D-63646403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AB5B-E498-4AFD-9123-A425DF2D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A750-B9A8-4D1F-973D-8E35B0F3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E046-2DFC-4E64-AE5B-7341C1D8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8404-4AA0-44D5-8D29-48C3378B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C25-C23E-447E-A38F-CF01A10E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7B34-1ACD-4EBC-A7DE-AEB992CA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30C5-6F55-4500-99C8-A39DD79B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F0AD-79B8-47D6-906A-ADD20B2C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807E-B70A-4081-837F-4DA6F699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657A-E105-47EC-8E80-2B43D555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EE14D-9D8D-45EF-A10B-FB3408DE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52276-F5EB-4286-A96C-2C5DC793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6EFA4-9CD9-4E5D-ADBE-7D9C4204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35781-22AA-4352-AD37-634D4CA0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0A07-1476-406B-B3B6-932EB00B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671-8F2B-4F72-B22E-7F07A139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6187-BFDF-44B9-87AE-B0B4ED42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C99CD-45AF-4667-9E38-1FFB0C20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7B151-5D7E-4BDB-B9F3-3FDBC345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619B-00E8-4F3B-8A08-40E0F6FD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8D690-D75D-42EF-8330-E6A78F3E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B63F4-78A7-4767-8CA4-A23961F0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DCE77-A3AD-45CC-BCD6-231F2B22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F08B1-23A5-484E-913B-2473E5F7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F9F81-4416-49C4-843D-2FD35483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37FE-1C55-4E67-BDFA-9B15898E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B8A-30F2-42CC-9773-1E4A6E66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CC36E-23CF-47FD-A035-888A9E3A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D3BA2-B7D1-4429-A001-1146886B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C0E78-0F9E-4AF8-B00D-1100B5A6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AF614-F481-41EC-80D4-64A43FFF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1E1EB-2251-4B54-ADBB-56B5D23E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CF77B-2ADE-4814-853B-803F1287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50889-28F6-45E1-8415-BB47D477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1F64D-AD0F-4C22-B62B-A932C03F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8D79-5308-4835-A11C-C4AF97DF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D2A7E-4BBA-4447-9E81-8BA703D7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E43-7D47-4095-8BF6-C6ECF05E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B4EB-C53F-4855-9531-51F1F284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25FD5-BDD3-4B4E-8F00-09B0569F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C8FA3-E629-49BF-AAE2-7DB122D0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2251F-3717-4404-B4A0-F40F38FC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0A827-4BFB-4448-B33C-76252C6F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BC610-2054-4808-81A9-3ABA1FCB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AE131-7B39-409D-88A5-9DD952B2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F21E6-2583-48A0-BA46-6722A21C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19D9C-1D01-4D1A-9415-DDD64193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D0CE4-DBBC-45F5-9150-ADCE5D12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0AF-0812-4886-ABF5-D5C2F4BC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79D00-14F2-4FC5-B3B3-F14A269D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FB6-D017-4DFA-9425-1FD9725A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E85-2BD3-4B45-90FD-11B6B992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A3F0-4103-45E4-8D45-3A7DD9A6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B4FF-A56C-4D1F-A6B8-6D612458AC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520C-1CFC-4CE5-AEDE-9E48B769D5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E3A3-453B-4CF1-89EE-D34BD766F0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A060-5C57-4E77-B9FD-2659AF3685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6242-4912-4DBC-B129-C38120DEB1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72779"/>
                </a:solidFill>
                <a:latin typeface="Monotype Corsiva"/>
              </a:rPr>
              <a:t>IL NOSTRO LABORATORIO.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4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Di INFORMATICA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4716360" y="3429000"/>
            <a:ext cx="42354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Switch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 dispositivo di rete o nodo interno di rete che si occupa di commutazion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627280" y="2610000"/>
            <a:ext cx="4133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Router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 dispositivo elettronico che si occupa di instradare i dati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68360" y="3200400"/>
            <a:ext cx="536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Internet 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54764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a rete di computer mondiale ad accesso pubblico, attualmente rappresentante il principale mezzo di comunicazione di massa, e che offre all'utente tutta una vasta serie di possibili contenuti e servizi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4073400"/>
            <a:ext cx="47163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Provider e linee di comunicazion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Un provider è in generale un'azienda o un'organizzazione che fornisce un servizio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Le linee di comunicazione sono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PST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SD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ADS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Gli indirizzi IP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mic Sans MS"/>
              </a:rPr>
              <a:t>E’ un numero che identifica univocamente un dispositivo collegato a una ret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40226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Gli indirizzi dei siti (URL)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a sequenza di caratteri che identifica univocamente l‘indirizzo di una risorsa in Internet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763640" y="3170160"/>
            <a:ext cx="56167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Il WWW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60" name="Text Placeholder 2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68000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Altri Servizi di Internet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FT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-MAI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CH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NEWSGROU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TELN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Presentazion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Nel nostro laboratorio abbiamo 24 postazioni con dei computer di tipo Desktop con queste caratteristich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Sistema Operativo: Microsoft Windows 200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CPU: 2.40 GHz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Memoria RAM: 490.992 K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Hard disk da: 38.3 G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788000" y="4076640"/>
            <a:ext cx="41148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La rete del laboratorio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Tutti i computer sono dotati di una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scheda di rete di tipo Ethernet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, alla cui porta è connesso un cavo Ethernet che arriva ad uno dei 2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switch 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presenti in laboratori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 due switch sono collegati ad un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router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 che consente l’accesso ad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Internet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 computer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quindi forman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   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una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rete loca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LAN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57150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Collegamento ad Internet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760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Ogni computer ha un proprio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indirizzo IP privato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;  il mio computer ha l’indirizzo IP ………………………………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l router interfacciato ad Internet ha un indirizzo IP fornito in modo dinamico dal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Provider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 Telecom:…………………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La linea di comunicazione utilizzata è di tipo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ADSL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484360" y="4578480"/>
            <a:ext cx="42498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Il sito della scuola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La nostra scuola ha un proprio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ito Internet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, presente nel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WWW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    L’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URL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è il seguent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http://www.istsuperiore-lissone.net/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311120" y="3068640"/>
            <a:ext cx="67042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DEFINIZIONI dei termini sottolineati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23640" y="159984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34"/>
                </a:solidFill>
                <a:latin typeface="Comic Sans MS"/>
              </a:rPr>
              <a:t>INDICE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Le reti di computer (LAN, MAN,WAN,GAN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Schede di rete, switch e rout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Provider e linee di comunicazion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Gli indirizzi IP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Gli indirizzi dei siti (URL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Il WWW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Altri servizi di 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Le reti di computer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Una rete è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un insieme di dispositivi elettronici in grado di comunicare fra lor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A seconda della dimensione dell’area geografica in cui sono dislocati i PC, le reti possono essere classificate in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L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M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W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WL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72779"/>
                </a:solidFill>
                <a:latin typeface="Monotype Corsiva"/>
              </a:rPr>
              <a:t>                       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1" action="ppaction://hlinksldjump"/>
              </a:rPr>
              <a:t>Schede di rete,</a:t>
            </a:r>
            <a:br>
              <a:rPr sz="4400"/>
            </a:br>
            <a:r>
              <a:rPr b="0" lang="en-US" sz="4400" spc="-1" strike="noStrike" u="sng">
                <a:solidFill>
                  <a:srgbClr val="e72779"/>
                </a:solidFill>
                <a:uFillTx/>
                <a:latin typeface="Monotype Corsiva"/>
              </a:rPr>
              <a:t> </a:t>
            </a:r>
            <a:br>
              <a:rPr sz="4400"/>
            </a:br>
            <a:r>
              <a:rPr b="0" lang="en-US" sz="4400" spc="-1" strike="noStrike" u="sng">
                <a:solidFill>
                  <a:srgbClr val="e72779"/>
                </a:solidFill>
                <a:uFillTx/>
                <a:latin typeface="Monotype Corsiva"/>
              </a:rPr>
              <a:t>                       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2" action="ppaction://hlinksldjump"/>
              </a:rPr>
              <a:t>switch,_x000b_</a:t>
            </a:r>
            <a:br>
              <a:rPr sz="4400"/>
            </a:br>
            <a:r>
              <a:rPr b="0" lang="en-US" sz="4400" spc="-1" strike="noStrike" u="sng">
                <a:solidFill>
                  <a:srgbClr val="e72779"/>
                </a:solidFill>
                <a:uFillTx/>
                <a:latin typeface="Monotype Corsiva"/>
              </a:rPr>
              <a:t>                       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3" action="ppaction://hlinksldjump"/>
              </a:rPr>
              <a:t>router. 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68360" y="1484280"/>
            <a:ext cx="685152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a livello logico un‘interfaccia digitale, costituita a livello hardware da una scheda elettronica inserita solitamente all'interno di un Personal Computer, ecc., che svolge tutte le elaborazioni o funzioni necessarie a consentire la connessione dell'apparato informatico ad una rete informatica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Schede di ret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724360" y="4000680"/>
            <a:ext cx="3419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3:46:59Z</dcterms:created>
  <dc:creator>Giugy &amp; Manu</dc:creator>
  <dc:description/>
  <dc:language>en-US</dc:language>
  <cp:lastModifiedBy>ospite</cp:lastModifiedBy>
  <dcterms:modified xsi:type="dcterms:W3CDTF">2012-03-21T12:45:54Z</dcterms:modified>
  <cp:revision>15</cp:revision>
  <dc:subject/>
  <dc:title>Il nostro laboratorio</dc:title>
</cp:coreProperties>
</file>