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2C2-056B-4898-86EA-3B8C35F0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5BA-69E7-49DC-A0BF-4919978D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CA3-C7A0-4DD9-AFBA-6B801B6D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8D3-6CEF-4004-82D6-E07B0842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49A8-41FE-4AC1-BABB-0797AC5D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2CFF-3CD5-4AAA-8C5D-BC5AE8DF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34E4-ECDD-4BC6-8993-37FBC689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478F-73C4-40EA-BEE6-87949C15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E185-17A5-4E55-AA18-0D2D4B32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E495-69F0-469C-AADB-13CB2737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505D-A2F1-48B7-A59F-248DB572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084-869D-4D72-8944-ADEFB4CF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FCC2-91BB-45AC-91B2-CBDE47E8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5CC6-1F59-4B17-A867-4F29EC61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67D0-2C41-4B03-A928-730088E4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9D3D-8050-4A67-AB14-DE888364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9F27-933D-49EC-A00E-28B72986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3508-2219-4AB3-BEF2-E6194C8C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4F64-87B6-48A4-A480-51C8385A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2104-0449-4E2B-9CD1-EC5644DF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A6D4A-888B-4932-A9E8-97323782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FB72-21EE-418C-B55A-F9FB4D2C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809-DD4D-4BC9-9B23-7EA02DE3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FB6A-8927-4A74-99B4-59994F84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3ADD-AA47-4773-BE08-C4AAE721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E9AF-CA51-4075-99B0-2AFF16AA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C9CF-551E-4244-9FE0-D342F471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35DA-44A6-4A5F-982B-1378BBFE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3236-7B6B-4C33-9CE6-1EDB40D9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7D60-3C15-4763-BBA3-8AEF8E55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2E4E-A3E2-47AD-956B-DFA84802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A8B6-4B23-454F-A7B1-D367BA44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9B19-7C42-485B-91FC-443CB1F3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656-E8E3-4E99-B3B0-1633C48C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1DECB-A57C-44E2-9FA4-CCF1EBAA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56CE3-E7B9-42CE-B0F7-3543FEAC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A3DD-E1A7-4161-80E0-E51CD1ED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5CE9-3CF6-461C-BB68-141E1479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E8BBF-B6E9-4F36-B184-137E4F9D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20015-56D9-47E5-9BF2-7AA1077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5299-350B-465E-9BA0-4FFABB07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011E-2743-4CA3-B11C-19E5FE84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0ABBF-643B-48AE-80C1-DBB38C63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4C1F5-AEFD-4AAB-8B2C-3DCB3C4F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87A-52C5-4228-9DEC-F633A021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6511A-37E9-439A-B432-D7D73601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479AF-EBEB-4C11-A6AE-8EBC484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ECEF0-F8F6-456E-9B22-CC419B49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F23D3-1388-4466-B8E7-1EC0764B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47D9D-9084-4EB5-ABA1-A0F40493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D07DC-CB65-4A29-A336-F1F938D7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33CB-4F05-4264-80D4-D778E9FD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090DB-DDC5-4AD0-AEEC-BE7D9FEA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D8EB9-14DE-4FDD-A3B5-9D2BEC54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B0A8-0FE1-4DBD-A1FD-6A752505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07D-B39B-42B1-AC60-0D59E0F4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C809-851C-4AA6-9BCB-75CB1F7A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6CD-9635-44D1-897B-27BB7B8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B5C-182B-4369-ACCA-D6B23D82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5C8-E96C-44CA-9409-A21058B2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0A84-C307-4B1A-AA8E-D1418DC90F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F8BD-FB9B-48BD-AB95-2E38E4BC2A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82DF-7F3C-4BC7-90FD-7FC33AA3C5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9657-5EF5-412E-B72C-98FB86BBF2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819D-8B6C-4C36-A937-999C9E0B43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72779"/>
                </a:solidFill>
                <a:latin typeface="Monotype Corsiva"/>
              </a:rPr>
              <a:t>IL NOSTRO LABORATORIO.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i INFORMATIC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716360" y="3429000"/>
            <a:ext cx="42354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Switch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di rete o nodo interno di rete che si occupa di commutazion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627280" y="2610000"/>
            <a:ext cx="4133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Ro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elettronico che si occupa di instradare i dati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68360" y="3200400"/>
            <a:ext cx="536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Internet 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54764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rete di computer mondiale ad accesso pubblico, attualmente rappresentante il principale mezzo di comunicazione di massa, e che offre all'utente tutta una vasta serie di possibili contenuti e servizi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4073400"/>
            <a:ext cx="4716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Provider e linee di comunic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Un provider è in generale un'azienda o un'organizzazione che fornisce un servizio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Le linee di comunicazione sono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PST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SD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ADS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Gli indirizzi IP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E’ un numero che identifica univocamente un dispositivo collegato a una ret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40226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Gli indirizzi dei siti (URL)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sequenza di caratteri che identifica univocamente l‘indirizzo di una risorsa in Internet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763640" y="3170160"/>
            <a:ext cx="5616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Il WWW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0" name="Text Placeholder 2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68000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Altri Servizi di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FT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-M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CH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NEWSGROU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TEL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Present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Sistema Operativo: Microsoft Windows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CPU: 2.40 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Hard disk da: 38.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La rete del laboratorio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Tutti i computer sono dotati di una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scheda di rete di tipo Ethernet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, alla cui porta è connesso un cavo Ethernet che arriva ad uno dei 2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switch 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presenti in laboratori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 due switch sono collegati ad un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router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che consente l’accesso ad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 compute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quindi forman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  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una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rete loca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Collegamento ad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760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Ogni computer ha un proprio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indirizzo IP privato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;  il mio computer ha l’indirizzo IP ………………………………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l router interfacciato ad Internet ha un indirizzo IP fornito in modo dinamico dal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Provider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Telecom:…………………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La linea di comunicazione utilizzata è di tipo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ADSL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484360" y="4578480"/>
            <a:ext cx="4249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Il sito della scuola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a nostra scuola ha un proprio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ito Internet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, presente nel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WWW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    L’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URL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è il seguent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http://www.istsuperiore-lissone.net/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311120" y="3068640"/>
            <a:ext cx="67042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DEFINIZIONI dei termini sottolineati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34"/>
                </a:solidFill>
                <a:latin typeface="Comic Sans MS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Le reti di computer (LAN, MAN,WAN,GAN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Schede di rete, switch e rout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Provider e linee di comunicazion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Gli indirizzi IP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Gli indirizzi dei siti (URL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Il WWW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Altri servizi di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Le reti di comp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Una rete è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un insieme di dispositivi elettronici in grado di comunicare fra lor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A seconda della dimensione dell’area geografica in cui sono dislocati i PC, le reti possono essere classificate in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M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W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WL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72779"/>
                </a:solidFill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1" action="ppaction://hlinksldjump"/>
              </a:rPr>
              <a:t>Schede di rete,</a:t>
            </a:r>
            <a:br>
              <a:rPr sz="4400"/>
            </a:br>
            <a:r>
              <a:rPr b="0" lang="en-US" sz="4400" spc="-1" strike="noStrike" u="sng">
                <a:solidFill>
                  <a:srgbClr val="e72779"/>
                </a:solidFill>
                <a:uFillTx/>
                <a:latin typeface="Monotype Corsiva"/>
              </a:rPr>
              <a:t> </a:t>
            </a:r>
            <a:br>
              <a:rPr sz="4400"/>
            </a:br>
            <a:r>
              <a:rPr b="0" lang="en-US" sz="4400" spc="-1" strike="noStrike" u="sng">
                <a:solidFill>
                  <a:srgbClr val="e72779"/>
                </a:solidFill>
                <a:uFillTx/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2" action="ppaction://hlinksldjump"/>
              </a:rPr>
              <a:t>switch,_x000b_</a:t>
            </a:r>
            <a:br>
              <a:rPr sz="4400"/>
            </a:br>
            <a:r>
              <a:rPr b="0" lang="en-US" sz="4400" spc="-1" strike="noStrike" u="sng">
                <a:solidFill>
                  <a:srgbClr val="e72779"/>
                </a:solidFill>
                <a:uFillTx/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3" action="ppaction://hlinksldjump"/>
              </a:rPr>
              <a:t>router. 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68360" y="1484280"/>
            <a:ext cx="685152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a livello logico un‘interfaccia digitale, costituita a livello hardware da una scheda elettronica inserita solitamente all'interno di un Personal Computer, ecc., che svolge tutte le elaborazioni o funzioni necessarie a consentire la connessione dell'apparato informatico ad una rete informatica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Schede di ret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724360" y="4000680"/>
            <a:ext cx="3419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3-21T12:45:54Z</dcterms:modified>
  <cp:revision>15</cp:revision>
  <dc:subject/>
  <dc:title>Il nostro laboratorio</dc:title>
</cp:coreProperties>
</file>