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8FF-22CD-42C5-9386-82D41FE1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B8A-7774-4A13-A2E5-63DD409A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410-D064-4CB5-9439-2F0897E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FCC-E7DB-4FC6-9F41-57933E32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BA87-1172-4A2A-8216-89874CDF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96D2-7629-4399-9796-896A50F9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68F6-B993-4693-B84D-A2C01F4F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729B-D560-4777-80DF-6A0EE63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522-C440-4071-BA54-0A1ECDB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1162-B139-476B-A6ED-540B310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95FC-97BE-4D98-AA7E-4C4159F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805-F181-43CD-96BD-876614D2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F9F7-F67B-4C23-A0ED-2FD0BE0A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3685-CDE6-4195-9C13-F6914D0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419D-7097-45A0-9C78-6485593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B50-8AE2-485E-A533-2EEB3CEE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61DB-C12A-4180-99C1-7F2BBB13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3F1D-FD53-455C-957B-EA0BE755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FD77-CA2A-4ED7-B6A5-5B883461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E69D-C90D-40B9-A701-2DD270A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BB93-327E-4C30-982E-2A13AF2B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507F-B30C-43FC-B11F-854964F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E05-C7A3-4877-A1B5-3DD940A0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3C19-C207-403D-B69A-E8915AB1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329E-B271-43E8-9F63-D8E9B34B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23B9-4575-44C4-AA25-8B4F9C7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AC27-4538-4F00-A1BF-04E94B7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69AC-AFFD-41AF-8EC2-58621ABC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B5F7-6CD0-47DC-B2C4-237E6D55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E115-F0C3-4A1E-AACE-64E9B0C0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18E8-6CAD-465D-9C6C-D5751827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AFB0-8ED0-4816-8216-FC92BC5D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92991-32AE-42A9-9009-5FF34462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D4B-D75E-4760-B78A-45F630FC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3418-3629-49EB-92F6-1DC0EA70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345A-8AAA-4976-B0A8-DB92076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338F-F46F-4D45-BDE3-4CCDB5C1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86C96-5DC2-4C95-944B-5EF1F41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EC8D-9B50-4CFB-9A9C-2031E51C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39338-4DCE-40A7-B9C9-AC9B22D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2581-9E42-492A-A6EB-1F5E2E8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B702-ECE2-4165-8C98-FEB121AE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95448-F428-4D2F-A501-1C9EED1B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CD76-E227-4876-901F-A392592E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53B-013C-45C9-A2F5-D867F8B4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51E9-AEE7-4F57-8FCD-330847A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1FD8-25AD-43D3-89BC-1C3B80CD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F185-6DAC-4BA4-878C-2A56536F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CA4C1-14E5-4BC8-9A17-5636AF4E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322A-A1E8-48E6-9C0E-48B4666C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9CAFB-5116-4318-8CB3-6DC31FA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4028-055C-4150-B790-2A5D762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1993-79B3-48BE-B324-FEA15BF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80B9-447F-4436-B7B0-C1BB34F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9B18-36E8-477A-9EE1-96B3B258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26C-E874-43B6-9842-68D44214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9D44-19D2-439D-B9EB-0F07D2C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2F7-4474-4550-82F9-669A5906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FD6-877A-4603-AB4E-BEDEE09F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4E8-120D-4E1F-AA8D-ED9FC40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9D20-AFD5-4B82-A292-DCB75824CD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99B-577C-402F-A9D0-86350DBCC7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098-B890-4776-ABF2-F4FCE514E3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FF97-3A48-4073-9601-DC06DCA5F2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B9B2-DCFA-46AE-A5CB-61887D1183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c-facile.com/glossario/arpanet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Il%20nostro%20laboratorio%201-2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l%20nostro%20laboratorio%201-2.ppt" TargetMode="External"/><Relationship Id="rId2" Type="http://schemas.openxmlformats.org/officeDocument/2006/relationships/hyperlink" Target="http://www.pc-facile.com/glossario/Link/" TargetMode="External"/><Relationship Id="rId3" Type="http://schemas.openxmlformats.org/officeDocument/2006/relationships/hyperlink" Target="http://www.pc-facile.com/glossario/osi/" TargetMode="External"/><Relationship Id="rId4" Type="http://schemas.openxmlformats.org/officeDocument/2006/relationships/hyperlink" Target="http://www.pc-facile.com/glossario/lan/" TargetMode="External"/><Relationship Id="rId5" Type="http://schemas.openxmlformats.org/officeDocument/2006/relationships/hyperlink" Target="http://www.pc-facile.com/glossario/mac/" TargetMode="External"/><Relationship Id="rId6" Type="http://schemas.openxmlformats.org/officeDocument/2006/relationships/hyperlink" Target="http://www.pc-facile.com/glossario/bridge/" TargetMode="External"/><Relationship Id="rId7" Type="http://schemas.openxmlformats.org/officeDocument/2006/relationships/hyperlink" Target="http://www.pc-facile.com/glossario/host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c-facile.com/glossario/rete/" TargetMode="External"/><Relationship Id="rId2" Type="http://schemas.openxmlformats.org/officeDocument/2006/relationships/hyperlink" Target="http://www.pc-facile.com/glossario/packet-switched/" TargetMode="External"/><Relationship Id="rId3" Type="http://schemas.openxmlformats.org/officeDocument/2006/relationships/hyperlink" Target="http://www.pc-facile.com/glossario/packet-switched/" TargetMode="External"/><Relationship Id="rId4" Type="http://schemas.openxmlformats.org/officeDocument/2006/relationships/hyperlink" Target="http://www.pc-facile.com/glossario/packet-switched/" TargetMode="External"/><Relationship Id="rId5" Type="http://schemas.openxmlformats.org/officeDocument/2006/relationships/hyperlink" Target="http://www.pc-facile.com/glossario/internet/" TargetMode="External"/><Relationship Id="rId6" Type="http://schemas.openxmlformats.org/officeDocument/2006/relationships/hyperlink" Target="http://www.pc-facile.com/glossario/software/" TargetMode="External"/><Relationship Id="rId7" Type="http://schemas.openxmlformats.org/officeDocument/2006/relationships/hyperlink" Target="http://www.pc-facile.com/glossario/pc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495680" y="3471840"/>
            <a:ext cx="4527720" cy="3386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848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8e8e8"/>
                </a:solidFill>
                <a:latin typeface="Century Gothic"/>
              </a:rPr>
              <a:t>IL NOSTRO LABORATORIO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d13d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Autore della definizione: Damir Grgic</a:t>
            </a:r>
            <a:br>
              <a:rPr sz="2400"/>
            </a:b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È una rete mondiale di computer interconnessi alla quale si può accedere e trovare informazioni, fare acquisti, parlare con altri utenti e molto altro. Concepita nel lontano 1969 dal governo degli Stati Uniti e nota all'inizio com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RPA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 Lo scopo originale di Internet era collegare le Università statunitens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57150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vider e linee di comunic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 provider è un genere di compagnie telefonich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e linee di comunicazione son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ST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D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DS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4495680"/>
            <a:ext cx="2133360" cy="1447920"/>
          </a:xfrm>
          <a:custGeom>
            <a:avLst/>
            <a:gdLst>
              <a:gd name="textAreaLeft" fmla="*/ 93600 w 2133360"/>
              <a:gd name="textAreaRight" fmla="*/ 2039760 w 21333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1823" h="21600">
                <a:moveTo>
                  <a:pt x="0" y="0"/>
                </a:moveTo>
                <a:lnTo>
                  <a:pt x="31823" y="0"/>
                </a:lnTo>
                <a:lnTo>
                  <a:pt x="31823" y="21600"/>
                </a:lnTo>
                <a:lnTo>
                  <a:pt x="0" y="21600"/>
                </a:lnTo>
                <a:close/>
              </a:path>
              <a:path fill="lightenLess" w="31823" h="21600">
                <a:moveTo>
                  <a:pt x="0" y="0"/>
                </a:moveTo>
                <a:lnTo>
                  <a:pt x="31823" y="0"/>
                </a:lnTo>
                <a:lnTo>
                  <a:pt x="30423" y="1400"/>
                </a:lnTo>
                <a:lnTo>
                  <a:pt x="1400" y="1400"/>
                </a:lnTo>
                <a:close/>
              </a:path>
              <a:path fill="darken" w="31823" h="21600">
                <a:moveTo>
                  <a:pt x="31823" y="0"/>
                </a:moveTo>
                <a:lnTo>
                  <a:pt x="31823" y="21600"/>
                </a:lnTo>
                <a:lnTo>
                  <a:pt x="30423" y="20200"/>
                </a:lnTo>
                <a:lnTo>
                  <a:pt x="30423" y="1400"/>
                </a:lnTo>
                <a:close/>
              </a:path>
              <a:path fill="darkenLess" w="31823" h="21600">
                <a:moveTo>
                  <a:pt x="3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23" y="20200"/>
                </a:lnTo>
                <a:close/>
              </a:path>
              <a:path fill="lighten" w="3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23" h="21600">
                <a:moveTo>
                  <a:pt x="8905" y="10800"/>
                </a:moveTo>
                <a:lnTo>
                  <a:pt x="22918" y="3794"/>
                </a:lnTo>
                <a:lnTo>
                  <a:pt x="22918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Arial"/>
              </a:rPr>
              <a:t>Gli indirizzi IP</a:t>
            </a:r>
            <a:br>
              <a:rPr sz="4000"/>
            </a:br>
            <a:r>
              <a:rPr b="0" lang="it-IT" sz="1600" spc="-1" strike="noStrike">
                <a:solidFill>
                  <a:srgbClr val="d2533c"/>
                </a:solidFill>
                <a:latin typeface="Arial"/>
              </a:rPr>
              <a:t>indirizzo a 32 bit, assegnato agli hosts che utilizzano il protocollo TCP/IP, che identifica univocamente ogni computer collegato alla rete. L'utente, tuttavia, è abituato a richiedere la visualizzazione di una pagina in Internet con la digitazione di un URL, cioè di un indirizzo alfabetico facile da memorizzare e non con la digitazione di un indirizzo IP, che risulta ovviamente più difficile da ricordare. Tuttavia i server in Internet utilizzano per comunicare l'indirizzo IP numerico corrispondente all'URL digitata dall'utente. La traduzione da URL a indirizzo IP viene effettuata dal DN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495680"/>
            <a:ext cx="3048120" cy="838440"/>
          </a:xfrm>
          <a:custGeom>
            <a:avLst/>
            <a:gdLst>
              <a:gd name="textAreaLeft" fmla="*/ 54360 w 3048120"/>
              <a:gd name="textAreaRight" fmla="*/ 2993760 w 30481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8502" h="21600">
                <a:moveTo>
                  <a:pt x="0" y="0"/>
                </a:moveTo>
                <a:lnTo>
                  <a:pt x="78502" y="0"/>
                </a:lnTo>
                <a:lnTo>
                  <a:pt x="78502" y="21600"/>
                </a:lnTo>
                <a:lnTo>
                  <a:pt x="0" y="21600"/>
                </a:lnTo>
                <a:close/>
              </a:path>
              <a:path fill="lightenLess" w="78502" h="21600">
                <a:moveTo>
                  <a:pt x="0" y="0"/>
                </a:moveTo>
                <a:lnTo>
                  <a:pt x="78502" y="0"/>
                </a:lnTo>
                <a:lnTo>
                  <a:pt x="77102" y="1400"/>
                </a:lnTo>
                <a:lnTo>
                  <a:pt x="1400" y="1400"/>
                </a:lnTo>
                <a:close/>
              </a:path>
              <a:path fill="darken" w="78502" h="21600">
                <a:moveTo>
                  <a:pt x="78502" y="0"/>
                </a:moveTo>
                <a:lnTo>
                  <a:pt x="78502" y="21600"/>
                </a:lnTo>
                <a:lnTo>
                  <a:pt x="77102" y="20200"/>
                </a:lnTo>
                <a:lnTo>
                  <a:pt x="77102" y="1400"/>
                </a:lnTo>
                <a:close/>
              </a:path>
              <a:path fill="darkenLess" w="78502" h="21600">
                <a:moveTo>
                  <a:pt x="78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102" y="20200"/>
                </a:lnTo>
                <a:close/>
              </a:path>
              <a:path fill="lighten" w="78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502" h="21600">
                <a:moveTo>
                  <a:pt x="32244" y="10800"/>
                </a:moveTo>
                <a:lnTo>
                  <a:pt x="46257" y="3794"/>
                </a:lnTo>
                <a:lnTo>
                  <a:pt x="46257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8000">
                <a:solidFill>
                  <a:srgbClr val="36ecf0"/>
                </a:solidFill>
                <a:latin typeface="Courier New"/>
              </a:rPr>
              <a:t>Gli indirizzi dei siti (URL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52880" y="5638680"/>
            <a:ext cx="3733920" cy="838440"/>
          </a:xfrm>
          <a:custGeom>
            <a:avLst/>
            <a:gdLst>
              <a:gd name="textAreaLeft" fmla="*/ 54360 w 3733920"/>
              <a:gd name="textAreaRight" fmla="*/ 3679560 w 3733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96162" h="21600">
                <a:moveTo>
                  <a:pt x="0" y="0"/>
                </a:moveTo>
                <a:lnTo>
                  <a:pt x="96162" y="0"/>
                </a:lnTo>
                <a:lnTo>
                  <a:pt x="96162" y="21600"/>
                </a:lnTo>
                <a:lnTo>
                  <a:pt x="0" y="21600"/>
                </a:lnTo>
                <a:close/>
              </a:path>
              <a:path fill="lightenLess" w="96162" h="21600">
                <a:moveTo>
                  <a:pt x="0" y="0"/>
                </a:moveTo>
                <a:lnTo>
                  <a:pt x="96162" y="0"/>
                </a:lnTo>
                <a:lnTo>
                  <a:pt x="94762" y="1400"/>
                </a:lnTo>
                <a:lnTo>
                  <a:pt x="1400" y="1400"/>
                </a:lnTo>
                <a:close/>
              </a:path>
              <a:path fill="darken" w="96162" h="21600">
                <a:moveTo>
                  <a:pt x="96162" y="0"/>
                </a:moveTo>
                <a:lnTo>
                  <a:pt x="96162" y="21600"/>
                </a:lnTo>
                <a:lnTo>
                  <a:pt x="94762" y="20200"/>
                </a:lnTo>
                <a:lnTo>
                  <a:pt x="94762" y="1400"/>
                </a:lnTo>
                <a:close/>
              </a:path>
              <a:path fill="darkenLess" w="96162" h="21600">
                <a:moveTo>
                  <a:pt x="96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762" y="20200"/>
                </a:lnTo>
                <a:close/>
              </a:path>
              <a:path fill="lighten" w="96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6162" h="21600">
                <a:moveTo>
                  <a:pt x="41074" y="10800"/>
                </a:moveTo>
                <a:lnTo>
                  <a:pt x="55087" y="3794"/>
                </a:lnTo>
                <a:lnTo>
                  <a:pt x="55087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Arial"/>
              </a:rPr>
              <a:t>Il WWW</a:t>
            </a:r>
            <a:br>
              <a:rPr sz="4000"/>
            </a:br>
            <a:r>
              <a:rPr b="0" i="1" lang="it-IT" sz="4000" spc="-1" strike="noStrike">
                <a:solidFill>
                  <a:srgbClr val="d2533c"/>
                </a:solidFill>
                <a:latin typeface="Arial"/>
              </a:rPr>
              <a:t>World Wide Web:anche conosciuto come Grande Rete Mondiale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5280" y="2895480"/>
            <a:ext cx="5029200" cy="3048120"/>
            <a:chOff x="1295280" y="2895480"/>
            <a:chExt cx="5029200" cy="3048120"/>
          </a:xfrm>
        </p:grpSpPr>
        <p:pic>
          <p:nvPicPr>
            <p:cNvPr id="256" name="Segnaposto contenuto 2" descr=""/>
            <p:cNvPicPr/>
            <p:nvPr/>
          </p:nvPicPr>
          <p:blipFill>
            <a:blip r:embed="rId1"/>
            <a:stretch/>
          </p:blipFill>
          <p:spPr>
            <a:xfrm>
              <a:off x="1295280" y="2895480"/>
              <a:ext cx="50292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 txBox="1"/>
            <p:nvPr/>
          </p:nvSpPr>
          <p:spPr>
            <a:xfrm>
              <a:off x="1295280" y="2895480"/>
              <a:ext cx="502920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182520" indent="-182520">
                <a:spcBef>
                  <a:spcPts val="601"/>
                </a:spcBef>
                <a:buClr>
                  <a:srgbClr val="93a299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391520" y="55627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ltri Servizi di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SGROU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EL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781680" y="53341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e161eb"/>
                </a:solidFill>
                <a:latin typeface="바탕"/>
              </a:rPr>
              <a:t>Presentazione</a:t>
            </a:r>
            <a:endParaRPr b="0" lang="en-US" sz="8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stema Operativo: Microsoft Window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PU: 2.40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ard disk da: 76,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a rete del laboratori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utti i computer sono dotati di un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da di rete di tipo Eth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alla cui porta è connesso un cavo Ethernet che arriva ad uno dei 2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witch 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I due switch sono collegati ad un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outer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che consente l’accesso ad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quindi forman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un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ete loc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AN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llegamento ad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Ogni computer ha un propri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dirizzo IP privato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;  il mio computer ha l’indirizzo IP 192.164.1.64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Il router interfacciato ad Internet ha un indirizzo IP fornito in modo dinamico dal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rovider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Telecom: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79.4.253.184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 linea di comunicazione utilizzata è di tip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757520" y="3789360"/>
            <a:ext cx="523872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l sito della scuol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837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 nostra scuola ha un propri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ito Int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presente nel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WWW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    L’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è il seguente:</a:t>
            </a:r>
            <a:br>
              <a:rPr sz="2400"/>
            </a:b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http://www.iisgadda.it/wp2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48720" cy="4876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EFINIZIONI sottolineati dei termin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34"/>
                </a:solidFill>
                <a:latin typeface="Arial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Le reti di computer (LAN, MAN,WAN,GAN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Schede di rete, switch e 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292934"/>
                </a:solidFill>
                <a:latin typeface="Arial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e reti di comp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Una rete è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AN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6095880" y="54864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chede di rete</a:t>
            </a:r>
            <a:r>
              <a:rPr b="0" lang="it-IT" sz="4000" spc="-1" strike="noStrike">
                <a:solidFill>
                  <a:srgbClr val="d2533c"/>
                </a:solidFill>
                <a:latin typeface="Arial"/>
              </a:rPr>
              <a:t>, switch e ro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37160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Si tratta di un dispositivo che permette al computer di colloquiare con la rete. Le schede di rete (NIC - Network Interface Card ) sono generalmente installate all'interno del PC. Sul retro del computer compare la parte terminale della scheda, dove si inserisce il cavo di rete. Portatili e notebook hanno schede di rete differenti (formato PCMCIA), ed occupano uno slot che si trova solitamente su uno dei lati. Esistono schede di rete Ethernet (10 Mbps) e Fast Ethernet (100 Mbps)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Dispositivo di comunicazione situato al livello data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nk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(livello 2) dell'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OSI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Model che inoltra il traffico su una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AN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basandosi sull'indirizzo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AC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. Al contrario del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Bridge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che ha una sola porta, lo switch ne ha diverse e ognuna garantisce a ciacun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os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collegato l'intera banda del mezzo trasmissiv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7924680" y="60958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10800"/>
                </a:moveTo>
                <a:lnTo>
                  <a:pt x="27055" y="3794"/>
                </a:lnTo>
                <a:lnTo>
                  <a:pt x="27055" y="17806"/>
                </a:lnTo>
                <a:close/>
              </a:path>
            </a:pathLst>
          </a:cu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ecf0"/>
            </a:gs>
            <a:gs pos="100000">
              <a:srgbClr val="adf9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533520"/>
            <a:ext cx="6705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Nell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eti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acket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-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switched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com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ternet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il router è uno strumento fisico, o in alcuni casi un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software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in un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ersonal computer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, che determina il successivo punto della rete a cui inoltrare il pacchetto di dati ricevuto. Il router quindi è colui che instrada il pacchetto di dati verso la destinazione finale. Un router, in generale, è connesso a due o piu’ reti e decide quale percorso far compiere ai dati basandosi su informazioni dello stato delle reti alle quali è collegato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4-04T11:15:41Z</dcterms:modified>
  <cp:revision>32</cp:revision>
  <dc:subject/>
  <dc:title>Il nostro laboratorio</dc:title>
</cp:coreProperties>
</file>