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CAE-4A25-4F2F-91CD-2927FD76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2C8-76DD-438D-8043-55333DC4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F32-05DD-460E-87B0-521F9E85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6BC-B397-4251-96C8-712A8DA6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5CAD-3F52-4804-A427-19D0AC99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9AFF-CF35-417A-9256-E8D33631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E498-7A26-48AD-8E09-9A5CA0B5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9436-F38A-40DF-83F1-E019205B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4401-6BD6-4372-BD14-614A57A9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112C-ADA6-49C0-AB58-72B89E34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84BF-A052-4210-A591-57B5BD9E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541-95A0-4A48-9840-DBDA6D91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958F-376D-4FE7-B201-76CB51A4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FA99-EE77-4CA4-A150-DB402079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32D9-DE4F-4668-B991-59EF0EB5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5456-A1FC-497E-9134-A6726586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9DDA-6EC5-4F2E-93B2-A245DC34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29706-E18D-48F1-AF84-71BB66EB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E6E40-E9BA-4C56-8D6C-15CEE718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43B92-C638-4B7C-B79C-6C3BAB34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38904-8C97-4A78-9E9D-9F2E2DE3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33558-28D2-4263-8C88-472C08A5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8861-5D70-4852-BB8C-360157A7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F8451-98E5-47E5-B128-C34DEAE5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735C3-6D21-4064-9470-3BEEA133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8A172-96FB-4A17-BEF4-8B6A2BC5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EAEC8-1830-4752-99B2-6003B880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17E97-21DC-4B82-9D67-794FB428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3AC13-716D-405C-AEDF-230E5171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B7CD-B37E-4047-9E56-28FEB61A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EA412-3A87-41C1-AEE4-8283CDB0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7EA92-5A0A-4DB0-B570-8B398941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8734F-7B32-4308-A220-793E54CE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3A99-D36D-4050-9380-E790E40E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80FCF-8E2A-43A7-BC7F-8CC72FD7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87A44-0376-4D22-BEF1-EDEE8D05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DFD9D-18DF-4A7F-8BF1-4246FDE9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86094-CF46-49BA-99F8-47408DBC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C661F-EA4A-41C6-840A-6C14E956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B9E67-4A4D-454A-9DBC-BF503168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EA763-2447-4530-AB6D-79249B31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780ED-7E74-47B0-A73D-ACED49E5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B4B51-10B9-4EB2-AFBB-5EEE6579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AD9B-B555-4E8A-8749-2BD663D7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DEDB-8AD7-480A-896C-FD0FD111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F593E-4733-44D7-8E36-B86EDEB3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B6BDD-D4A9-4F09-8446-10A9D00B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39D9A-2B02-49A5-B1C4-08B48BF1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9F720-03CD-45FA-89E6-889EA521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8D922-4906-4544-BD3E-C64FA06E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67114-12A2-4140-BA22-F58536A7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AA5FC-22AC-45C9-AD81-8B5207E1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915CE-B919-45FD-B62C-02B742E9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2262E-8D3E-483D-8B22-6D1A8F74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97681-AE18-42E9-A65D-6A8692E7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74D-36B4-447E-AE07-AB95D955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9552C-89DC-4E88-AD6E-3F4CE613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476-B475-4379-8869-09E4AF8B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588-3D93-41CF-BE71-3DACCC7C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D05-4213-4C0B-B384-EFB296BD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9F2E-9CAF-4EC4-AC5C-B1E2EF85E8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C0A6-2F62-473A-B52E-A7B0E406F4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1C94-30EC-4058-A7C2-24AE26B097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8C91-87E9-4937-92C1-6403921AD4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A1AB-9B04-4A3D-B8B7-9E186C47D4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c-facile.com/glossario/arpanet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Il%20nostro%20laboratorio%201-2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Il%20nostro%20laboratorio%201-2.ppt" TargetMode="External"/><Relationship Id="rId2" Type="http://schemas.openxmlformats.org/officeDocument/2006/relationships/hyperlink" Target="http://www.pc-facile.com/glossario/Link/" TargetMode="External"/><Relationship Id="rId3" Type="http://schemas.openxmlformats.org/officeDocument/2006/relationships/hyperlink" Target="http://www.pc-facile.com/glossario/osi/" TargetMode="External"/><Relationship Id="rId4" Type="http://schemas.openxmlformats.org/officeDocument/2006/relationships/hyperlink" Target="http://www.pc-facile.com/glossario/lan/" TargetMode="External"/><Relationship Id="rId5" Type="http://schemas.openxmlformats.org/officeDocument/2006/relationships/hyperlink" Target="http://www.pc-facile.com/glossario/mac/" TargetMode="External"/><Relationship Id="rId6" Type="http://schemas.openxmlformats.org/officeDocument/2006/relationships/hyperlink" Target="http://www.pc-facile.com/glossario/bridge/" TargetMode="External"/><Relationship Id="rId7" Type="http://schemas.openxmlformats.org/officeDocument/2006/relationships/hyperlink" Target="http://www.pc-facile.com/glossario/host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c-facile.com/glossario/rete/" TargetMode="External"/><Relationship Id="rId2" Type="http://schemas.openxmlformats.org/officeDocument/2006/relationships/hyperlink" Target="http://www.pc-facile.com/glossario/packet-switched/" TargetMode="External"/><Relationship Id="rId3" Type="http://schemas.openxmlformats.org/officeDocument/2006/relationships/hyperlink" Target="http://www.pc-facile.com/glossario/packet-switched/" TargetMode="External"/><Relationship Id="rId4" Type="http://schemas.openxmlformats.org/officeDocument/2006/relationships/hyperlink" Target="http://www.pc-facile.com/glossario/packet-switched/" TargetMode="External"/><Relationship Id="rId5" Type="http://schemas.openxmlformats.org/officeDocument/2006/relationships/hyperlink" Target="http://www.pc-facile.com/glossario/internet/" TargetMode="External"/><Relationship Id="rId6" Type="http://schemas.openxmlformats.org/officeDocument/2006/relationships/hyperlink" Target="http://www.pc-facile.com/glossario/software/" TargetMode="External"/><Relationship Id="rId7" Type="http://schemas.openxmlformats.org/officeDocument/2006/relationships/hyperlink" Target="http://www.pc-facile.com/glossario/pc/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Di INFORMATIC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495680" y="3471840"/>
            <a:ext cx="4527720" cy="33861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8487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8e8e8"/>
                </a:solidFill>
                <a:latin typeface="Century Gothic"/>
              </a:rPr>
              <a:t>IL NOSTRO LABORATORIO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dd13d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Autore della definizione: Damir Grgic</a:t>
            </a:r>
            <a:br>
              <a:rPr sz="2400"/>
            </a:b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È una rete mondiale di computer interconnessi alla quale si può accedere e trovare informazioni, fare acquisti, parlare con altri utenti e molto altro. Concepita nel lontano 1969 dal governo degli Stati Uniti e nota all'inizio come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RPAnet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. Lo scopo originale di Internet era collegare le Università statunitensi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57150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rovider e linee di comunicazion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 provider è un genere di compagnie telefonich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e linee di comunicazione sono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ST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SD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DS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1320" y="4495680"/>
            <a:ext cx="2133360" cy="1447920"/>
          </a:xfrm>
          <a:custGeom>
            <a:avLst/>
            <a:gdLst>
              <a:gd name="textAreaLeft" fmla="*/ 93600 w 2133360"/>
              <a:gd name="textAreaRight" fmla="*/ 2039760 w 21333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1823" h="21600">
                <a:moveTo>
                  <a:pt x="0" y="0"/>
                </a:moveTo>
                <a:lnTo>
                  <a:pt x="31823" y="0"/>
                </a:lnTo>
                <a:lnTo>
                  <a:pt x="31823" y="21600"/>
                </a:lnTo>
                <a:lnTo>
                  <a:pt x="0" y="21600"/>
                </a:lnTo>
                <a:close/>
              </a:path>
              <a:path fill="lightenLess" w="31823" h="21600">
                <a:moveTo>
                  <a:pt x="0" y="0"/>
                </a:moveTo>
                <a:lnTo>
                  <a:pt x="31823" y="0"/>
                </a:lnTo>
                <a:lnTo>
                  <a:pt x="30423" y="1400"/>
                </a:lnTo>
                <a:lnTo>
                  <a:pt x="1400" y="1400"/>
                </a:lnTo>
                <a:close/>
              </a:path>
              <a:path fill="darken" w="31823" h="21600">
                <a:moveTo>
                  <a:pt x="31823" y="0"/>
                </a:moveTo>
                <a:lnTo>
                  <a:pt x="31823" y="21600"/>
                </a:lnTo>
                <a:lnTo>
                  <a:pt x="30423" y="20200"/>
                </a:lnTo>
                <a:lnTo>
                  <a:pt x="30423" y="1400"/>
                </a:lnTo>
                <a:close/>
              </a:path>
              <a:path fill="darkenLess" w="31823" h="21600">
                <a:moveTo>
                  <a:pt x="31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23" y="20200"/>
                </a:lnTo>
                <a:close/>
              </a:path>
              <a:path fill="lighten" w="31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823" h="21600">
                <a:moveTo>
                  <a:pt x="8905" y="10800"/>
                </a:moveTo>
                <a:lnTo>
                  <a:pt x="22918" y="3794"/>
                </a:lnTo>
                <a:lnTo>
                  <a:pt x="22918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1981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2533c"/>
                </a:solidFill>
                <a:latin typeface="Arial"/>
              </a:rPr>
              <a:t>Gli indirizzi IP</a:t>
            </a:r>
            <a:br>
              <a:rPr sz="4000"/>
            </a:br>
            <a:r>
              <a:rPr b="0" lang="it-IT" sz="1600" spc="-1" strike="noStrike">
                <a:solidFill>
                  <a:srgbClr val="d2533c"/>
                </a:solidFill>
                <a:latin typeface="Arial"/>
              </a:rPr>
              <a:t>indirizzo a 32 bit, assegnato agli hosts che utilizzano il protocollo TCP/IP, che identifica univocamente ogni computer collegato alla rete. L'utente, tuttavia, è abituato a richiedere la visualizzazione di una pagina in Internet con la digitazione di un URL, cioè di un indirizzo alfabetico facile da memorizzare e non con la digitazione di un indirizzo IP, che risulta ovviamente più difficile da ricordare. Tuttavia i server in Internet utilizzano per comunicare l'indirizzo IP numerico corrispondente all'URL digitata dall'utente. La traduzione da URL a indirizzo IP viene effettuata dal DNS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4495680"/>
            <a:ext cx="3048120" cy="838440"/>
          </a:xfrm>
          <a:custGeom>
            <a:avLst/>
            <a:gdLst>
              <a:gd name="textAreaLeft" fmla="*/ 54360 w 3048120"/>
              <a:gd name="textAreaRight" fmla="*/ 2993760 w 30481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8502" h="21600">
                <a:moveTo>
                  <a:pt x="0" y="0"/>
                </a:moveTo>
                <a:lnTo>
                  <a:pt x="78502" y="0"/>
                </a:lnTo>
                <a:lnTo>
                  <a:pt x="78502" y="21600"/>
                </a:lnTo>
                <a:lnTo>
                  <a:pt x="0" y="21600"/>
                </a:lnTo>
                <a:close/>
              </a:path>
              <a:path fill="lightenLess" w="78502" h="21600">
                <a:moveTo>
                  <a:pt x="0" y="0"/>
                </a:moveTo>
                <a:lnTo>
                  <a:pt x="78502" y="0"/>
                </a:lnTo>
                <a:lnTo>
                  <a:pt x="77102" y="1400"/>
                </a:lnTo>
                <a:lnTo>
                  <a:pt x="1400" y="1400"/>
                </a:lnTo>
                <a:close/>
              </a:path>
              <a:path fill="darken" w="78502" h="21600">
                <a:moveTo>
                  <a:pt x="78502" y="0"/>
                </a:moveTo>
                <a:lnTo>
                  <a:pt x="78502" y="21600"/>
                </a:lnTo>
                <a:lnTo>
                  <a:pt x="77102" y="20200"/>
                </a:lnTo>
                <a:lnTo>
                  <a:pt x="77102" y="1400"/>
                </a:lnTo>
                <a:close/>
              </a:path>
              <a:path fill="darkenLess" w="78502" h="21600">
                <a:moveTo>
                  <a:pt x="785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102" y="20200"/>
                </a:lnTo>
                <a:close/>
              </a:path>
              <a:path fill="lighten" w="785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8502" h="21600">
                <a:moveTo>
                  <a:pt x="32244" y="10800"/>
                </a:moveTo>
                <a:lnTo>
                  <a:pt x="46257" y="3794"/>
                </a:lnTo>
                <a:lnTo>
                  <a:pt x="46257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8000">
                <a:solidFill>
                  <a:srgbClr val="36ecf0"/>
                </a:solidFill>
                <a:latin typeface="Courier New"/>
              </a:rPr>
              <a:t>Gli indirizzi dei siti (URL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876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952880" y="5638680"/>
            <a:ext cx="3733920" cy="838440"/>
          </a:xfrm>
          <a:custGeom>
            <a:avLst/>
            <a:gdLst>
              <a:gd name="textAreaLeft" fmla="*/ 54360 w 3733920"/>
              <a:gd name="textAreaRight" fmla="*/ 3679560 w 37339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96162" h="21600">
                <a:moveTo>
                  <a:pt x="0" y="0"/>
                </a:moveTo>
                <a:lnTo>
                  <a:pt x="96162" y="0"/>
                </a:lnTo>
                <a:lnTo>
                  <a:pt x="96162" y="21600"/>
                </a:lnTo>
                <a:lnTo>
                  <a:pt x="0" y="21600"/>
                </a:lnTo>
                <a:close/>
              </a:path>
              <a:path fill="lightenLess" w="96162" h="21600">
                <a:moveTo>
                  <a:pt x="0" y="0"/>
                </a:moveTo>
                <a:lnTo>
                  <a:pt x="96162" y="0"/>
                </a:lnTo>
                <a:lnTo>
                  <a:pt x="94762" y="1400"/>
                </a:lnTo>
                <a:lnTo>
                  <a:pt x="1400" y="1400"/>
                </a:lnTo>
                <a:close/>
              </a:path>
              <a:path fill="darken" w="96162" h="21600">
                <a:moveTo>
                  <a:pt x="96162" y="0"/>
                </a:moveTo>
                <a:lnTo>
                  <a:pt x="96162" y="21600"/>
                </a:lnTo>
                <a:lnTo>
                  <a:pt x="94762" y="20200"/>
                </a:lnTo>
                <a:lnTo>
                  <a:pt x="94762" y="1400"/>
                </a:lnTo>
                <a:close/>
              </a:path>
              <a:path fill="darkenLess" w="96162" h="21600">
                <a:moveTo>
                  <a:pt x="96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762" y="20200"/>
                </a:lnTo>
                <a:close/>
              </a:path>
              <a:path fill="lighten" w="96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6162" h="21600">
                <a:moveTo>
                  <a:pt x="41074" y="10800"/>
                </a:moveTo>
                <a:lnTo>
                  <a:pt x="55087" y="3794"/>
                </a:lnTo>
                <a:lnTo>
                  <a:pt x="55087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2533c"/>
                </a:solidFill>
                <a:latin typeface="Arial"/>
              </a:rPr>
              <a:t>Il WWW</a:t>
            </a:r>
            <a:br>
              <a:rPr sz="4000"/>
            </a:br>
            <a:r>
              <a:rPr b="0" i="1" lang="it-IT" sz="4000" spc="-1" strike="noStrike">
                <a:solidFill>
                  <a:srgbClr val="d2533c"/>
                </a:solidFill>
                <a:latin typeface="Arial"/>
              </a:rPr>
              <a:t>World Wide Web:anche conosciuto come Grande Rete Mondiale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95280" y="2895480"/>
            <a:ext cx="5029200" cy="3048120"/>
            <a:chOff x="1295280" y="2895480"/>
            <a:chExt cx="5029200" cy="3048120"/>
          </a:xfrm>
        </p:grpSpPr>
        <p:pic>
          <p:nvPicPr>
            <p:cNvPr id="256" name="Segnaposto contenuto 2" descr=""/>
            <p:cNvPicPr/>
            <p:nvPr/>
          </p:nvPicPr>
          <p:blipFill>
            <a:blip r:embed="rId1"/>
            <a:stretch/>
          </p:blipFill>
          <p:spPr>
            <a:xfrm>
              <a:off x="1295280" y="2895480"/>
              <a:ext cx="50292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 txBox="1"/>
            <p:nvPr/>
          </p:nvSpPr>
          <p:spPr>
            <a:xfrm>
              <a:off x="1295280" y="2895480"/>
              <a:ext cx="5029200" cy="304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182520" indent="-182520">
                <a:spcBef>
                  <a:spcPts val="601"/>
                </a:spcBef>
                <a:buClr>
                  <a:srgbClr val="93a299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391520" y="55627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ltri Servizi di Interne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EWSGROU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ELN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>
            <a:off x="6781680" y="5334120"/>
            <a:ext cx="1143000" cy="76176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e161eb"/>
                </a:solidFill>
                <a:latin typeface="바탕"/>
              </a:rPr>
              <a:t>Presentazione</a:t>
            </a:r>
            <a:endParaRPr b="0" lang="en-US" sz="8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el nostro laboratorio abbiamo 24 postazioni con dei computer di tipo Desktop con queste caratteristich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stema Operativo: Microsoft Window 200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PU: 2.40Ghz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emoria RAM: 490.992 K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ard disk da: 76,3 G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788000" y="4076640"/>
            <a:ext cx="4114800" cy="2371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a rete del laboratorio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Tutti i computer sono dotati di una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cheda di rete di tipo Ethernet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, alla cui porta è connesso un cavo Ethernet che arriva ad uno dei 2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witch 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presenti in laboratorio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I due switch sono collegati ad un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router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che consente l’accesso ad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Internet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I computer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quindi forman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una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rete loca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LAN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5715000" cy="26859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llegamento ad Interne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Ogni computer ha un proprio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indirizzo IP privato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;  il mio computer ha l’indirizzo IP 192.164.1.64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Il router interfacciato ad Internet ha un indirizzo IP fornito in modo dinamico dal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rovider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Telecom: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79.4.253.184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La linea di comunicazione utilizzata è di tipo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ADSL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757520" y="3789360"/>
            <a:ext cx="5238720" cy="2809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Il sito della scuola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837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La nostra scuola ha un proprio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ito Internet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, presente nel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WWW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.    L’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URL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è il seguente:</a:t>
            </a:r>
            <a:br>
              <a:rPr sz="2400"/>
            </a:b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http://www.iisgadda.it/wp2/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848720" cy="4876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DEFINIZIONI sottolineati dei termin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23640" y="159984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92934"/>
                </a:solidFill>
                <a:latin typeface="Arial"/>
              </a:rPr>
              <a:t>INDICE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- </a:t>
            </a:r>
            <a:r>
              <a:rPr b="0" lang="it-IT" sz="28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Le reti di computer (LAN, MAN,WAN,GAN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- Schede di rete, switch e route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- </a:t>
            </a:r>
            <a:r>
              <a:rPr b="0" lang="it-IT" sz="2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- Provider e linee di comunicazion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- Gli indirizzi IP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- Gli indirizzi dei siti (URL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- Il WWW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- Altri servizi di 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e reti di comput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Una rete è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A seconda della dimensione dell’area geografica in cui sono dislocati i PC, le reti possono essere classificate in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LAN 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6095880" y="54864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10800"/>
                </a:moveTo>
                <a:lnTo>
                  <a:pt x="26204" y="3794"/>
                </a:lnTo>
                <a:lnTo>
                  <a:pt x="26204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chede di rete</a:t>
            </a:r>
            <a:r>
              <a:rPr b="0" lang="it-IT" sz="4000" spc="-1" strike="noStrike">
                <a:solidFill>
                  <a:srgbClr val="d2533c"/>
                </a:solidFill>
                <a:latin typeface="Arial"/>
              </a:rPr>
              <a:t>, switch e rout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371600"/>
            <a:ext cx="9067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71360" indent="-1713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Si tratta di un dispositivo che permette al computer di colloquiare con la rete. Le schede di rete (NIC - Network Interface Card ) sono generalmente installate all'interno del PC. Sul retro del computer compare la parte terminale della scheda, dove si inserisce il cavo di rete. Portatili e notebook hanno schede di rete differenti (formato PCMCIA), ed occupano uno slot che si trova solitamente su uno dei lati. Esistono schede di rete Ethernet (10 Mbps) e Fast Ethernet (100 Mbps)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Dispositivo di comunicazione situato al livello data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link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(livello 2) dell'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OSI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Model che inoltra il traffico su una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LAN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basandosi sull'indirizzo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AC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. Al contrario del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Bridge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, che ha una sola porta, lo switch ne ha diverse e ognuna garantisce a ciacun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ost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collegato l'intera banda del mezzo trasmissiv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7924680" y="60958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10800"/>
                </a:moveTo>
                <a:lnTo>
                  <a:pt x="27055" y="3794"/>
                </a:lnTo>
                <a:lnTo>
                  <a:pt x="27055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4920" y="533520"/>
            <a:ext cx="67053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Nelle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eti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acket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-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switched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, come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Internet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, il router è uno strumento fisico, o in alcuni casi un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software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in un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ersonal computer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, che determina il successivo punto della rete a cui inoltrare il pacchetto di dati ricevuto. Il router quindi è colui che instrada il pacchetto di dati verso la destinazione finale. Un router, in generale, è connesso a due o piu’ reti e decide quale percorso far compiere ai dati basandosi su informazioni dello stato delle reti alle quali è collegato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3:46:59Z</dcterms:created>
  <dc:creator>Giugy &amp; Manu</dc:creator>
  <dc:description/>
  <dc:language>en-US</dc:language>
  <cp:lastModifiedBy>ospite</cp:lastModifiedBy>
  <dcterms:modified xsi:type="dcterms:W3CDTF">2012-04-04T11:15:41Z</dcterms:modified>
  <cp:revision>32</cp:revision>
  <dc:subject/>
  <dc:title>Il nostro laboratorio</dc:title>
</cp:coreProperties>
</file>