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550-D9AC-445D-B039-D3BDB811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172-AC74-49B9-8E77-7563958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86C-8E51-4720-9C46-FBD9C090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32F-51BD-4F39-B6A9-5ABF73B1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6A0-2AD9-4988-A92C-552060D6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2587-3535-4E9E-83C4-6290A10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B419-B540-43CD-B9E6-D150D75E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4B7F-4E7B-4F22-B0C0-B7B78247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725-4A2D-4528-AECD-2CC43B6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734-2CB1-4711-9028-B8B153BD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6174-4F55-4E81-BCED-5BD8298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5CB-35DD-422A-BB79-1E6E572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6472-E10D-4ACD-B6BD-7579F84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3AF-2484-4DAB-8FA4-57B8269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5EDD-1F87-404C-889F-5F7770F7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116-8B7B-443E-BA0A-E2B1B011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67F-0E4D-4F76-A10C-176AC42B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EB7-5E2C-444F-B61B-31C3585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F1F-3B23-4308-8AFA-67B76E1A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F26-A8B2-48B2-A3AD-501E3D0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91B-2E14-4CB1-ABF2-69DA6762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9AA-D34C-46A7-B82C-57F8BA0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155-C223-49C6-BC15-C0E20662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5A4-4220-4D2E-B66E-7FE89CE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ED9-9799-4B13-8004-DFB2F42215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0C7-4234-4999-8F50-5FF8B0F642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4836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92934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erve per collegare computer o reti di computer e offre l’accesso a internet, tipicamen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8360" y="3200400"/>
            <a:ext cx="536760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53452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073400"/>
            <a:ext cx="4716360" cy="2784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34520" y="380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PSTN: normale linea telefonica analogic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ISDN: linea digit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34"/>
                </a:solidFill>
                <a:latin typeface="Comic Sans MS"/>
              </a:rPr>
              <a:t>ADSL: linea digitale ad alta velocità attualmente utilizz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188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 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022640" cy="4221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188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3640" y="3170160"/>
            <a:ext cx="5616720" cy="368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610480" y="533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tteralmente: World Wide Web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Il servizio WWW comprende una immensa raccolta di informazioni ipertestuali e multimediali che possono essere esplorate con browser come Internet Explorer, Safari,…                                                                                                          Questi documenti ipermediali sono chiamate pagine e sono scritte con il linguaggio HTM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9" name="Text Placeholder 2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4680000" cy="299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05920" y="457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FTP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E-MAIL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HAT: Il File Transfer Protocol (FTP) (protocollo di trasferimento file), è un protocollo per la trasmissione di dati tra host basato su TC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VEDI PAGINA DOP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WSGROUP: Un newsgroup è uno degli spazi virtuali creato su una rete di server interconnessi (storicamente una sottorete di Internet USENIX network o più semplicemente Usenet) per discutere di un argomento (topic) ben determinato. In italiano a volte viene utilizzato il termine gruppo di discuss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ELNET: É un protocollo e un servizio di rete. Che vi permette di accedere a un computer remoto, al quale vi sono stati dati i permessi di accesso: con Telnet entrate nel computer con tutti i privilegi che l'amministratore del PC vi ha dato (quindi oltre a scaricare programmi potete anche installarli e utilizzarli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57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137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Telecom: 79.4.253.18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 linea di comunicazione utilizzata è di tip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Comic Sans MS"/>
              </a:rPr>
              <a:t>La nostra scuola ha un proprio sito Internet, presente nel WWW.    L’URL è il seguente: 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DEFINIZION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 algn="ctr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- Le reti di computer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Schede di rete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switch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Comic Sans MS"/>
              </a:rPr>
              <a:t>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6" action="ppaction://hlinksldjump"/>
              </a:rPr>
              <a:t>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7" action="ppaction://hlinksldjump"/>
              </a:rPr>
              <a:t>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8" action="ppaction://hlinksldjump"/>
              </a:rPr>
              <a:t>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it-IT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AN: local area network( di una stanza o più stan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AN: metropolitan area network(10 a 100k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WAN: wide area network ( 1000 a 5000 k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GAN: global area network ( mondial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610480" y="380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1484280"/>
            <a:ext cx="685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più utilizzata è la scheda eth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360" y="4000680"/>
            <a:ext cx="341964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458200" y="380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6e9"/>
            </a:gs>
            <a:gs pos="100000">
              <a:srgbClr val="25c8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erve per collegare computer o reti di comput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13388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8610480" y="380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11:31:39Z</dcterms:modified>
  <cp:revision>23</cp:revision>
  <dc:subject/>
  <dc:title>Il nostro laboratorio</dc:title>
</cp:coreProperties>
</file>