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19EF-D91C-4156-9CC8-B6C433C1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DD9-5456-4603-908A-22791577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06CD-97ED-475F-B12B-2B8624AA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A52-E6AE-433B-926B-991A23EE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8C0D-3FDC-4588-BB38-D8E4A8A7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B950-03A5-416B-AF99-47AD7850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A594-3876-4451-8D87-06A8D047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D3CC-EB5C-43D4-8896-DAE8B23E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B2E1-2CFA-465A-8114-1D670F9D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1433-0110-4CD5-B2D1-57D19525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3A1F-5D71-41A9-BFC9-134A9E0D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C34-E4C4-417F-ABB7-4119A459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A0EF-09EB-4926-A21F-89151799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EB3E-72F8-4E87-B011-18963E52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D2AF-723D-4292-AF91-6C4861C8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4D84-535E-4EA4-90D2-3AD33F67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ECD5-7779-4512-B143-DF29C1E2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EAB-3A2A-4278-94D3-15EFB66F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60BC-93E1-4E08-9608-2E5B2C4A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85C-F851-467F-99DD-52F8FE25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316-22D8-4A0E-83A9-D9C35A61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0E3-C4C7-4FEB-95D7-840B7F59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8DB-E288-4B1B-BAC9-8CD85CFD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7FB-5564-46D7-80CD-9FDE56F1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E011-A710-4FEE-ABBB-824A01D434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DD08-CBF5-485E-9C45-636B75CA40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848360" cy="192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92934"/>
                </a:solidFill>
                <a:latin typeface="Monotype Corsiva"/>
              </a:rPr>
              <a:t>IL NOSTRO LABORATORIO.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Di INFORMATICA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716360" y="3429000"/>
            <a:ext cx="42354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Router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 dispositivo elettronico che si occupa di instradare i dati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Serve per collegare computer o reti di computer e offre l’accesso a internet, tipicament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68360" y="3200400"/>
            <a:ext cx="5367600" cy="365760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534520" y="3049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Internet 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54764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a rete di computer mondiale ad accesso pubblico, attualmente rappresentante il principale mezzo di comunicazione di massa, e che offre all'utente tutta una vasta serie di possibili contenuti e servizi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4073400"/>
            <a:ext cx="4716360" cy="2784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34520" y="380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3794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Provider e linee di comunicazion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34"/>
                </a:solidFill>
                <a:latin typeface="Comic Sans MS"/>
              </a:rPr>
              <a:t>Un provider è in generale un'azienda o un'organizzazione che fornisce un servizio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34"/>
                </a:solidFill>
                <a:latin typeface="Comic Sans MS"/>
              </a:rPr>
              <a:t>Le linee di comunicazione sono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34"/>
                </a:solidFill>
                <a:latin typeface="Comic Sans MS"/>
              </a:rPr>
              <a:t>PSTN: normale linea telefonica analogic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34"/>
                </a:solidFill>
                <a:latin typeface="Comic Sans MS"/>
              </a:rPr>
              <a:t>ISDN: linea digita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34"/>
                </a:solidFill>
                <a:latin typeface="Comic Sans MS"/>
              </a:rPr>
              <a:t>ADSL: linea digitale ad alta velocità attualmente utilizza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276720" y="4419720"/>
            <a:ext cx="2152440" cy="2124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172200" y="4191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381880" y="380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Gli indirizzi IP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omic Sans MS"/>
              </a:rPr>
              <a:t>E’ un numero che identifica univocamente un dispositivo collegato a una ret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4022640" cy="4221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81880" y="380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Gli indirizzi dei siti (URL)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03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a sequenza di caratteri che identifica univocamente l‘indirizzo di una risorsa in Internet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63640" y="3170160"/>
            <a:ext cx="5616720" cy="3687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610480" y="5335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Il WWW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0360" indent="-1803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Letteralmente: World Wide Web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Il servizio WWW comprende una immensa raccolta di informazioni ipertestuali e multimediali che possono essere esplorate con browser come Internet Explorer, Safari,…                                                                                                          Questi documenti ipermediali sono chiamate pagine e sono scritte con il linguaggio HTM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39" name="Text Placeholder 2" descr=""/>
          <p:cNvPicPr/>
          <p:nvPr/>
        </p:nvPicPr>
        <p:blipFill>
          <a:blip r:embed="rId1"/>
          <a:stretch/>
        </p:blipFill>
        <p:spPr>
          <a:xfrm>
            <a:off x="1676520" y="3657600"/>
            <a:ext cx="4680000" cy="2992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305920" y="4572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Altri Servizi di Internet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FTP: Il File Transfer Protocol (FTP) (protocollo di trasferimento file), è un protocollo per la trasmissione di dati tra host basato su TC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E-MAIL: Il File Transfer Protocol (FTP) (protocollo di trasferimento file), è un protocollo per la trasmissione di dati tra host basato su TC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CHAT: Il File Transfer Protocol (FTP) (protocollo di trasferimento file), è un protocollo per la trasmissione di dati tra host basato su TC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VEDI PAGINA DOP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NEWSGROUP: Un newsgroup è uno degli spazi virtuali creato su una rete di server interconnessi (storicamente una sottorete di Internet USENIX network o più semplicemente Usenet) per discutere di un argomento (topic) ben determinato. In italiano a volte viene utilizzato il termine gruppo di discussion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TELNET: É un protocollo e un servizio di rete. Che vi permette di accedere a un computer remoto, al quale vi sono stati dati i permessi di accesso: con Telnet entrate nel computer con tutti i privilegi che l'amministratore del PC vi ha dato (quindi oltre a scaricare programmi potete anche installarli e utilizzarli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1880" y="457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Presentazion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Nel nostro laboratorio abbiamo 24 postazioni con dei computer di tipo Desktop con queste caratteristich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Sistema Operativo: Microsoft Windows 200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CPU: 2.40 GHz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Memoria RAM: 490.992 K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Hard disk da: 38.3 G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788000" y="4076640"/>
            <a:ext cx="41148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La rete del laboratorio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Tutti i computer sono dotati di una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scheda di rete di tipo Ethernet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, alla cui porta è connesso un cavo Ethernet che arriva ad uno dei 2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switch 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presenti in laboratorio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I due switch sono collegati ad un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router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 che consente l’accesso ad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Internet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I computer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quindi forman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   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una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rete loca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LAN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57150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Collegamento ad Internet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760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Ogni computer ha un proprio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indirizzo IP privato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;  il mio computer ha l’indirizzo IP 192.168.1.137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Il router interfacciato ad Internet ha un indirizzo IP fornito in modo dinamico dal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Provider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 Telecom: 79.4.253.184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a linea di comunicazione utilizzata è di tipo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ADSL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484360" y="4578480"/>
            <a:ext cx="42498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Il sito della scuola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Comic Sans MS"/>
              </a:rPr>
              <a:t>La nostra scuola ha un proprio sito Internet, presente nel WWW.    L’URL è il seguente: http://www.iisgadda.it/wp2/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DEFINIZIONI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3640" y="159984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6760" indent="-176760" algn="ctr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34"/>
                </a:solidFill>
                <a:latin typeface="Comic Sans MS"/>
              </a:rPr>
              <a:t>INDICE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1" action="ppaction://hlinksldjump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2" action="ppaction://hlinksldjump"/>
              </a:rPr>
              <a:t>- Le reti di computer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3" action="ppaction://hlinksldjump"/>
              </a:rPr>
              <a:t>Schede di rete</a:t>
            </a:r>
            <a:r>
              <a:rPr b="0" lang="en-US" sz="2800" spc="-1" strike="noStrike" u="sng">
                <a:solidFill>
                  <a:srgbClr val="292934"/>
                </a:solidFill>
                <a:uFillTx/>
                <a:latin typeface="Comic Sans MS"/>
              </a:rPr>
              <a:t>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4" action="ppaction://hlinksldjump"/>
              </a:rPr>
              <a:t>switch </a:t>
            </a:r>
            <a:r>
              <a:rPr b="0" lang="en-US" sz="2800" spc="-1" strike="noStrike" u="sng">
                <a:solidFill>
                  <a:srgbClr val="292934"/>
                </a:solidFill>
                <a:uFillTx/>
                <a:latin typeface="Comic Sans MS"/>
              </a:rPr>
              <a:t>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5" action="ppaction://hlinksldjump"/>
              </a:rPr>
              <a:t>route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6" action="ppaction://hlinksldjump"/>
              </a:rPr>
              <a:t>Interne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7" action="ppaction://hlinksldjump"/>
              </a:rPr>
              <a:t>Provider e linee di comunicazion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8" action="ppaction://hlinksldjump"/>
              </a:rPr>
              <a:t>Gli indirizzi IP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Gli indirizzi dei siti (URL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Il WWW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Altri servizi di Interne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Le reti di computer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Una rete è </a:t>
            </a:r>
            <a:r>
              <a:rPr b="0" i="1" lang="it-IT" sz="2400" spc="-1" strike="noStrike">
                <a:solidFill>
                  <a:srgbClr val="292934"/>
                </a:solidFill>
                <a:latin typeface="Arial"/>
              </a:rPr>
              <a:t>un insieme di dispositivi elettronici in grado di comunicare fra loro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A seconda della dimensione dell’area geografica in cui sono dislocati i PC, le reti possono essere classificate in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LAN: local area network( di una stanza o più stanze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MAN: metropolitan area network(10 a 100km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WAN: wide area network ( 1000 a 5000 km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GAN: global area network ( mondiale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8610480" y="3808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68360" y="1484280"/>
            <a:ext cx="685152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E’ a livello logico un‘interfaccia digitale, costituita a livello hardware da una scheda elettronica inserita solitamente all'interno di un Personal Computer, ecc., che svolge tutte le elaborazioni o funzioni necessarie a consentire la connessione dell'apparato informatico ad una rete informatica.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La più utilizzata è la scheda ethern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Schede di ret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4360" y="4000680"/>
            <a:ext cx="3419640" cy="285732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458200" y="380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Switch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 dispositivo di rete o nodo interno di rete che si occupa di commutazion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Serve per collegare computer o reti di computer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133880" cy="213372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8610480" y="380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3:46:59Z</dcterms:created>
  <dc:creator>Giugy &amp; Manu</dc:creator>
  <dc:description/>
  <dc:language>en-US</dc:language>
  <cp:lastModifiedBy>ospite</cp:lastModifiedBy>
  <dcterms:modified xsi:type="dcterms:W3CDTF">2012-04-04T11:31:39Z</dcterms:modified>
  <cp:revision>23</cp:revision>
  <dc:subject/>
  <dc:title>Il nostro laboratorio</dc:title>
</cp:coreProperties>
</file>