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5818-E662-4705-9790-56FBFB14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37D-6710-4496-AB45-991D9037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B4D0-AE7D-4420-95EE-B99AAA45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3C4-55EB-4B1C-87CD-72A856E2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379D-DE32-4B23-A543-1D65DDEF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A87C-0488-4182-A96B-224837DE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45F0-FDA3-43A5-8E10-929F1802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F274-EED7-4F42-9A1B-A7736259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032B-174B-4679-A76A-743D6993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DADF-C716-4547-96DA-DBF3933D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B056-5F9A-4C0E-895E-FD283197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253-FA87-4446-9522-4805DED5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5E86-996A-449C-BBD8-B7DD5B92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2270-E66F-4201-A27A-0265E04C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9DB0-FFB5-40F7-A0D5-1FB30901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6F4C-32D5-4ADB-BD97-841E44AC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0BE9-46FE-443E-8E28-16B7C877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66BA8-82C3-43DC-816F-0D5DBCCF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4E48-AB4D-4434-A2EF-E0B57757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43AC1-26A3-4CDC-9C55-3E791BAF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83F0A-FD20-458F-8E70-DD407936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51E69-F2CD-4BD6-AFDC-E87AB27A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0A82-D8E0-4B74-A6A6-FFEC4170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FBC4F-7220-4C0D-A01A-CF7CDEBF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4037D-2836-4B10-9808-91002F38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9FB6D-8C07-47E0-979D-C34BE3CE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7CD68-1C56-4EA4-8589-35BD31A7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17229-873B-47CF-B7AA-F808DA53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F28AA-456E-4B7D-9F02-3EC8493A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EE580-5E84-4FE2-AC6D-3959DE39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0083C-D39E-41D1-8B34-C9691F83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1CD2C-1D88-4C78-A655-D9AD6AD2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67D70-B58D-4B96-BF64-4934569E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37A-748B-4F4C-B496-D3A22A9B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86E19-9FB9-4127-9141-2BEBBEE3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47DD8-34E0-4770-B062-C602CE37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0EE00-83EE-4E51-A6D2-8FFA8041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9F25F-8FF5-4C4D-8D4B-12DC09B4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D8024-79F9-45B6-8A11-B57DFF22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CF381-5448-402D-BBD7-F0E95CD3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70AB1-6DA5-4D75-B780-AE906F69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07CD0-6111-45F7-9714-E527400C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C3B59-A061-4B8E-B713-EEE9FD6A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0976F-5A47-40E3-9F5D-E630E358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CD9-8113-4D76-B2CE-153EE733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C05CB-9D45-48EE-9BB0-B56FC59C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27B32-FF72-4F92-A4BA-9B762532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9C4D8-7956-4ADC-AC1C-B7E9A03E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F0C64-1A95-45AD-8016-29D84221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7B439-53F0-4541-9B60-D011619F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1AD6F-EC5B-4D82-ABD7-EEF77BEC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7B961-EB53-4A5B-AC4A-7E3EC4D9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1FC28-5B36-494E-B286-843D9BE7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97B0B-F84B-4289-BBCC-D66906EF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80FD1-5A22-47C1-874D-37F21F5A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C45-9E9D-4A90-B814-7C88A09A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8A5EB-CEE4-4955-9547-3EA40F0F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0623-10A0-4F41-972F-9CC36A1F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FB03-9B01-4BA0-A0C8-71E171C4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C228-BD3A-4C26-A554-AF3B6EC7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B488-989F-488D-AAE6-0A1CBDDCDA2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ACD5-7D3F-418C-B087-62968A9496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643D-6870-4E8E-959B-11D0CA83CF2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1C1E-F65E-4C7C-9D84-4F3BAD4799A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FDE1-DF82-4964-A6F2-35859C1BE0F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72779"/>
                </a:solidFill>
                <a:latin typeface="Monotype Corsiva"/>
              </a:rPr>
              <a:t>IL NOSTRO LABORATORIO.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4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Di INFORMATICA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4716360" y="3429000"/>
            <a:ext cx="42354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                     </a:t>
            </a: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Switch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 dispositivo di rete o nodo interno di rete che si occupa di commutazion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627280" y="2610000"/>
            <a:ext cx="4133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                     </a:t>
            </a: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Router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 dispositivo elettronico che si occupa di instradare i dati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68360" y="3200400"/>
            <a:ext cx="536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     </a:t>
            </a: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Internet 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54764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a rete di computer mondiale ad accesso pubblico, attualmente rappresentante il principale mezzo di comunicazione di massa, e che offre all'utente tutta una vasta serie di possibili contenuti e servizi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4073400"/>
            <a:ext cx="471636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Provider e linee di comunicazione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Un provider è in generale un'azienda o un'organizzazione che fornisce un servizio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Le linee di comunicazione sono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PST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ISD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ADS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</a:t>
            </a: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Gli indirizzi IP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47636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omic Sans MS"/>
              </a:rPr>
              <a:t>E’ un numero che identifica univocamente un dispositivo collegato a una ret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402264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</a:t>
            </a: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Gli indirizzi dei siti (URL)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40328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a sequenza di caratteri che identifica univocamente l‘indirizzo di una risorsa in Internet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763640" y="3170160"/>
            <a:ext cx="561672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    </a:t>
            </a: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Il WWW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60" name="Text Placeholder 2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468000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Altri Servizi di Internet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FTP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-MAI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CH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NEWSGROUP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TELNE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Presentazione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Nel nostro laboratorio abbiamo 24 postazioni con dei computer di tipo Desktop con queste caratteristich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Sistema Operativo: Microsoft Windows 200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CPU: 2.40 GHz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Memoria RAM: 490.992 K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Hard disk da: 38.3 G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788000" y="4076640"/>
            <a:ext cx="41148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La rete del laboratorio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Tutti i computer sono dotati di una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scheda di rete di tipo Ethernet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, alla cui porta è connesso un cavo Ethernet che arriva ad uno dei 2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switch 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presenti in laboratorio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I due switch sono collegati ad un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router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 che consente l’accesso ad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Internet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I computer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quindi formano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   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una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rete loca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LAN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57150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Collegamento ad Internet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760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Ogni computer ha un proprio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indirizzo IP privato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;  il mio computer ha l’indirizzo IP ………………………………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Il router interfacciato ad Internet ha un indirizzo IP fornito in modo dinamico dal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Provider</a:t>
            </a: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 Telecom:…………………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292934"/>
                </a:solidFill>
                <a:latin typeface="Comic Sans MS"/>
              </a:rPr>
              <a:t>La linea di comunicazione utilizzata è di tipo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ADSL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484360" y="4578480"/>
            <a:ext cx="42498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Il sito della scuola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La nostra scuola ha un proprio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ito Internet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, presente nel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WWW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.    L’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URL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 è il seguent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http://www.istsuperiore-lissone.net/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1311120" y="3068640"/>
            <a:ext cx="67042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DEFINIZIONI dei termini sottolineati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23640" y="159984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34"/>
                </a:solidFill>
                <a:latin typeface="Comic Sans MS"/>
              </a:rPr>
              <a:t>INDICE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Le reti di computer (LAN, MAN,WAN,GAN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Schede di rete, switch e route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Interne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Provider e linee di comunicazion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Gli indirizzi IP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Gli indirizzi dei siti (URL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Il WWW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- Altri servizi di Interne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Le reti di computer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Una rete è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un insieme di dispositivi elettronici in grado di comunicare fra loro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A seconda della dimensione dell’area geografica in cui sono dislocati i PC, le reti possono essere classificate in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LA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MA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WA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WLA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939636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72779"/>
                </a:solidFill>
                <a:latin typeface="Monotype Corsiva"/>
              </a:rPr>
              <a:t>                       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Monotype Corsiva"/>
                <a:hlinkClick r:id="rId1" action="ppaction://hlinksldjump"/>
              </a:rPr>
              <a:t>Schede di rete,</a:t>
            </a:r>
            <a:br>
              <a:rPr sz="4400"/>
            </a:br>
            <a:r>
              <a:rPr b="0" lang="en-US" sz="4400" spc="-1" strike="noStrike" u="sng">
                <a:solidFill>
                  <a:srgbClr val="e72779"/>
                </a:solidFill>
                <a:uFillTx/>
                <a:latin typeface="Monotype Corsiva"/>
              </a:rPr>
              <a:t> </a:t>
            </a:r>
            <a:br>
              <a:rPr sz="4400"/>
            </a:br>
            <a:r>
              <a:rPr b="0" lang="en-US" sz="4400" spc="-1" strike="noStrike" u="sng">
                <a:solidFill>
                  <a:srgbClr val="e72779"/>
                </a:solidFill>
                <a:uFillTx/>
                <a:latin typeface="Monotype Corsiva"/>
              </a:rPr>
              <a:t>                       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Monotype Corsiva"/>
                <a:hlinkClick r:id="rId2" action="ppaction://hlinksldjump"/>
              </a:rPr>
              <a:t>switch,_x000b_</a:t>
            </a:r>
            <a:br>
              <a:rPr sz="4400"/>
            </a:br>
            <a:r>
              <a:rPr b="0" lang="en-US" sz="4400" spc="-1" strike="noStrike" u="sng">
                <a:solidFill>
                  <a:srgbClr val="e72779"/>
                </a:solidFill>
                <a:uFillTx/>
                <a:latin typeface="Monotype Corsiva"/>
              </a:rPr>
              <a:t>                       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Monotype Corsiva"/>
                <a:hlinkClick r:id="rId3" action="ppaction://hlinksldjump"/>
              </a:rPr>
              <a:t>router. 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68360" y="1484280"/>
            <a:ext cx="685152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a livello logico un‘interfaccia digitale, costituita a livello hardware da una scheda elettronica inserita solitamente all'interno di un Personal Computer, ecc., che svolge tutte le elaborazioni o funzioni necessarie a consentire la connessione dell'apparato informatico ad una rete informatica.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       </a:t>
            </a: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Schede di rete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724360" y="4000680"/>
            <a:ext cx="34196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3:46:59Z</dcterms:created>
  <dc:creator>Giugy &amp; Manu</dc:creator>
  <dc:description/>
  <dc:language>en-US</dc:language>
  <cp:lastModifiedBy>ospite</cp:lastModifiedBy>
  <dcterms:modified xsi:type="dcterms:W3CDTF">2012-03-21T12:45:54Z</dcterms:modified>
  <cp:revision>15</cp:revision>
  <dc:subject/>
  <dc:title>Il nostro laboratorio</dc:title>
</cp:coreProperties>
</file>