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62D-ECF7-4DE8-9BCA-3302C67F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310-06F8-4984-9A72-E56A246F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1BC-E2FE-4C3B-835E-085563A3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F73-7EA2-4745-BC13-BF5F55D4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D37A-0550-4D53-8D6C-018A340B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95CF-8A95-4618-86FB-241AF584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0C58-391C-4843-91AC-3F7D4140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A314-66EA-41DC-9A83-E95EE1E4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0806-810B-4803-82B9-051C0578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F4AB-75FB-4776-85A0-2489FCF9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9327-A3A4-4F38-AE50-9D45C803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FAD-C561-43B2-BBFB-FF2F69A0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66D8-7729-4474-9E8E-F059834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6698-4786-40F9-B2EE-D4DF2A51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89B1-C358-4615-86DC-D4E6A83C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4BFE-46FC-40FE-8096-46303816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EDC7-509F-4675-BED7-E92044B0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BBA-B7B3-4B34-8087-50752A94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851-1ABB-4871-9CFE-0CE233AA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5EE-EB34-4E41-8886-62012A48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66E-B225-47B4-98DF-1487DA3B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53E-0CA3-46E9-B4C7-F7F37B33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FA0-F196-4EE6-9620-67776B76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AAA-1186-4B8E-B71D-EE796687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09F86A-DDFD-44BC-B1AA-5C8F58A9D2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Garamond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8AD2650-C8B7-437D-AEB3-E4AB22EB6AD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5920" y="26028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Sostanza pur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557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termine </a:t>
            </a:r>
            <a:r>
              <a:rPr b="0" lang="it-IT" sz="2400" spc="-1" strike="noStrike">
                <a:solidFill>
                  <a:srgbClr val="006633"/>
                </a:solidFill>
                <a:latin typeface="Verdana"/>
              </a:rPr>
              <a:t>sostanza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ica il tipo di materia di cui è fatto un cor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879640"/>
            <a:ext cx="7920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rpi formati da un 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</a:rPr>
              <a:t>unico tipo di mater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sono costituiti da </a:t>
            </a:r>
            <a:r>
              <a:rPr b="0" lang="it-IT" sz="2400" spc="-1" strike="noStrike">
                <a:solidFill>
                  <a:srgbClr val="ff33cc"/>
                </a:solidFill>
                <a:latin typeface="Verdana"/>
              </a:rPr>
              <a:t>sostanze pu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11336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a sostanza pura ha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composizione definit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cost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si riconosce per le sue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proprietà fisich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chimich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he sono definite e costan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071960" y="2060640"/>
            <a:ext cx="936720" cy="2872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4680" y="3860640"/>
            <a:ext cx="1440" cy="13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372280" y="3568680"/>
            <a:ext cx="282240" cy="585720"/>
          </a:xfrm>
          <a:custGeom>
            <a:avLst/>
            <a:gdLst>
              <a:gd name="textAreaLeft" fmla="*/ 141120 w 282240"/>
              <a:gd name="textAreaRight" fmla="*/ 282240 w 282240"/>
              <a:gd name="textAreaTop" fmla="*/ 59400 h 585720"/>
              <a:gd name="textAreaBottom" fmla="*/ 292680 h 585720"/>
            </a:gdLst>
            <a:ahLst/>
            <a:rect l="textAreaLeft" t="textAreaTop" r="textAreaRight" b="textAreaBottom"/>
            <a:pathLst>
              <a:path stroke="0" w="21600" h="21600">
                <a:moveTo>
                  <a:pt x="17209" y="2107"/>
                </a:moveTo>
                <a:arcTo wR="10800" hR="10800" stAng="-3215895" swAng="3215895"/>
                <a:lnTo>
                  <a:pt x="10800" y="10800"/>
                </a:lnTo>
                <a:close/>
              </a:path>
              <a:path fill="none" w="21600" h="21600">
                <a:moveTo>
                  <a:pt x="17209" y="2107"/>
                </a:moveTo>
                <a:arcTo wR="10800" hR="10800" stAng="-3215895" swAng="321589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38520" y="3645000"/>
            <a:ext cx="146160" cy="403200"/>
          </a:xfrm>
          <a:custGeom>
            <a:avLst/>
            <a:gdLst>
              <a:gd name="textAreaLeft" fmla="*/ 73080 w 146160"/>
              <a:gd name="textAreaRight" fmla="*/ 146160 w 146160"/>
              <a:gd name="textAreaTop" fmla="*/ 0 h 403200"/>
              <a:gd name="textAreaBottom" fmla="*/ 212760 h 4032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5952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952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69040" y="3860640"/>
            <a:ext cx="1440" cy="13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10160" y="3286080"/>
            <a:ext cx="17301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55960" y="2060640"/>
            <a:ext cx="649440" cy="79200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76680" y="2058840"/>
            <a:ext cx="647640" cy="79560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29040" y="1773360"/>
            <a:ext cx="1224000" cy="50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538520" y="2103480"/>
            <a:ext cx="587520" cy="75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09880" y="1054080"/>
            <a:ext cx="1532160" cy="1295280"/>
          </a:xfrm>
          <a:custGeom>
            <a:avLst/>
            <a:gdLst>
              <a:gd name="textAreaLeft" fmla="*/ 766080 w 1532160"/>
              <a:gd name="textAreaRight" fmla="*/ 1414080 w 1532160"/>
              <a:gd name="textAreaTop" fmla="*/ 360 h 1295280"/>
              <a:gd name="textAreaBottom" fmla="*/ 648000 h 12952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34389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3899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8840000">
            <a:off x="4494600" y="2709720"/>
            <a:ext cx="90360" cy="93600"/>
          </a:xfrm>
          <a:prstGeom prst="rtTriangl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9040" y="2060640"/>
            <a:ext cx="57636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 rot="16200000">
            <a:off x="3998880" y="2422440"/>
            <a:ext cx="71280" cy="1224000"/>
          </a:xfrm>
          <a:prstGeom prst="can">
            <a:avLst>
              <a:gd name="adj" fmla="val 2736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3280320" y="2962440"/>
            <a:ext cx="295560" cy="138240"/>
          </a:xfrm>
          <a:custGeom>
            <a:avLst/>
            <a:gdLst>
              <a:gd name="textAreaLeft" fmla="*/ 64800 w 295560"/>
              <a:gd name="textAreaRight" fmla="*/ 230760 w 295560"/>
              <a:gd name="textAreaTop" fmla="*/ 30240 h 138240"/>
              <a:gd name="textAreaBottom" fmla="*/ 108000 h 13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567240" y="5445000"/>
            <a:ext cx="2089080" cy="21600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568680" y="1341360"/>
            <a:ext cx="77760" cy="3960720"/>
          </a:xfrm>
          <a:prstGeom prst="can">
            <a:avLst>
              <a:gd name="adj" fmla="val 2736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18000" y="2803680"/>
            <a:ext cx="42840" cy="1439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84680" y="4294080"/>
            <a:ext cx="1584360" cy="1224000"/>
          </a:xfrm>
          <a:prstGeom prst="can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05400" y="2852640"/>
            <a:ext cx="1440" cy="144144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3600" y="4294080"/>
            <a:ext cx="73080" cy="7308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6680" y="2852640"/>
            <a:ext cx="1800" cy="151308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32320" y="2925720"/>
            <a:ext cx="216000" cy="216000"/>
          </a:xfrm>
          <a:prstGeom prst="can">
            <a:avLst>
              <a:gd name="adj" fmla="val 25000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18000" y="2781360"/>
            <a:ext cx="42840" cy="179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5400" y="2852640"/>
            <a:ext cx="1440" cy="11592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6680" y="2852640"/>
            <a:ext cx="1800" cy="11592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97400" y="2925720"/>
            <a:ext cx="215640" cy="216000"/>
          </a:xfrm>
          <a:prstGeom prst="can">
            <a:avLst>
              <a:gd name="adj" fmla="val 25000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68680" y="2662200"/>
            <a:ext cx="73080" cy="287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39960" y="2637000"/>
            <a:ext cx="18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9720" y="3860640"/>
            <a:ext cx="1440" cy="13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493360" y="3641760"/>
            <a:ext cx="282600" cy="585720"/>
          </a:xfrm>
          <a:custGeom>
            <a:avLst/>
            <a:gdLst>
              <a:gd name="textAreaLeft" fmla="*/ 141120 w 282600"/>
              <a:gd name="textAreaRight" fmla="*/ 282600 w 282600"/>
              <a:gd name="textAreaTop" fmla="*/ 59400 h 585720"/>
              <a:gd name="textAreaBottom" fmla="*/ 292680 h 585720"/>
            </a:gdLst>
            <a:ahLst/>
            <a:rect l="textAreaLeft" t="textAreaTop" r="textAreaRight" b="textAreaBottom"/>
            <a:pathLst>
              <a:path stroke="0" w="21600" h="21600">
                <a:moveTo>
                  <a:pt x="17209" y="2107"/>
                </a:moveTo>
                <a:arcTo wR="10800" hR="10800" stAng="-3215895" swAng="3215895"/>
                <a:lnTo>
                  <a:pt x="10800" y="10800"/>
                </a:lnTo>
                <a:close/>
              </a:path>
              <a:path fill="none" w="21600" h="21600">
                <a:moveTo>
                  <a:pt x="17209" y="2107"/>
                </a:moveTo>
                <a:arcTo wR="10800" hR="10800" stAng="-3215895" swAng="321589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6800" y="3645000"/>
            <a:ext cx="146160" cy="403200"/>
          </a:xfrm>
          <a:custGeom>
            <a:avLst/>
            <a:gdLst>
              <a:gd name="textAreaLeft" fmla="*/ 73080 w 146160"/>
              <a:gd name="textAreaRight" fmla="*/ 146160 w 146160"/>
              <a:gd name="textAreaTop" fmla="*/ 0 h 403200"/>
              <a:gd name="textAreaBottom" fmla="*/ 212760 h 4032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5952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952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3286080"/>
            <a:ext cx="173052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2960" y="4294080"/>
            <a:ext cx="1584000" cy="1224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96960" y="3860640"/>
            <a:ext cx="1800" cy="13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5014800"/>
            <a:ext cx="1522440" cy="430200"/>
          </a:xfrm>
          <a:custGeom>
            <a:avLst/>
            <a:gdLst/>
            <a:ahLst/>
            <a:rect l="l" t="t" r="r" b="b"/>
            <a:pathLst>
              <a:path w="982" h="218">
                <a:moveTo>
                  <a:pt x="0" y="70"/>
                </a:moveTo>
                <a:cubicBezTo>
                  <a:pt x="7" y="24"/>
                  <a:pt x="10" y="28"/>
                  <a:pt x="56" y="22"/>
                </a:cubicBezTo>
                <a:cubicBezTo>
                  <a:pt x="93" y="10"/>
                  <a:pt x="72" y="15"/>
                  <a:pt x="120" y="10"/>
                </a:cubicBezTo>
                <a:cubicBezTo>
                  <a:pt x="147" y="1"/>
                  <a:pt x="132" y="26"/>
                  <a:pt x="156" y="34"/>
                </a:cubicBezTo>
                <a:cubicBezTo>
                  <a:pt x="186" y="30"/>
                  <a:pt x="195" y="18"/>
                  <a:pt x="220" y="10"/>
                </a:cubicBezTo>
                <a:cubicBezTo>
                  <a:pt x="246" y="27"/>
                  <a:pt x="249" y="26"/>
                  <a:pt x="284" y="22"/>
                </a:cubicBezTo>
                <a:cubicBezTo>
                  <a:pt x="288" y="19"/>
                  <a:pt x="291" y="13"/>
                  <a:pt x="296" y="14"/>
                </a:cubicBezTo>
                <a:cubicBezTo>
                  <a:pt x="305" y="16"/>
                  <a:pt x="320" y="30"/>
                  <a:pt x="320" y="30"/>
                </a:cubicBezTo>
                <a:cubicBezTo>
                  <a:pt x="352" y="19"/>
                  <a:pt x="336" y="21"/>
                  <a:pt x="368" y="26"/>
                </a:cubicBezTo>
                <a:cubicBezTo>
                  <a:pt x="374" y="45"/>
                  <a:pt x="382" y="43"/>
                  <a:pt x="400" y="38"/>
                </a:cubicBezTo>
                <a:cubicBezTo>
                  <a:pt x="414" y="17"/>
                  <a:pt x="422" y="22"/>
                  <a:pt x="448" y="26"/>
                </a:cubicBezTo>
                <a:cubicBezTo>
                  <a:pt x="479" y="47"/>
                  <a:pt x="472" y="24"/>
                  <a:pt x="492" y="18"/>
                </a:cubicBezTo>
                <a:cubicBezTo>
                  <a:pt x="506" y="14"/>
                  <a:pt x="521" y="15"/>
                  <a:pt x="536" y="14"/>
                </a:cubicBezTo>
                <a:cubicBezTo>
                  <a:pt x="556" y="7"/>
                  <a:pt x="583" y="12"/>
                  <a:pt x="604" y="10"/>
                </a:cubicBezTo>
                <a:cubicBezTo>
                  <a:pt x="634" y="0"/>
                  <a:pt x="722" y="13"/>
                  <a:pt x="740" y="14"/>
                </a:cubicBezTo>
                <a:cubicBezTo>
                  <a:pt x="744" y="17"/>
                  <a:pt x="747" y="22"/>
                  <a:pt x="752" y="22"/>
                </a:cubicBezTo>
                <a:cubicBezTo>
                  <a:pt x="757" y="22"/>
                  <a:pt x="759" y="13"/>
                  <a:pt x="764" y="14"/>
                </a:cubicBezTo>
                <a:cubicBezTo>
                  <a:pt x="768" y="15"/>
                  <a:pt x="765" y="23"/>
                  <a:pt x="768" y="26"/>
                </a:cubicBezTo>
                <a:cubicBezTo>
                  <a:pt x="771" y="30"/>
                  <a:pt x="776" y="31"/>
                  <a:pt x="780" y="34"/>
                </a:cubicBezTo>
                <a:cubicBezTo>
                  <a:pt x="821" y="27"/>
                  <a:pt x="792" y="28"/>
                  <a:pt x="820" y="10"/>
                </a:cubicBezTo>
                <a:cubicBezTo>
                  <a:pt x="843" y="25"/>
                  <a:pt x="854" y="23"/>
                  <a:pt x="884" y="26"/>
                </a:cubicBezTo>
                <a:cubicBezTo>
                  <a:pt x="906" y="33"/>
                  <a:pt x="929" y="35"/>
                  <a:pt x="952" y="38"/>
                </a:cubicBezTo>
                <a:cubicBezTo>
                  <a:pt x="982" y="128"/>
                  <a:pt x="933" y="118"/>
                  <a:pt x="868" y="122"/>
                </a:cubicBezTo>
                <a:cubicBezTo>
                  <a:pt x="847" y="136"/>
                  <a:pt x="831" y="175"/>
                  <a:pt x="800" y="178"/>
                </a:cubicBezTo>
                <a:cubicBezTo>
                  <a:pt x="759" y="182"/>
                  <a:pt x="717" y="181"/>
                  <a:pt x="676" y="182"/>
                </a:cubicBezTo>
                <a:cubicBezTo>
                  <a:pt x="646" y="192"/>
                  <a:pt x="616" y="192"/>
                  <a:pt x="584" y="194"/>
                </a:cubicBezTo>
                <a:cubicBezTo>
                  <a:pt x="575" y="197"/>
                  <a:pt x="565" y="198"/>
                  <a:pt x="556" y="202"/>
                </a:cubicBezTo>
                <a:cubicBezTo>
                  <a:pt x="547" y="206"/>
                  <a:pt x="532" y="218"/>
                  <a:pt x="532" y="218"/>
                </a:cubicBezTo>
                <a:cubicBezTo>
                  <a:pt x="440" y="217"/>
                  <a:pt x="348" y="217"/>
                  <a:pt x="256" y="214"/>
                </a:cubicBezTo>
                <a:cubicBezTo>
                  <a:pt x="215" y="213"/>
                  <a:pt x="287" y="203"/>
                  <a:pt x="236" y="186"/>
                </a:cubicBezTo>
                <a:cubicBezTo>
                  <a:pt x="208" y="177"/>
                  <a:pt x="228" y="182"/>
                  <a:pt x="172" y="178"/>
                </a:cubicBezTo>
                <a:cubicBezTo>
                  <a:pt x="164" y="175"/>
                  <a:pt x="154" y="176"/>
                  <a:pt x="148" y="170"/>
                </a:cubicBezTo>
                <a:cubicBezTo>
                  <a:pt x="144" y="166"/>
                  <a:pt x="141" y="160"/>
                  <a:pt x="136" y="158"/>
                </a:cubicBezTo>
                <a:cubicBezTo>
                  <a:pt x="122" y="152"/>
                  <a:pt x="107" y="153"/>
                  <a:pt x="92" y="150"/>
                </a:cubicBezTo>
                <a:cubicBezTo>
                  <a:pt x="75" y="139"/>
                  <a:pt x="64" y="125"/>
                  <a:pt x="44" y="118"/>
                </a:cubicBezTo>
                <a:cubicBezTo>
                  <a:pt x="32" y="100"/>
                  <a:pt x="10" y="89"/>
                  <a:pt x="0" y="70"/>
                </a:cubicBez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76920" y="3933720"/>
            <a:ext cx="180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05640" y="3359160"/>
            <a:ext cx="17301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80160" y="4367160"/>
            <a:ext cx="1584360" cy="1224000"/>
          </a:xfrm>
          <a:prstGeom prst="can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1280" y="3933720"/>
            <a:ext cx="180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257320" y="3659040"/>
            <a:ext cx="282600" cy="586080"/>
          </a:xfrm>
          <a:custGeom>
            <a:avLst/>
            <a:gdLst>
              <a:gd name="textAreaLeft" fmla="*/ 141120 w 282600"/>
              <a:gd name="textAreaRight" fmla="*/ 282600 w 282600"/>
              <a:gd name="textAreaTop" fmla="*/ 59400 h 586080"/>
              <a:gd name="textAreaBottom" fmla="*/ 293040 h 586080"/>
            </a:gdLst>
            <a:ahLst/>
            <a:rect l="textAreaLeft" t="textAreaTop" r="textAreaRight" b="textAreaBottom"/>
            <a:pathLst>
              <a:path stroke="0" w="21600" h="21600">
                <a:moveTo>
                  <a:pt x="17209" y="2107"/>
                </a:moveTo>
                <a:arcTo wR="10800" hR="10800" stAng="-3215895" swAng="3215895"/>
                <a:lnTo>
                  <a:pt x="10800" y="10800"/>
                </a:lnTo>
                <a:close/>
              </a:path>
              <a:path fill="none" w="21600" h="21600">
                <a:moveTo>
                  <a:pt x="17209" y="2107"/>
                </a:moveTo>
                <a:arcTo wR="10800" hR="10800" stAng="-3215895" swAng="321589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24640" y="3735360"/>
            <a:ext cx="146160" cy="403200"/>
          </a:xfrm>
          <a:custGeom>
            <a:avLst/>
            <a:gdLst>
              <a:gd name="textAreaLeft" fmla="*/ 73080 w 146160"/>
              <a:gd name="textAreaRight" fmla="*/ 146160 w 146160"/>
              <a:gd name="textAreaTop" fmla="*/ 0 h 403200"/>
              <a:gd name="textAreaBottom" fmla="*/ 212760 h 4032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5952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952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680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spen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00720" y="2701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iquido  fil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Filtrazion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"/>
          <p:cNvSpPr/>
          <p:nvPr/>
        </p:nvSpPr>
        <p:spPr>
          <a:xfrm>
            <a:off x="2638440" y="4365720"/>
            <a:ext cx="833400" cy="485640"/>
          </a:xfrm>
          <a:prstGeom prst="rightArrow">
            <a:avLst>
              <a:gd name="adj1" fmla="val 50000"/>
              <a:gd name="adj2" fmla="val 42902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21400" y="4365720"/>
            <a:ext cx="833400" cy="485640"/>
          </a:xfrm>
          <a:prstGeom prst="rightArrow">
            <a:avLst>
              <a:gd name="adj1" fmla="val 50000"/>
              <a:gd name="adj2" fmla="val 42902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5960" y="1773360"/>
            <a:ext cx="1368360" cy="50472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575160" y="2491920"/>
            <a:ext cx="144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07040" y="2509920"/>
            <a:ext cx="468000" cy="236520"/>
          </a:xfrm>
          <a:custGeom>
            <a:avLst/>
            <a:gdLst/>
            <a:ahLst/>
            <a:rect l="l" t="t" r="r" b="b"/>
            <a:pathLst>
              <a:path w="295" h="149">
                <a:moveTo>
                  <a:pt x="22" y="28"/>
                </a:moveTo>
                <a:cubicBezTo>
                  <a:pt x="35" y="31"/>
                  <a:pt x="42" y="30"/>
                  <a:pt x="46" y="43"/>
                </a:cubicBezTo>
                <a:cubicBezTo>
                  <a:pt x="50" y="84"/>
                  <a:pt x="47" y="85"/>
                  <a:pt x="82" y="97"/>
                </a:cubicBezTo>
                <a:cubicBezTo>
                  <a:pt x="87" y="124"/>
                  <a:pt x="90" y="126"/>
                  <a:pt x="118" y="130"/>
                </a:cubicBezTo>
                <a:cubicBezTo>
                  <a:pt x="122" y="148"/>
                  <a:pt x="129" y="143"/>
                  <a:pt x="145" y="148"/>
                </a:cubicBezTo>
                <a:cubicBezTo>
                  <a:pt x="163" y="147"/>
                  <a:pt x="181" y="149"/>
                  <a:pt x="199" y="145"/>
                </a:cubicBezTo>
                <a:cubicBezTo>
                  <a:pt x="206" y="144"/>
                  <a:pt x="201" y="130"/>
                  <a:pt x="205" y="124"/>
                </a:cubicBezTo>
                <a:cubicBezTo>
                  <a:pt x="208" y="119"/>
                  <a:pt x="218" y="117"/>
                  <a:pt x="223" y="115"/>
                </a:cubicBezTo>
                <a:cubicBezTo>
                  <a:pt x="227" y="103"/>
                  <a:pt x="226" y="90"/>
                  <a:pt x="232" y="79"/>
                </a:cubicBezTo>
                <a:cubicBezTo>
                  <a:pt x="236" y="70"/>
                  <a:pt x="259" y="67"/>
                  <a:pt x="259" y="67"/>
                </a:cubicBezTo>
                <a:cubicBezTo>
                  <a:pt x="268" y="40"/>
                  <a:pt x="257" y="41"/>
                  <a:pt x="286" y="34"/>
                </a:cubicBezTo>
                <a:cubicBezTo>
                  <a:pt x="295" y="20"/>
                  <a:pt x="294" y="10"/>
                  <a:pt x="280" y="1"/>
                </a:cubicBezTo>
                <a:cubicBezTo>
                  <a:pt x="263" y="2"/>
                  <a:pt x="246" y="0"/>
                  <a:pt x="229" y="4"/>
                </a:cubicBezTo>
                <a:cubicBezTo>
                  <a:pt x="225" y="5"/>
                  <a:pt x="226" y="10"/>
                  <a:pt x="223" y="13"/>
                </a:cubicBezTo>
                <a:cubicBezTo>
                  <a:pt x="220" y="16"/>
                  <a:pt x="218" y="18"/>
                  <a:pt x="214" y="19"/>
                </a:cubicBezTo>
                <a:cubicBezTo>
                  <a:pt x="199" y="21"/>
                  <a:pt x="184" y="21"/>
                  <a:pt x="169" y="22"/>
                </a:cubicBezTo>
                <a:cubicBezTo>
                  <a:pt x="163" y="24"/>
                  <a:pt x="157" y="28"/>
                  <a:pt x="151" y="22"/>
                </a:cubicBezTo>
                <a:cubicBezTo>
                  <a:pt x="146" y="17"/>
                  <a:pt x="139" y="4"/>
                  <a:pt x="139" y="4"/>
                </a:cubicBezTo>
                <a:cubicBezTo>
                  <a:pt x="99" y="5"/>
                  <a:pt x="59" y="1"/>
                  <a:pt x="19" y="7"/>
                </a:cubicBezTo>
                <a:cubicBezTo>
                  <a:pt x="0" y="10"/>
                  <a:pt x="21" y="27"/>
                  <a:pt x="22" y="28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08560" y="2351160"/>
            <a:ext cx="11412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1197000"/>
            <a:ext cx="8207280" cy="482436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Le soluzion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125360"/>
            <a:ext cx="85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a miscela omogenea viene anche definita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d60093"/>
                </a:solidFill>
                <a:latin typeface="Verdana"/>
              </a:rPr>
              <a:t>solu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 una soluzione il componente presente in quantità maggiore viene definito </a:t>
            </a:r>
            <a:r>
              <a:rPr b="0" lang="it-IT" sz="2400" spc="-1" strike="noStrike">
                <a:solidFill>
                  <a:srgbClr val="ff3300"/>
                </a:solidFill>
                <a:latin typeface="Verdana"/>
              </a:rPr>
              <a:t>solve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gli altri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solut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 seconda dello </a:t>
            </a:r>
            <a:r>
              <a:rPr b="0" lang="it-IT" sz="2400" spc="-1" strike="noStrike">
                <a:solidFill>
                  <a:srgbClr val="ff3399"/>
                </a:solidFill>
                <a:latin typeface="Verdana"/>
              </a:rPr>
              <a:t>stato fisic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in cui si presentano, possiamo distinguere le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soluzioni liquid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costituite da un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solvente liqui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he contiene disciolto un 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</a:rPr>
              <a:t>soluto soli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un </a:t>
            </a:r>
            <a:r>
              <a:rPr b="0" lang="it-IT" sz="2400" spc="-1" strike="noStrike">
                <a:solidFill>
                  <a:srgbClr val="ff3399"/>
                </a:solidFill>
                <a:latin typeface="Verdana"/>
              </a:rPr>
              <a:t>liquido,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oppure un </a:t>
            </a:r>
            <a:r>
              <a:rPr b="0" lang="it-IT" sz="2400" spc="-1" strike="noStrike">
                <a:solidFill>
                  <a:srgbClr val="ff3300"/>
                </a:solidFill>
                <a:latin typeface="Verdana"/>
              </a:rPr>
              <a:t>ga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dando rispettivamente vita a : soluzioni del tipo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</a:rPr>
              <a:t> solido in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</a:rPr>
              <a:t>liqui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del tipo </a:t>
            </a:r>
            <a:r>
              <a:rPr b="0" lang="it-IT" sz="2400" spc="-1" strike="noStrike">
                <a:solidFill>
                  <a:srgbClr val="ff3399"/>
                </a:solidFill>
                <a:latin typeface="Verdana"/>
              </a:rPr>
              <a:t>liquido in liqui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o </a:t>
            </a:r>
            <a:r>
              <a:rPr b="0" lang="it-IT" sz="2400" spc="-1" strike="noStrike">
                <a:solidFill>
                  <a:srgbClr val="ff3300"/>
                </a:solidFill>
                <a:latin typeface="Verdana"/>
              </a:rPr>
              <a:t>gas in liquido.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istono anche soluzioni in </a:t>
            </a:r>
            <a:r>
              <a:rPr b="0" lang="it-IT" sz="2400" spc="-1" strike="noStrike">
                <a:solidFill>
                  <a:srgbClr val="006633"/>
                </a:solidFill>
                <a:latin typeface="Verdana"/>
              </a:rPr>
              <a:t>fase gassos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aria) e in </a:t>
            </a:r>
            <a:r>
              <a:rPr b="0" lang="it-IT" sz="2400" spc="-1" strike="noStrike">
                <a:solidFill>
                  <a:srgbClr val="6600cc"/>
                </a:solidFill>
                <a:latin typeface="Verdana"/>
              </a:rPr>
              <a:t>fase solid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leg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11280" y="170640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it-IT" sz="2400" spc="-1" strike="noStrike">
                <a:solidFill>
                  <a:srgbClr val="6600cc"/>
                </a:solidFill>
                <a:latin typeface="Verdana"/>
              </a:rPr>
              <a:t>distillazione semplic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ermette di separare i componenti di una miscela omogenea sfruttando la loro </a:t>
            </a:r>
            <a:r>
              <a:rPr b="0" lang="it-IT" sz="2400" spc="-1" strike="noStrike">
                <a:solidFill>
                  <a:srgbClr val="d60093"/>
                </a:solidFill>
                <a:latin typeface="Verdana"/>
              </a:rPr>
              <a:t>diversa volatil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quindi la loro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diversa temperatura d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ebollizione.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Il componente più volati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diventa vapore per prim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e giunge ad un dispositivo raffreddato con l’acqua, il refrigerante, dove subisce un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secon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passaggio di stat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it-IT" sz="2400" spc="-1" strike="noStrike">
                <a:solidFill>
                  <a:srgbClr val="ff3399"/>
                </a:solidFill>
                <a:latin typeface="Verdana"/>
              </a:rPr>
              <a:t>la condens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e quindi  si raccoglie come liquido puro nel recipiente di racco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Distillazione semplic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20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Separazione dei componenti di una miscela omogenea (soluzione)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9900ff"/>
                </a:solidFill>
                <a:latin typeface="Verdana"/>
              </a:rPr>
              <a:t>distillazione semplic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1103040" y="4449240"/>
            <a:ext cx="50508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58920" y="3051000"/>
            <a:ext cx="21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20880" y="42037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58920" y="4203720"/>
            <a:ext cx="216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16160" y="334008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03280" y="341136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362916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19572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384480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32000" y="456408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03280" y="391644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3280" y="413244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87280" y="441972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58920" y="348444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6000" y="456408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76360" y="43480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475640" y="4708440"/>
            <a:ext cx="73080" cy="730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42920" y="485136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03280" y="305100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7520000">
            <a:off x="2625480" y="2619000"/>
            <a:ext cx="289080" cy="2304720"/>
          </a:xfrm>
          <a:custGeom>
            <a:avLst/>
            <a:gdLst>
              <a:gd name="textAreaLeft" fmla="*/ 42120 w 289080"/>
              <a:gd name="textAreaRight" fmla="*/ 246960 w 289080"/>
              <a:gd name="textAreaTop" fmla="*/ 42120 h 2304720"/>
              <a:gd name="textAreaBottom" fmla="*/ 2262600 h 2304720"/>
            </a:gdLst>
            <a:ahLst/>
            <a:rect l="textAreaLeft" t="textAreaTop" r="textAreaRight" b="textAreaBottom"/>
            <a:pathLst>
              <a:path w="21600" h="172021">
                <a:moveTo>
                  <a:pt x="10800" y="0"/>
                </a:moveTo>
                <a:arcTo wR="10800" hR="10800" stAng="16200000" swAng="-5400000"/>
                <a:lnTo>
                  <a:pt x="0" y="161221"/>
                </a:lnTo>
                <a:arcTo wR="10800" hR="10800" stAng="10800000" swAng="-5400000"/>
                <a:lnTo>
                  <a:pt x="10800" y="17202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03280" y="2689200"/>
            <a:ext cx="1800" cy="15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332000" y="2690640"/>
            <a:ext cx="1440" cy="15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21360000">
            <a:off x="1333080" y="2620440"/>
            <a:ext cx="71640" cy="113040"/>
          </a:xfrm>
          <a:custGeom>
            <a:avLst/>
            <a:gdLst>
              <a:gd name="textAreaLeft" fmla="*/ 0 w 71640"/>
              <a:gd name="textAreaRight" fmla="*/ 71640 w 71640"/>
              <a:gd name="textAreaTop" fmla="*/ 0 h 113040"/>
              <a:gd name="textAreaBottom" fmla="*/ 71640 h 113040"/>
            </a:gdLst>
            <a:ahLst/>
            <a:rect l="textAreaLeft" t="textAreaTop" r="textAreaRight" b="textAreaBottom"/>
            <a:pathLst>
              <a:path stroke="0" w="21600" h="21600">
                <a:moveTo>
                  <a:pt x="329" y="13447"/>
                </a:moveTo>
                <a:arcTo wR="10800" hR="10800" stAng="9948686" swAng="12478307"/>
                <a:lnTo>
                  <a:pt x="10800" y="10800"/>
                </a:lnTo>
                <a:close/>
              </a:path>
              <a:path fill="none" w="21600" h="21600">
                <a:moveTo>
                  <a:pt x="329" y="13447"/>
                </a:moveTo>
                <a:arcTo wR="10800" hR="10800" stAng="9948686" swAng="1247830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32000" y="4276800"/>
            <a:ext cx="73080" cy="144360"/>
          </a:xfrm>
          <a:custGeom>
            <a:avLst/>
            <a:gdLst>
              <a:gd name="textAreaLeft" fmla="*/ 10440 w 73080"/>
              <a:gd name="textAreaRight" fmla="*/ 62640 w 73080"/>
              <a:gd name="textAreaTop" fmla="*/ 10440 h 144360"/>
              <a:gd name="textAreaBottom" fmla="*/ 133920 h 144360"/>
            </a:gdLst>
            <a:ahLst/>
            <a:rect l="textAreaLeft" t="textAreaTop" r="textAreaRight" b="textAreaBottom"/>
            <a:pathLst>
              <a:path w="21600" h="42565">
                <a:moveTo>
                  <a:pt x="10800" y="0"/>
                </a:moveTo>
                <a:arcTo wR="10800" hR="10800" stAng="16200000" swAng="-5400000"/>
                <a:lnTo>
                  <a:pt x="0" y="31765"/>
                </a:lnTo>
                <a:arcTo wR="10800" hR="10800" stAng="10800000" swAng="-5400000"/>
                <a:lnTo>
                  <a:pt x="10800" y="4256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349280" y="4203720"/>
            <a:ext cx="36720" cy="122040"/>
          </a:xfrm>
          <a:custGeom>
            <a:avLst/>
            <a:gdLst>
              <a:gd name="textAreaLeft" fmla="*/ 1800 w 36720"/>
              <a:gd name="textAreaRight" fmla="*/ 34920 w 36720"/>
              <a:gd name="textAreaTop" fmla="*/ 1800 h 122040"/>
              <a:gd name="textAreaBottom" fmla="*/ 120240 h 122040"/>
            </a:gdLst>
            <a:ahLst/>
            <a:rect l="textAreaLeft" t="textAreaTop" r="textAreaRight" b="textAreaBottom"/>
            <a:pathLst>
              <a:path w="21600" h="71301">
                <a:moveTo>
                  <a:pt x="3600" y="0"/>
                </a:moveTo>
                <a:arcTo wR="3600" hR="3600" stAng="16200000" swAng="-5400000"/>
                <a:lnTo>
                  <a:pt x="0" y="67701"/>
                </a:lnTo>
                <a:arcTo wR="3600" hR="3600" stAng="10800000" swAng="-5400000"/>
                <a:lnTo>
                  <a:pt x="18000" y="71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92360" y="456408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19280" y="478008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32000" y="2908440"/>
            <a:ext cx="73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332000" y="31240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332000" y="2833560"/>
            <a:ext cx="144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403280" y="2833560"/>
            <a:ext cx="180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58920" y="2908440"/>
            <a:ext cx="216000" cy="144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008600" y="456408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92560" y="456408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995640" y="4492800"/>
            <a:ext cx="216000" cy="7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0800000">
            <a:off x="3710160" y="4854240"/>
            <a:ext cx="792000" cy="576360"/>
          </a:xfrm>
          <a:custGeom>
            <a:avLst/>
            <a:gdLst>
              <a:gd name="textAreaLeft" fmla="*/ 237240 w 792000"/>
              <a:gd name="textAreaRight" fmla="*/ 554760 w 792000"/>
              <a:gd name="textAreaTop" fmla="*/ 172440 h 576360"/>
              <a:gd name="textAreaBottom" fmla="*/ 4039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103" y="21600"/>
                </a:lnTo>
                <a:lnTo>
                  <a:pt x="8497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08360" y="5356080"/>
            <a:ext cx="792360" cy="1447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011480" y="4780080"/>
            <a:ext cx="1764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7280" y="43480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95640" y="499572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67280" y="492444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67280" y="463536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95640" y="523080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11640" y="523080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40360" y="514044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067280" y="478008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24360" y="514044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95640" y="523080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67280" y="450216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501336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020000">
            <a:off x="3995280" y="4215960"/>
            <a:ext cx="71640" cy="71640"/>
          </a:xfrm>
          <a:prstGeom prst="rtTriangl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3710160" y="5285880"/>
            <a:ext cx="792000" cy="142920"/>
          </a:xfrm>
          <a:custGeom>
            <a:avLst/>
            <a:gdLst>
              <a:gd name="textAreaLeft" fmla="*/ 112680 w 792000"/>
              <a:gd name="textAreaRight" fmla="*/ 679320 w 792000"/>
              <a:gd name="textAreaTop" fmla="*/ 20160 h 142920"/>
              <a:gd name="textAreaBottom" fmla="*/ 1227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20" y="21600"/>
                </a:lnTo>
                <a:lnTo>
                  <a:pt x="2380" y="2160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76360" y="3268800"/>
            <a:ext cx="25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76360" y="3195720"/>
            <a:ext cx="25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258920" y="3049560"/>
            <a:ext cx="1440" cy="11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476360" y="3267000"/>
            <a:ext cx="1440" cy="9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476360" y="3049560"/>
            <a:ext cx="144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560000">
            <a:off x="3133800" y="3986280"/>
            <a:ext cx="71280" cy="191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057480" y="4059360"/>
            <a:ext cx="763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128760" y="4084560"/>
            <a:ext cx="745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2480000">
            <a:off x="2269800" y="3341160"/>
            <a:ext cx="71280" cy="1922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263680" y="3266640"/>
            <a:ext cx="79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336760" y="3292200"/>
            <a:ext cx="777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 rot="1320000">
            <a:off x="1369800" y="3701520"/>
            <a:ext cx="2733480" cy="698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00720" y="5284800"/>
            <a:ext cx="57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19640" y="5140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stil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26920" y="4870440"/>
            <a:ext cx="1152720" cy="647640"/>
          </a:xfrm>
          <a:prstGeom prst="irregularSeal1">
            <a:avLst/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2000" y="4941720"/>
            <a:ext cx="1079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13080" y="4719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47640" y="443880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411280" y="42879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71640" y="551808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51808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547640" y="5518080"/>
            <a:ext cx="28764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08000" y="551808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43280" y="5302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03280" y="2709720"/>
            <a:ext cx="1081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4360" y="2565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rmo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32000" y="4149720"/>
            <a:ext cx="1368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27640" y="39276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gresso 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40000" y="3286080"/>
            <a:ext cx="1368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78000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scita 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87640" y="3718080"/>
            <a:ext cx="107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11640" y="3502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dens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72360" y="249408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’apparecchio per la distillazione semplice è costituito da un pallone, un termometro, un refrigerante, una beuta di raccolta, un bu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337440" y="2492280"/>
            <a:ext cx="2698560" cy="237672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826920" y="981000"/>
            <a:ext cx="748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mette di separare i </a:t>
            </a:r>
            <a:r>
              <a:rPr b="0" lang="it-IT" sz="2400" spc="-1" strike="noStrike">
                <a:solidFill>
                  <a:srgbClr val="00ff00"/>
                </a:solidFill>
                <a:latin typeface="Verdana"/>
              </a:rPr>
              <a:t>liquid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i un miscuglio omogeneo, anche se presentano </a:t>
            </a:r>
            <a:r>
              <a:rPr b="0" lang="it-IT" sz="2400" spc="-1" strike="noStrike">
                <a:solidFill>
                  <a:srgbClr val="0000ff"/>
                </a:solidFill>
                <a:latin typeface="Verdana"/>
              </a:rPr>
              <a:t>picco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Verdana"/>
              </a:rPr>
              <a:t>differenze di volatilità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 ad esempio acqua e</a:t>
            </a:r>
            <a:r>
              <a:rPr b="0" lang="it-IT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lcol etilico). Il pallone contenente i liquidi viene riscaldato, e la miscela di vapori che sale, incontrando la </a:t>
            </a:r>
            <a:r>
              <a:rPr b="0" lang="it-IT" sz="2400" spc="-1" strike="noStrike">
                <a:solidFill>
                  <a:srgbClr val="9900ff"/>
                </a:solidFill>
                <a:latin typeface="Verdana"/>
              </a:rPr>
              <a:t>colonna di frazionament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subirà un raffreddamento: </a:t>
            </a:r>
            <a:r>
              <a:rPr b="0" lang="it-IT" sz="2400" spc="-1" strike="noStrike">
                <a:solidFill>
                  <a:srgbClr val="cc0000"/>
                </a:solidFill>
                <a:latin typeface="Verdana"/>
              </a:rPr>
              <a:t>il componente meno volati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Verdana"/>
              </a:rPr>
              <a:t>si condenserà e scenderà verso il pallone di distillazione.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Incontrando i vapori che salgono esso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li raffredder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portando via gran parte dei componenti  meno volatili. In questo modo,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solo il vapore del liquido più volati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raggiungerà la testa della colonna, condensando come </a:t>
            </a:r>
            <a:r>
              <a:rPr b="0" lang="it-IT" sz="2400" spc="-1" strike="noStrike">
                <a:solidFill>
                  <a:srgbClr val="3b812f"/>
                </a:solidFill>
                <a:latin typeface="Verdana"/>
              </a:rPr>
              <a:t>liquido pu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Distillazione frazionat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 rot="16200000">
            <a:off x="1123920" y="4232160"/>
            <a:ext cx="50472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20880" y="4027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58920" y="2763720"/>
            <a:ext cx="216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32000" y="422280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32000" y="43876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03280" y="374004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424332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16000" y="43876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476360" y="417204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475640" y="4532400"/>
            <a:ext cx="73080" cy="730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42920" y="467532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7520000">
            <a:off x="2625840" y="1179720"/>
            <a:ext cx="288720" cy="2304720"/>
          </a:xfrm>
          <a:custGeom>
            <a:avLst/>
            <a:gdLst>
              <a:gd name="textAreaLeft" fmla="*/ 42120 w 288720"/>
              <a:gd name="textAreaRight" fmla="*/ 246600 w 288720"/>
              <a:gd name="textAreaTop" fmla="*/ 42120 h 2304720"/>
              <a:gd name="textAreaBottom" fmla="*/ 2262600 h 2304720"/>
            </a:gdLst>
            <a:ahLst/>
            <a:rect l="textAreaLeft" t="textAreaTop" r="textAreaRight" b="textAreaBottom"/>
            <a:pathLst>
              <a:path w="21600" h="172235">
                <a:moveTo>
                  <a:pt x="10800" y="0"/>
                </a:moveTo>
                <a:arcTo wR="10800" hR="10800" stAng="16200000" swAng="-5400000"/>
                <a:lnTo>
                  <a:pt x="0" y="161435"/>
                </a:lnTo>
                <a:arcTo wR="10800" hR="10800" stAng="10800000" swAng="-5400000"/>
                <a:lnTo>
                  <a:pt x="10800" y="1722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1360000">
            <a:off x="1333080" y="1182240"/>
            <a:ext cx="71640" cy="112680"/>
          </a:xfrm>
          <a:custGeom>
            <a:avLst/>
            <a:gdLst>
              <a:gd name="textAreaLeft" fmla="*/ 0 w 71640"/>
              <a:gd name="textAreaRight" fmla="*/ 71640 w 71640"/>
              <a:gd name="textAreaTop" fmla="*/ 0 h 112680"/>
              <a:gd name="textAreaBottom" fmla="*/ 71280 h 112680"/>
            </a:gdLst>
            <a:ahLst/>
            <a:rect l="textAreaLeft" t="textAreaTop" r="textAreaRight" b="textAreaBottom"/>
            <a:pathLst>
              <a:path stroke="0" w="21600" h="21600">
                <a:moveTo>
                  <a:pt x="329" y="13447"/>
                </a:moveTo>
                <a:arcTo wR="10800" hR="10800" stAng="9948686" swAng="12478307"/>
                <a:lnTo>
                  <a:pt x="10800" y="10800"/>
                </a:lnTo>
                <a:close/>
              </a:path>
              <a:path fill="none" w="21600" h="21600">
                <a:moveTo>
                  <a:pt x="329" y="13447"/>
                </a:moveTo>
                <a:arcTo wR="10800" hR="10800" stAng="9948686" swAng="1247830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32000" y="2854440"/>
            <a:ext cx="73080" cy="144360"/>
          </a:xfrm>
          <a:custGeom>
            <a:avLst/>
            <a:gdLst>
              <a:gd name="textAreaLeft" fmla="*/ 10440 w 73080"/>
              <a:gd name="textAreaRight" fmla="*/ 62640 w 73080"/>
              <a:gd name="textAreaTop" fmla="*/ 10440 h 144360"/>
              <a:gd name="textAreaBottom" fmla="*/ 133920 h 144360"/>
            </a:gdLst>
            <a:ahLst/>
            <a:rect l="textAreaLeft" t="textAreaTop" r="textAreaRight" b="textAreaBottom"/>
            <a:pathLst>
              <a:path w="21600" h="42565">
                <a:moveTo>
                  <a:pt x="10800" y="0"/>
                </a:moveTo>
                <a:arcTo wR="10800" hR="10800" stAng="16200000" swAng="-5400000"/>
                <a:lnTo>
                  <a:pt x="0" y="31765"/>
                </a:lnTo>
                <a:arcTo wR="10800" hR="10800" stAng="10800000" swAng="-5400000"/>
                <a:lnTo>
                  <a:pt x="10800" y="4256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349280" y="2763720"/>
            <a:ext cx="36720" cy="122400"/>
          </a:xfrm>
          <a:custGeom>
            <a:avLst/>
            <a:gdLst>
              <a:gd name="textAreaLeft" fmla="*/ 1800 w 36720"/>
              <a:gd name="textAreaRight" fmla="*/ 34920 w 36720"/>
              <a:gd name="textAreaTop" fmla="*/ 1800 h 122400"/>
              <a:gd name="textAreaBottom" fmla="*/ 120600 h 122400"/>
            </a:gdLst>
            <a:ahLst/>
            <a:rect l="textAreaLeft" t="textAreaTop" r="textAreaRight" b="textAreaBottom"/>
            <a:pathLst>
              <a:path w="21600" h="71511">
                <a:moveTo>
                  <a:pt x="3600" y="0"/>
                </a:moveTo>
                <a:arcTo wR="3600" hR="3600" stAng="16200000" swAng="-5400000"/>
                <a:lnTo>
                  <a:pt x="0" y="67911"/>
                </a:lnTo>
                <a:arcTo wR="3600" hR="3600" stAng="10800000" swAng="-5400000"/>
                <a:lnTo>
                  <a:pt x="18000" y="715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92360" y="43876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19280" y="46036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32000" y="1468440"/>
            <a:ext cx="73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403280" y="1393560"/>
            <a:ext cx="180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08600" y="312408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192560" y="312408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995640" y="3052080"/>
            <a:ext cx="21600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0800000">
            <a:off x="3710160" y="3414240"/>
            <a:ext cx="792000" cy="576360"/>
          </a:xfrm>
          <a:custGeom>
            <a:avLst/>
            <a:gdLst>
              <a:gd name="textAreaLeft" fmla="*/ 237240 w 792000"/>
              <a:gd name="textAreaRight" fmla="*/ 554760 w 792000"/>
              <a:gd name="textAreaTop" fmla="*/ 172440 h 576360"/>
              <a:gd name="textAreaBottom" fmla="*/ 4039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103" y="21600"/>
                </a:lnTo>
                <a:lnTo>
                  <a:pt x="8497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3916440"/>
            <a:ext cx="792360" cy="14436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011480" y="3340080"/>
            <a:ext cx="1764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95640" y="3556080"/>
            <a:ext cx="7164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067280" y="348444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95640" y="379080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11640" y="379080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40360" y="370044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67280" y="334008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24360" y="370044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95640" y="3790800"/>
            <a:ext cx="7164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40360" y="357336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020000">
            <a:off x="3995280" y="2776320"/>
            <a:ext cx="71640" cy="71280"/>
          </a:xfrm>
          <a:prstGeom prst="rtTriangl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0800000">
            <a:off x="3710160" y="3846240"/>
            <a:ext cx="792000" cy="142920"/>
          </a:xfrm>
          <a:custGeom>
            <a:avLst/>
            <a:gdLst>
              <a:gd name="textAreaLeft" fmla="*/ 112680 w 792000"/>
              <a:gd name="textAreaRight" fmla="*/ 679320 w 792000"/>
              <a:gd name="textAreaTop" fmla="*/ 20160 h 142920"/>
              <a:gd name="textAreaBottom" fmla="*/ 1227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20" y="21600"/>
                </a:lnTo>
                <a:lnTo>
                  <a:pt x="2380" y="2160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76360" y="1828800"/>
            <a:ext cx="25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76360" y="1755720"/>
            <a:ext cx="25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476360" y="364464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560000">
            <a:off x="3133440" y="2546280"/>
            <a:ext cx="71280" cy="1922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057480" y="2619360"/>
            <a:ext cx="763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3128760" y="2644920"/>
            <a:ext cx="745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2480000">
            <a:off x="2270160" y="1901160"/>
            <a:ext cx="71280" cy="191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263680" y="1827000"/>
            <a:ext cx="79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336760" y="1852200"/>
            <a:ext cx="777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 rot="1320000">
            <a:off x="1332000" y="2255400"/>
            <a:ext cx="2771640" cy="698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46560" y="36608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still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19280" y="4581360"/>
            <a:ext cx="1079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29080" y="43592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76360" y="386244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40000" y="37116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03280" y="1270080"/>
            <a:ext cx="1081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84360" y="1125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rmo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32000" y="2709720"/>
            <a:ext cx="136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427640" y="24876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gresso 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40000" y="1846440"/>
            <a:ext cx="1368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80000" y="170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scita 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87640" y="2278080"/>
            <a:ext cx="107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11640" y="2062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dens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32000" y="4603680"/>
            <a:ext cx="71280" cy="7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16000" y="460368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76360" y="4726080"/>
            <a:ext cx="7128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58920" y="3862440"/>
            <a:ext cx="2160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258920" y="3645000"/>
            <a:ext cx="144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32000" y="4797360"/>
            <a:ext cx="71280" cy="7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71640" y="4438800"/>
            <a:ext cx="7128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47640" y="4294080"/>
            <a:ext cx="71640" cy="7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47640" y="4819680"/>
            <a:ext cx="7164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042920" y="4221000"/>
            <a:ext cx="71640" cy="7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03280" y="4078440"/>
            <a:ext cx="7164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332000" y="4005360"/>
            <a:ext cx="7128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332000" y="3789360"/>
            <a:ext cx="7128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187280" y="4149720"/>
            <a:ext cx="7164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92360" y="4510080"/>
            <a:ext cx="7128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1846440"/>
            <a:ext cx="217440" cy="1511280"/>
          </a:xfrm>
          <a:custGeom>
            <a:avLst/>
            <a:gdLst>
              <a:gd name="textAreaLeft" fmla="*/ 31680 w 217440"/>
              <a:gd name="textAreaRight" fmla="*/ 185760 w 217440"/>
              <a:gd name="textAreaTop" fmla="*/ 31680 h 1511280"/>
              <a:gd name="textAreaBottom" fmla="*/ 1479600 h 1511280"/>
            </a:gdLst>
            <a:ahLst/>
            <a:rect l="textAreaLeft" t="textAreaTop" r="textAreaRight" b="textAreaBottom"/>
            <a:pathLst>
              <a:path w="21600" h="149915">
                <a:moveTo>
                  <a:pt x="10800" y="0"/>
                </a:moveTo>
                <a:arcTo wR="10800" hR="10800" stAng="16200000" swAng="-5400000"/>
                <a:lnTo>
                  <a:pt x="0" y="139115"/>
                </a:lnTo>
                <a:arcTo wR="10800" hR="10800" stAng="10800000" swAng="-5400000"/>
                <a:lnTo>
                  <a:pt x="10800" y="14991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312920" y="3286080"/>
            <a:ext cx="1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58920" y="3573360"/>
            <a:ext cx="216000" cy="14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312920" y="1557360"/>
            <a:ext cx="1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332000" y="3284280"/>
            <a:ext cx="144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403280" y="3284280"/>
            <a:ext cx="180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332000" y="1195560"/>
            <a:ext cx="1440" cy="166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403280" y="1195560"/>
            <a:ext cx="1800" cy="166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1295280" y="1626840"/>
            <a:ext cx="180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434960" y="1626840"/>
            <a:ext cx="180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95280" y="1628640"/>
            <a:ext cx="14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32000" y="32130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05080" y="32130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32000" y="32860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8920" y="32130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58920" y="314172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332000" y="314172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03280" y="3141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58920" y="30700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32000" y="30700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03280" y="307008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58920" y="2997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32000" y="2997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03280" y="29973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58920" y="292572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403280" y="292572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03280" y="285444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28544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70972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03280" y="27813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03280" y="270972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2781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03280" y="263844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403280" y="256536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58920" y="256536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58920" y="26384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03280" y="249408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58920" y="249408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403280" y="242100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42100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03280" y="234936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234936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403280" y="227808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03280" y="2133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03280" y="220680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03280" y="206208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03280" y="198900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03280" y="1917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58920" y="22050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258920" y="227808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58920" y="213372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58920" y="20606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58920" y="19890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58920" y="191772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067280" y="294624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956720" y="3162240"/>
            <a:ext cx="14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42360" y="3235320"/>
            <a:ext cx="14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56600" y="30891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440560" y="308916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8244000" y="3017160"/>
            <a:ext cx="215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0800000">
            <a:off x="7958160" y="3379320"/>
            <a:ext cx="792000" cy="576360"/>
          </a:xfrm>
          <a:custGeom>
            <a:avLst/>
            <a:gdLst>
              <a:gd name="textAreaLeft" fmla="*/ 237240 w 792000"/>
              <a:gd name="textAreaRight" fmla="*/ 554760 w 792000"/>
              <a:gd name="textAreaTop" fmla="*/ 172440 h 576360"/>
              <a:gd name="textAreaBottom" fmla="*/ 4039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103" y="21600"/>
                </a:lnTo>
                <a:lnTo>
                  <a:pt x="8497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956720" y="3881520"/>
            <a:ext cx="792000" cy="144360"/>
          </a:xfrm>
          <a:prstGeom prst="ellipse">
            <a:avLst/>
          </a:prstGeom>
          <a:solidFill>
            <a:srgbClr val="fe8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259840" y="3305160"/>
            <a:ext cx="1760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0800000">
            <a:off x="7958160" y="3811320"/>
            <a:ext cx="792000" cy="142920"/>
          </a:xfrm>
          <a:custGeom>
            <a:avLst/>
            <a:gdLst>
              <a:gd name="textAreaLeft" fmla="*/ 112680 w 792000"/>
              <a:gd name="textAreaRight" fmla="*/ 679320 w 792000"/>
              <a:gd name="textAreaTop" fmla="*/ 20160 h 142920"/>
              <a:gd name="textAreaBottom" fmla="*/ 1227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20" y="21600"/>
                </a:lnTo>
                <a:lnTo>
                  <a:pt x="2380" y="21600"/>
                </a:lnTo>
                <a:close/>
              </a:path>
            </a:pathLst>
          </a:custGeom>
          <a:solidFill>
            <a:srgbClr val="fe8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319880" y="308916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04200" y="30891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307280" y="3017160"/>
            <a:ext cx="21600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10800000">
            <a:off x="7021080" y="3379320"/>
            <a:ext cx="792360" cy="576360"/>
          </a:xfrm>
          <a:custGeom>
            <a:avLst/>
            <a:gdLst>
              <a:gd name="textAreaLeft" fmla="*/ 237240 w 792360"/>
              <a:gd name="textAreaRight" fmla="*/ 555120 w 792360"/>
              <a:gd name="textAreaTop" fmla="*/ 172440 h 576360"/>
              <a:gd name="textAreaBottom" fmla="*/ 4039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103" y="21600"/>
                </a:lnTo>
                <a:lnTo>
                  <a:pt x="8497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20000" y="3881520"/>
            <a:ext cx="79200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323120" y="3305160"/>
            <a:ext cx="1764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0800000">
            <a:off x="7021080" y="3811320"/>
            <a:ext cx="792360" cy="142920"/>
          </a:xfrm>
          <a:custGeom>
            <a:avLst/>
            <a:gdLst>
              <a:gd name="textAreaLeft" fmla="*/ 112680 w 792360"/>
              <a:gd name="textAreaRight" fmla="*/ 679680 w 792360"/>
              <a:gd name="textAreaTop" fmla="*/ 20160 h 142920"/>
              <a:gd name="textAreaBottom" fmla="*/ 1227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20" y="21600"/>
                </a:lnTo>
                <a:lnTo>
                  <a:pt x="2380" y="2160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00720" y="388296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498560" y="3882960"/>
            <a:ext cx="506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6920" y="4654440"/>
            <a:ext cx="1152720" cy="647640"/>
          </a:xfrm>
          <a:prstGeom prst="irregularSeal1">
            <a:avLst/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71640" y="5302080"/>
            <a:ext cx="287280" cy="287640"/>
          </a:xfrm>
          <a:prstGeom prst="upArrow">
            <a:avLst>
              <a:gd name="adj1" fmla="val 50000"/>
              <a:gd name="adj2" fmla="val 25031"/>
            </a:avLst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260360" y="5302080"/>
            <a:ext cx="287280" cy="287640"/>
          </a:xfrm>
          <a:prstGeom prst="upArrow">
            <a:avLst>
              <a:gd name="adj1" fmla="val 50000"/>
              <a:gd name="adj2" fmla="val 25031"/>
            </a:avLst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47640" y="5302080"/>
            <a:ext cx="287640" cy="2876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8602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08000" y="530208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43280" y="50864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76360" y="3141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9640" y="2925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lonna di frazio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Distillazione frazionat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"/>
          <p:cNvSpPr/>
          <p:nvPr/>
        </p:nvSpPr>
        <p:spPr>
          <a:xfrm>
            <a:off x="4140360" y="4292640"/>
            <a:ext cx="4248000" cy="17398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distillazione frazionata si esegue utilizzando, oltre all’apparecchiatura necessaria per la distillazione semplice, anche una colonna di frazionamento, riempita di palline di ve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68360" y="-10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La cromat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68360" y="1413000"/>
            <a:ext cx="8136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spcBef>
                <a:spcPts val="12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’ una tecnica che  permette di separare i componenti di una </a:t>
            </a:r>
            <a:r>
              <a:rPr b="0" lang="it-IT" sz="2000" spc="-1" strike="noStrike">
                <a:solidFill>
                  <a:srgbClr val="ff00ff"/>
                </a:solidFill>
                <a:latin typeface="Verdana"/>
              </a:rPr>
              <a:t>miscela omogene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sfruttando la loro </a:t>
            </a: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diversa velocità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 spostamento su un solido, la </a:t>
            </a: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fase fiss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quando vengono trascinati da un eluente, la </a:t>
            </a:r>
            <a:r>
              <a:rPr b="0" lang="it-IT" sz="2000" spc="-1" strike="noStrike">
                <a:solidFill>
                  <a:srgbClr val="cc0000"/>
                </a:solidFill>
                <a:latin typeface="Verdana"/>
              </a:rPr>
              <a:t>fase mobi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 La fase fissa può essere una striscia di </a:t>
            </a: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carta poros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(cromatografia su carta), o una </a:t>
            </a:r>
            <a:r>
              <a:rPr b="0" lang="it-IT" sz="2000" spc="-1" strike="noStrike">
                <a:solidFill>
                  <a:srgbClr val="ff9933"/>
                </a:solidFill>
                <a:latin typeface="Verdana"/>
              </a:rPr>
              <a:t>colonna di vetr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riempita con </a:t>
            </a:r>
            <a:r>
              <a:rPr b="0" lang="it-IT" sz="2000" spc="-1" strike="noStrike">
                <a:solidFill>
                  <a:srgbClr val="00ff00"/>
                </a:solidFill>
                <a:latin typeface="Verdana"/>
              </a:rPr>
              <a:t>ossido d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ff00"/>
                </a:solidFill>
                <a:latin typeface="Verdana"/>
              </a:rPr>
              <a:t>alluminio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(cromatografia su  colon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3716280"/>
            <a:ext cx="792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e particelle delle diverse sostanze vengono adsorbite dalla superficie del solido con </a:t>
            </a:r>
            <a:r>
              <a:rPr b="0" lang="it-IT" sz="2000" spc="-1" strike="noStrike">
                <a:solidFill>
                  <a:srgbClr val="cc0000"/>
                </a:solidFill>
                <a:latin typeface="Verdana"/>
              </a:rPr>
              <a:t>forze di diversa entità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e perciò saranno trattenute in maniera diversa. Al passaggio dell’eluente, esse verranno trascinate con </a:t>
            </a:r>
            <a:r>
              <a:rPr b="0" lang="it-IT" sz="2000" spc="-1" strike="noStrike">
                <a:solidFill>
                  <a:srgbClr val="6600ff"/>
                </a:solidFill>
                <a:latin typeface="Verdana"/>
              </a:rPr>
              <a:t>velocità divers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per cui si separeranno formando degli strati diversamente color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1800360" y="2558880"/>
            <a:ext cx="1295280" cy="3048120"/>
          </a:xfrm>
          <a:prstGeom prst="can">
            <a:avLst>
              <a:gd name="adj" fmla="val 1275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800360" y="1873080"/>
            <a:ext cx="1295280" cy="3733920"/>
          </a:xfrm>
          <a:prstGeom prst="can">
            <a:avLst>
              <a:gd name="adj" fmla="val 102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873080" y="29401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25720" y="3092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01680" y="29401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87640" y="336708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254320" y="3092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30280" y="29401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19280" y="336708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482920" y="30160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160720" y="32227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711520" y="3092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11520" y="30160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951280" y="336708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871640" y="32227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73080" y="309240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32000" y="343836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97120" y="30160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06600" y="29401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797120" y="28638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951280" y="293544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48000" y="31510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303640" y="300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58880" y="30924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863800" y="30160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178000" y="29401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16000" y="3151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43280" y="336708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800360" y="32958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92360" y="293544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30280" y="31687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92360" y="32227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482920" y="31687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08360" y="33670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76360" y="32958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376360" y="343836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735280" y="3295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03640" y="31510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406600" y="30924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49400" y="30160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32000" y="3295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79640" y="32227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240" y="271152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miscela di quattro sosta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35400" y="1927080"/>
            <a:ext cx="1295280" cy="3733920"/>
          </a:xfrm>
          <a:prstGeom prst="can">
            <a:avLst>
              <a:gd name="adj" fmla="val 10268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26120" y="2787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311720" y="29401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464000" y="29401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464000" y="2787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997520" y="2787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92600" y="29401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40320" y="2787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68920" y="28638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44880" y="286380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26120" y="30160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73480" y="3016080"/>
            <a:ext cx="15264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073480" y="286380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311720" y="2787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378400" y="29401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540320" y="3321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540320" y="33973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35400" y="3473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387680" y="33973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073480" y="3244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44880" y="33210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44880" y="3244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49800" y="3321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02080" y="33210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64000" y="3092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7680" y="31687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16280" y="33210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149800" y="33973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97520" y="3092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844880" y="3016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768920" y="3473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26120" y="3625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464000" y="3625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97520" y="3473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92600" y="3549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768920" y="3625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64000" y="37018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997520" y="3625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311720" y="3321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16280" y="35496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540320" y="3244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50000" y="1873080"/>
            <a:ext cx="1295280" cy="3733920"/>
          </a:xfrm>
          <a:prstGeom prst="can">
            <a:avLst>
              <a:gd name="adj" fmla="val 10268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512120" y="4006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00360" y="343836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43280" y="293544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735280" y="3222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519280" y="32227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016000" y="32227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711520" y="3092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879640" y="30798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808360" y="293544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60720" y="3079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087640" y="3295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311720" y="3778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21200" y="3701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378400" y="3701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68920" y="3701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073480" y="36259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692600" y="38545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149800" y="39304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464000" y="38545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997520" y="32446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235400" y="2101680"/>
            <a:ext cx="1295280" cy="685800"/>
          </a:xfrm>
          <a:prstGeom prst="can">
            <a:avLst>
              <a:gd name="adj" fmla="val 500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04760" y="35496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ossido di allumin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59280" y="1873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el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39640" y="-2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Cromatografia su colo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5148000" y="2178000"/>
            <a:ext cx="84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50000" y="2482920"/>
            <a:ext cx="1295280" cy="2361960"/>
          </a:xfrm>
          <a:prstGeom prst="can">
            <a:avLst>
              <a:gd name="adj" fmla="val 11851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902280" y="29401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054920" y="28638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207200" y="28638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26320" y="2787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283520" y="3092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59480" y="29401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359480" y="2787480"/>
            <a:ext cx="15264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12120" y="30160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512120" y="28638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740720" y="3092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893000" y="29401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40720" y="28638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750000" y="29401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359480" y="35496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826320" y="3473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435800" y="33973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07200" y="3473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130880" y="33973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978600" y="33973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664400" y="33973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588080" y="3473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816680" y="33210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512120" y="33973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283520" y="3473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054920" y="35496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978600" y="3473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664400" y="3321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893000" y="3473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435800" y="4083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130880" y="40831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740720" y="4006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826320" y="4006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9480" y="393048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12120" y="4006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978600" y="4083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130880" y="38545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02280" y="38545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664400" y="3854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978600" y="2787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893000" y="4540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740720" y="44640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512120" y="44640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207200" y="4540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435800" y="4616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54920" y="44640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588080" y="45403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978600" y="4540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826320" y="4540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71640" y="3102120"/>
            <a:ext cx="792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116000" y="3822840"/>
            <a:ext cx="792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La cromatografia su cart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3" name=""/>
          <p:cNvSpPr/>
          <p:nvPr/>
        </p:nvSpPr>
        <p:spPr>
          <a:xfrm>
            <a:off x="1332000" y="2708280"/>
            <a:ext cx="1584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332000" y="4148280"/>
            <a:ext cx="158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476360" y="4076640"/>
            <a:ext cx="1443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835280" y="4076640"/>
            <a:ext cx="144360" cy="1443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195640" y="4076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6000" y="4076640"/>
            <a:ext cx="144360" cy="144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916360" y="4148280"/>
            <a:ext cx="647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564000" y="3932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inea di part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362320" y="2220840"/>
            <a:ext cx="942840" cy="7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19640" y="1844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rta cromato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57920" y="3443400"/>
            <a:ext cx="11160" cy="12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7524000" y="3211560"/>
            <a:ext cx="120600" cy="584280"/>
          </a:xfrm>
          <a:custGeom>
            <a:avLst/>
            <a:gdLst>
              <a:gd name="textAreaLeft" fmla="*/ 59760 w 120600"/>
              <a:gd name="textAreaRight" fmla="*/ 120240 w 120600"/>
              <a:gd name="textAreaTop" fmla="*/ 88920 h 584280"/>
              <a:gd name="textAreaBottom" fmla="*/ 291960 h 584280"/>
            </a:gdLst>
            <a:ahLst/>
            <a:rect l="textAreaLeft" t="textAreaTop" r="textAreaRight" b="textAreaBottom"/>
            <a:pathLst>
              <a:path stroke="0" w="21600" h="21600">
                <a:moveTo>
                  <a:pt x="18502" y="3229"/>
                </a:moveTo>
                <a:arcTo wR="10800" hR="10800" stAng="-2670400" swAng="2670400"/>
                <a:lnTo>
                  <a:pt x="10800" y="10800"/>
                </a:lnTo>
                <a:close/>
              </a:path>
              <a:path fill="none" w="21600" h="21600">
                <a:moveTo>
                  <a:pt x="18502" y="3229"/>
                </a:moveTo>
                <a:arcTo wR="10800" hR="10800" stAng="-2670400" swAng="26704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11760" y="3233880"/>
            <a:ext cx="146160" cy="403200"/>
          </a:xfrm>
          <a:custGeom>
            <a:avLst/>
            <a:gdLst>
              <a:gd name="textAreaLeft" fmla="*/ 73080 w 146160"/>
              <a:gd name="textAreaRight" fmla="*/ 146160 w 146160"/>
              <a:gd name="textAreaTop" fmla="*/ 0 h 403200"/>
              <a:gd name="textAreaBottom" fmla="*/ 212760 h 4032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5952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952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513560" y="3500280"/>
            <a:ext cx="11160" cy="12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67280" y="4005360"/>
            <a:ext cx="1657440" cy="1224000"/>
          </a:xfrm>
          <a:prstGeom prst="can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084720" y="2421000"/>
            <a:ext cx="122400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300720" y="3068640"/>
            <a:ext cx="142920" cy="1008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300720" y="2925720"/>
            <a:ext cx="14292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516720" y="3933720"/>
            <a:ext cx="287280" cy="7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88000" y="2924280"/>
            <a:ext cx="142920" cy="914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05440" y="2925720"/>
            <a:ext cx="14292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020000" y="3141720"/>
            <a:ext cx="14292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796000" y="2852640"/>
            <a:ext cx="18003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6676920" y="1386000"/>
            <a:ext cx="354240" cy="9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443640" y="1046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ase f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5578200" y="4869000"/>
            <a:ext cx="10112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788000" y="566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ase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24000" y="5157720"/>
            <a:ext cx="91440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68360" y="5300640"/>
            <a:ext cx="574560" cy="216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281240" y="5157720"/>
            <a:ext cx="91440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425600" y="5300640"/>
            <a:ext cx="574560" cy="216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289240" y="5157720"/>
            <a:ext cx="91440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433600" y="5300640"/>
            <a:ext cx="57456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97240" y="5157720"/>
            <a:ext cx="91440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441600" y="5300640"/>
            <a:ext cx="57492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95240" y="3786120"/>
            <a:ext cx="1800" cy="15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755640" y="3787560"/>
            <a:ext cx="1440" cy="15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10800000">
            <a:off x="712800" y="3142800"/>
            <a:ext cx="115920" cy="64764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084720" y="4076640"/>
            <a:ext cx="1224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800"/>
            </a:b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Sostanza pur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3" name=""/>
          <p:cNvSpPr/>
          <p:nvPr/>
        </p:nvSpPr>
        <p:spPr>
          <a:xfrm>
            <a:off x="5291280" y="358128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rot="3840000">
            <a:off x="5368680" y="37936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rot="3840000">
            <a:off x="5152680" y="35841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076720" y="372420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rot="3840000">
            <a:off x="5154480" y="3936960"/>
            <a:ext cx="136440" cy="142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3840000">
            <a:off x="4938480" y="37270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236000" y="270828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rot="3840000">
            <a:off x="7313400" y="29206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rot="3840000">
            <a:off x="7097400" y="27111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211640" y="3789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3840000">
            <a:off x="4289040" y="40017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3840000">
            <a:off x="4073400" y="3792600"/>
            <a:ext cx="136440" cy="142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2924280"/>
            <a:ext cx="1297080" cy="129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257480" y="3645000"/>
            <a:ext cx="431640" cy="358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17840" y="3645000"/>
            <a:ext cx="431640" cy="358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78200" y="3646440"/>
            <a:ext cx="431640" cy="35892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43280" y="3357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ff"/>
              </a:gs>
              <a:gs pos="100000">
                <a:srgbClr val="afbf3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995640" y="2852640"/>
            <a:ext cx="1297080" cy="129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867280" y="3357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ff"/>
              </a:gs>
              <a:gs pos="100000">
                <a:srgbClr val="afbf3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020000" y="2852640"/>
            <a:ext cx="1297080" cy="129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114560" y="47959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187280" y="458136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979640" y="4579920"/>
            <a:ext cx="14436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195640" y="5302080"/>
            <a:ext cx="21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979640" y="580536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1185840" y="5805360"/>
            <a:ext cx="1476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25120" y="530208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rot="3840000">
            <a:off x="1120320" y="587484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rot="8460000">
            <a:off x="1256760" y="566244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rot="8460000">
            <a:off x="1834560" y="566244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rot="8400000">
            <a:off x="2052000" y="5878080"/>
            <a:ext cx="1443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617840" y="4724280"/>
            <a:ext cx="1443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8400000">
            <a:off x="1188360" y="53733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3840000">
            <a:off x="2344320" y="52257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185840" y="4940280"/>
            <a:ext cx="1443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rot="3840000">
            <a:off x="2055600" y="45129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3840000">
            <a:off x="759960" y="52257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8460000">
            <a:off x="970920" y="515772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049480" y="5156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8400000">
            <a:off x="1555200" y="56620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8400000">
            <a:off x="1915560" y="544464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8400000">
            <a:off x="1988640" y="4941360"/>
            <a:ext cx="1368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763640" y="378936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260360" y="610092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43280" y="309240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u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508720" y="30924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vapor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885080" y="314172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rot="3840000">
            <a:off x="7962480" y="335412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rot="3840000">
            <a:off x="7744680" y="3144600"/>
            <a:ext cx="1368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236000" y="371628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3840000">
            <a:off x="7313400" y="39286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rot="3840000">
            <a:off x="7097400" y="37191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307280" y="322092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rot="3840000">
            <a:off x="7384680" y="343332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3840000">
            <a:off x="7168680" y="322380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28000" y="2637000"/>
            <a:ext cx="21600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rot="3840000">
            <a:off x="8103600" y="2849400"/>
            <a:ext cx="1368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rot="3840000">
            <a:off x="7889760" y="2639880"/>
            <a:ext cx="136440" cy="142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954920" y="3645000"/>
            <a:ext cx="21600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rot="3840000">
            <a:off x="8030520" y="3857400"/>
            <a:ext cx="1368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rot="3840000">
            <a:off x="7814520" y="3647880"/>
            <a:ext cx="1368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498920" y="372420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3840000">
            <a:off x="4576320" y="393660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rot="3840000">
            <a:off x="4360680" y="37270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788000" y="372420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rot="3840000">
            <a:off x="4865400" y="393660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3840000">
            <a:off x="4649400" y="37270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932360" y="3581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3840000">
            <a:off x="5009760" y="37936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3840000">
            <a:off x="4794120" y="3584520"/>
            <a:ext cx="136440" cy="142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643280" y="3581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rot="3840000">
            <a:off x="4721040" y="37936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rot="3840000">
            <a:off x="4505040" y="358416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284720" y="3652920"/>
            <a:ext cx="21600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rot="3840000">
            <a:off x="4361760" y="3865320"/>
            <a:ext cx="1368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rot="3840000">
            <a:off x="4144320" y="3655800"/>
            <a:ext cx="1368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282920" y="422100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iqu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308720" y="422100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erifor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8460000">
            <a:off x="1261800" y="4725720"/>
            <a:ext cx="21564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rot="8460000">
            <a:off x="1834560" y="472752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rot="3840000">
            <a:off x="1120320" y="450504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96720" y="893880"/>
            <a:ext cx="84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a  sostanza pura,  isolata dopo la sua separazione da eventuali altre sostanze nei miscugli,  è costituita da un campione di materia che </a:t>
            </a:r>
            <a:r>
              <a:rPr b="0" lang="it-IT" sz="2000" spc="-1" strike="noStrike">
                <a:solidFill>
                  <a:srgbClr val="ff00ff"/>
                </a:solidFill>
                <a:latin typeface="Verdana"/>
              </a:rPr>
              <a:t>non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00ff"/>
                </a:solidFill>
                <a:latin typeface="Verdana"/>
              </a:rPr>
              <a:t>può più essere separat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in sostanze più semplici attraverso </a:t>
            </a: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trasformazioni fisich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059280" y="4745160"/>
            <a:ext cx="4897440" cy="12286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 passaggi di stato sono esempi di </a:t>
            </a:r>
            <a:r>
              <a:rPr b="0" lang="it-IT" sz="1800" spc="-1" strike="noStrike">
                <a:solidFill>
                  <a:srgbClr val="ff6600"/>
                </a:solidFill>
                <a:latin typeface="Verdana"/>
              </a:rPr>
              <a:t>trasformazioni fisich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la stessa sostanza è presente prima e dopo la trasformazione.        = 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 ( acq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364000" y="5661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3840000">
            <a:off x="5370120" y="587340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rot="3840000">
            <a:off x="5225760" y="5663880"/>
            <a:ext cx="13644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1280" y="1841400"/>
            <a:ext cx="87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Alcune proprietà fisiche di una sostanza si possono cogliere con i sensi, ad esempio il </a:t>
            </a:r>
            <a:r>
              <a:rPr b="0" lang="it-IT" sz="2400" spc="-1" strike="noStrike">
                <a:solidFill>
                  <a:srgbClr val="990099"/>
                </a:solidFill>
                <a:latin typeface="Verdana"/>
                <a:ea typeface="Arial"/>
              </a:rPr>
              <a:t>col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  <a:ea typeface="Arial"/>
              </a:rPr>
              <a:t>l’od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it-IT" sz="2400" spc="-1" strike="noStrike">
                <a:solidFill>
                  <a:srgbClr val="ffcc00"/>
                </a:solidFill>
                <a:latin typeface="Verdana"/>
                <a:ea typeface="Arial"/>
              </a:rPr>
              <a:t>la durezz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it-IT" sz="2400" spc="-1" strike="noStrike">
                <a:solidFill>
                  <a:srgbClr val="2020e0"/>
                </a:solidFill>
                <a:latin typeface="Verdana"/>
                <a:ea typeface="Arial"/>
              </a:rPr>
              <a:t>lo stato fisic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Altre proprietà fisiche possono anche essere misurate in laboratorio, ad esempio </a:t>
            </a:r>
            <a:r>
              <a:rPr b="0" lang="it-IT" sz="2400" spc="-1" strike="noStrike">
                <a:solidFill>
                  <a:srgbClr val="3b812f"/>
                </a:solidFill>
                <a:latin typeface="Verdana"/>
                <a:ea typeface="Arial"/>
              </a:rPr>
              <a:t>la temperatura di fus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it-IT" sz="2400" spc="-1" strike="noStrike">
                <a:solidFill>
                  <a:srgbClr val="6666ff"/>
                </a:solidFill>
                <a:latin typeface="Verdana"/>
                <a:ea typeface="Arial"/>
              </a:rPr>
              <a:t>la temperatura di ebolli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  <a:ea typeface="Arial"/>
              </a:rPr>
              <a:t>l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  <a:ea typeface="Arial"/>
              </a:rPr>
              <a:t>dens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, che saranno diverse da quelle delle altre sostan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290520"/>
            <a:ext cx="8215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Proprietà fisich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523800" y="1197000"/>
            <a:ext cx="81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ossono essere osservate e misurate </a:t>
            </a:r>
            <a:r>
              <a:rPr b="0" lang="it-IT" sz="2400" spc="-1" strike="noStrike">
                <a:solidFill>
                  <a:srgbClr val="2020e0"/>
                </a:solidFill>
                <a:latin typeface="Verdana"/>
              </a:rPr>
              <a:t>senza alterare la composizion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lla sos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Compost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460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Molte </a:t>
            </a: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sostanze pur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possono, però, essere ulteriormente separate in sostanze più semplici mediante  trasformazioni chimiche,  ad esempio la </a:t>
            </a:r>
            <a:r>
              <a:rPr b="0" lang="it-IT" sz="2000" spc="-1" strike="noStrike">
                <a:solidFill>
                  <a:srgbClr val="800080"/>
                </a:solidFill>
                <a:latin typeface="Verdana"/>
              </a:rPr>
              <a:t>decomposi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lang="it-IT" sz="2000" spc="-1" strike="noStrike">
                <a:solidFill>
                  <a:srgbClr val="006633"/>
                </a:solidFill>
                <a:latin typeface="Verdana"/>
              </a:rPr>
              <a:t>analis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a sostanza che può essere decomposta in due  o più sostanze si definisce </a:t>
            </a: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composto.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 composto si rappresenta con la </a:t>
            </a:r>
            <a:r>
              <a:rPr b="0" lang="it-IT" sz="2000" spc="-1" strike="noStrike">
                <a:solidFill>
                  <a:srgbClr val="ff3399"/>
                </a:solidFill>
                <a:latin typeface="Verdana"/>
              </a:rPr>
              <a:t>formula chimic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 (es. acido solforico H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4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. I composti hanno una composizione definita e costante. La </a:t>
            </a:r>
            <a:r>
              <a:rPr b="0" lang="it-IT" sz="2000" spc="-1" strike="noStrike">
                <a:solidFill>
                  <a:srgbClr val="00ccff"/>
                </a:solidFill>
                <a:latin typeface="Verdana"/>
              </a:rPr>
              <a:t>molec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è la più </a:t>
            </a:r>
            <a:r>
              <a:rPr b="0" lang="it-IT" sz="2000" spc="-1" strike="noStrike">
                <a:solidFill>
                  <a:srgbClr val="6699ff"/>
                </a:solidFill>
                <a:latin typeface="Verdana"/>
              </a:rPr>
              <a:t>piccola particel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 un composto che possiede le </a:t>
            </a:r>
            <a:r>
              <a:rPr b="0" lang="it-IT" sz="2000" spc="-1" strike="noStrike">
                <a:solidFill>
                  <a:srgbClr val="cc0000"/>
                </a:solidFill>
                <a:latin typeface="Verdana"/>
              </a:rPr>
              <a:t>proprietà chimich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 quel composto. Le proprietà fisiche, quali il </a:t>
            </a:r>
            <a:r>
              <a:rPr b="0" lang="it-IT" sz="2000" spc="-1" strike="noStrike">
                <a:solidFill>
                  <a:srgbClr val="996600"/>
                </a:solidFill>
                <a:latin typeface="Verdana"/>
              </a:rPr>
              <a:t>punto di fus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o la </a:t>
            </a:r>
            <a:r>
              <a:rPr b="0" lang="it-IT" sz="2000" spc="-1" strike="noStrike">
                <a:solidFill>
                  <a:srgbClr val="ff66ff"/>
                </a:solidFill>
                <a:latin typeface="Verdana"/>
              </a:rPr>
              <a:t>temperatur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66ff"/>
                </a:solidFill>
                <a:latin typeface="Verdana"/>
              </a:rPr>
              <a:t>di ebolli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pendono, invece, dal comportamento </a:t>
            </a: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dell’insieme di molecole del compo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43280" y="58644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loruro di idrogeno: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 rot="14400000">
            <a:off x="6408360" y="4754160"/>
            <a:ext cx="73080" cy="57672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012000" y="5078520"/>
            <a:ext cx="28872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 rot="10980000">
            <a:off x="6878880" y="5016600"/>
            <a:ext cx="69840" cy="57600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 rot="6780000">
            <a:off x="7415640" y="4754880"/>
            <a:ext cx="73080" cy="57600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659640" y="450216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732720" y="5511960"/>
            <a:ext cx="28872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596360" y="5079960"/>
            <a:ext cx="28872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940360" y="587052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mmoniaca:  N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 rot="14160000">
            <a:off x="4062960" y="4698360"/>
            <a:ext cx="71280" cy="64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564000" y="5151600"/>
            <a:ext cx="28872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140360" y="443088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 rot="13320000">
            <a:off x="1332000" y="4789080"/>
            <a:ext cx="71280" cy="64728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 rot="7800000">
            <a:off x="2015640" y="4753440"/>
            <a:ext cx="73080" cy="57636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403280" y="4430880"/>
            <a:ext cx="57636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969840" y="52228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195640" y="5151600"/>
            <a:ext cx="28872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0000" y="5870520"/>
            <a:ext cx="18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cqua: 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Element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0" name=""/>
          <p:cNvSpPr/>
          <p:nvPr/>
        </p:nvSpPr>
        <p:spPr>
          <a:xfrm>
            <a:off x="466560" y="907920"/>
            <a:ext cx="8282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a sostanza che </a:t>
            </a: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non può essere decompost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in due o più sostanze si definisce </a:t>
            </a: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elemento.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i rappresenta con un simbolo (es. oro: A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’ </a:t>
            </a:r>
            <a:r>
              <a:rPr b="0" lang="it-IT" sz="2000" spc="-1" strike="noStrike">
                <a:solidFill>
                  <a:srgbClr val="ff3399"/>
                </a:solidFill>
                <a:latin typeface="Verdana"/>
              </a:rPr>
              <a:t>atom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è la più piccola particella di un elemento  che possiede le </a:t>
            </a:r>
            <a:r>
              <a:rPr b="0" lang="it-IT" sz="2000" spc="-1" strike="noStrike">
                <a:solidFill>
                  <a:srgbClr val="33cc33"/>
                </a:solidFill>
                <a:latin typeface="Verdana"/>
              </a:rPr>
              <a:t>proprietà chimich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  quell ’elemento. Le </a:t>
            </a:r>
            <a:r>
              <a:rPr b="0" lang="it-IT" sz="2000" spc="-1" strike="noStrike">
                <a:solidFill>
                  <a:srgbClr val="6600ff"/>
                </a:solidFill>
                <a:latin typeface="Verdana"/>
              </a:rPr>
              <a:t>proprietà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6600ff"/>
                </a:solidFill>
                <a:latin typeface="Verdana"/>
              </a:rPr>
              <a:t>fisiche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aratteristiche di un elemento sono la </a:t>
            </a:r>
            <a:r>
              <a:rPr b="0" lang="it-IT" sz="2000" spc="-1" strike="noStrike">
                <a:solidFill>
                  <a:srgbClr val="cc0000"/>
                </a:solidFill>
                <a:latin typeface="Verdana"/>
              </a:rPr>
              <a:t>mass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la </a:t>
            </a:r>
            <a:r>
              <a:rPr b="0" lang="it-IT" sz="2000" spc="-1" strike="noStrike">
                <a:solidFill>
                  <a:srgbClr val="ff66ff"/>
                </a:solidFill>
                <a:latin typeface="Verdana"/>
              </a:rPr>
              <a:t>form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le </a:t>
            </a:r>
            <a:r>
              <a:rPr b="0" lang="it-IT" sz="2000" spc="-1" strike="noStrike">
                <a:solidFill>
                  <a:srgbClr val="cc0000"/>
                </a:solidFill>
                <a:latin typeface="Verdana"/>
              </a:rPr>
              <a:t>dimension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 Altre proprietà fisiche, quali la </a:t>
            </a:r>
            <a:r>
              <a:rPr b="0" lang="it-IT" sz="2000" spc="-1" strike="noStrike">
                <a:solidFill>
                  <a:srgbClr val="00ccff"/>
                </a:solidFill>
                <a:latin typeface="Verdana"/>
              </a:rPr>
              <a:t>temperatura d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ccff"/>
                </a:solidFill>
                <a:latin typeface="Verdana"/>
              </a:rPr>
              <a:t>fus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it-IT" sz="2000" spc="-1" strike="noStrike">
                <a:solidFill>
                  <a:srgbClr val="cc00cc"/>
                </a:solidFill>
                <a:latin typeface="Verdana"/>
              </a:rPr>
              <a:t>la temperatura di ebolli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la </a:t>
            </a:r>
            <a:r>
              <a:rPr b="0" lang="it-IT" sz="2000" spc="-1" strike="noStrike">
                <a:solidFill>
                  <a:srgbClr val="ffcc00"/>
                </a:solidFill>
                <a:latin typeface="Verdana"/>
              </a:rPr>
              <a:t>durezz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dipendono dal comportamento di un </a:t>
            </a:r>
            <a:r>
              <a:rPr b="0" lang="it-IT" sz="2000" spc="-1" strike="noStrike">
                <a:solidFill>
                  <a:srgbClr val="008080"/>
                </a:solidFill>
                <a:latin typeface="Verdana"/>
              </a:rPr>
              <a:t>insieme di atom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 quell’ele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332000" y="4005360"/>
            <a:ext cx="215640" cy="2156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403280" y="4581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908000" y="4221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187280" y="530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924360" y="5294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 rot="16920000">
            <a:off x="6949080" y="4436280"/>
            <a:ext cx="7164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20000" y="4508640"/>
            <a:ext cx="358560" cy="36036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515280" y="5294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195640" y="4437000"/>
            <a:ext cx="21564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908000" y="4653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71640" y="4653000"/>
            <a:ext cx="21564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16720" y="4365720"/>
            <a:ext cx="358920" cy="36036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780000" y="3933720"/>
            <a:ext cx="1214280" cy="121464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3780000" y="4867200"/>
            <a:ext cx="28728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995640" y="486900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4067280" y="3932280"/>
            <a:ext cx="1440" cy="9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067280" y="39337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3780000" y="3931920"/>
            <a:ext cx="115236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067280" y="3933720"/>
            <a:ext cx="936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4067280" y="4003560"/>
            <a:ext cx="86508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211640" y="395748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427640" y="429264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859280" y="386064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780000" y="4292640"/>
            <a:ext cx="936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3780000" y="4219200"/>
            <a:ext cx="93636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068720" y="4581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3777840" y="3933720"/>
            <a:ext cx="2905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780000" y="42210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849840" y="4365720"/>
            <a:ext cx="215640" cy="215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4714920" y="4005360"/>
            <a:ext cx="21888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716360" y="4221000"/>
            <a:ext cx="2872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788000" y="443700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932360" y="4724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3780000" y="4867200"/>
            <a:ext cx="115236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067280" y="486900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284720" y="4869000"/>
            <a:ext cx="216000" cy="215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995640" y="3789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635280" y="414972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635280" y="5013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924360" y="4724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72000" y="414972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0" y="5013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324000" y="4438800"/>
            <a:ext cx="3384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f9a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076720" y="4292640"/>
            <a:ext cx="338472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075280" y="2708280"/>
            <a:ext cx="3384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076720" y="1197000"/>
            <a:ext cx="338472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Elementi e</a:t>
            </a:r>
            <a:r>
              <a:rPr b="1" lang="it-IT" sz="32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compost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8" name=""/>
          <p:cNvSpPr/>
          <p:nvPr/>
        </p:nvSpPr>
        <p:spPr>
          <a:xfrm>
            <a:off x="395280" y="1197000"/>
            <a:ext cx="338472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f9a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68360" y="1268280"/>
            <a:ext cx="309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OMPOSTO: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sostanza pura che si  può decomporre, con trattamenti chimici in sostanze più sempl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92720" y="1341360"/>
            <a:ext cx="302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ELEMENTO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ostanza pura che non può essere decomposta in sostanze più sempl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908000" y="2492280"/>
            <a:ext cx="18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280" y="2854440"/>
            <a:ext cx="3456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f9a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203640" y="5877000"/>
            <a:ext cx="2735280" cy="57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5f9a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32720" y="249228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95280" y="3213000"/>
            <a:ext cx="31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OLECOLE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formate da due o più atomi diver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19640" y="314172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OLECOL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formate da atomi di un solo t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908000" y="414972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732720" y="4005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050920" y="5734080"/>
            <a:ext cx="18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052720" y="6093000"/>
            <a:ext cx="1150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940360" y="609300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6804000" y="5732640"/>
            <a:ext cx="1440" cy="50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437080" y="4437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653080" y="4724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869080" y="4508640"/>
            <a:ext cx="215640" cy="2156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291280" y="50068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445080" y="4437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445080" y="4724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732720" y="4724280"/>
            <a:ext cx="215640" cy="21600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300720" y="501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732720" y="4437000"/>
            <a:ext cx="215640" cy="21600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451640" y="4653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 rot="16440000">
            <a:off x="7741800" y="4579920"/>
            <a:ext cx="7128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812000" y="4653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3803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995640" y="5950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T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rot="13140000">
            <a:off x="1763280" y="4655520"/>
            <a:ext cx="7164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rot="19080000">
            <a:off x="1617840" y="487008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68360" y="4941720"/>
            <a:ext cx="79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68360" y="5300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898560" y="4581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rot="15300000">
            <a:off x="754560" y="4579920"/>
            <a:ext cx="7308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11280" y="4724280"/>
            <a:ext cx="14436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rot="8100000">
            <a:off x="2052000" y="4654080"/>
            <a:ext cx="7308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rot="15600000">
            <a:off x="2125800" y="487008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5280" y="458136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476360" y="5164200"/>
            <a:ext cx="86364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cq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rot="14400000">
            <a:off x="2628360" y="4582800"/>
            <a:ext cx="7164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rot="7380000">
            <a:off x="2987640" y="4582440"/>
            <a:ext cx="73080" cy="36036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rot="19080000">
            <a:off x="3130560" y="479880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17460000">
            <a:off x="2484720" y="4725360"/>
            <a:ext cx="14436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1640" y="4581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11460000">
            <a:off x="2771280" y="4725360"/>
            <a:ext cx="7308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rot="720000">
            <a:off x="2701440" y="4940280"/>
            <a:ext cx="14472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95640" y="5164200"/>
            <a:ext cx="17269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ammonia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24000" y="5153040"/>
            <a:ext cx="129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lorur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drog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94920" y="201600"/>
            <a:ext cx="864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Confronto tra le caratteristiche di una miscela e quelle di un compost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8" name=""/>
          <p:cNvSpPr/>
          <p:nvPr/>
        </p:nvSpPr>
        <p:spPr>
          <a:xfrm>
            <a:off x="216000" y="1700280"/>
            <a:ext cx="450036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859280" y="1700280"/>
            <a:ext cx="399744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1197000"/>
            <a:ext cx="46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79280" y="1700280"/>
            <a:ext cx="4572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ISC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 componenti possono essere presenti in </a:t>
            </a:r>
            <a:r>
              <a:rPr b="0" lang="it-IT" sz="1600" spc="-1" strike="noStrike">
                <a:solidFill>
                  <a:srgbClr val="00ccff"/>
                </a:solidFill>
                <a:latin typeface="Verdana"/>
              </a:rPr>
              <a:t>qualsiasi rapporto di p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 componenti della miscela si possono </a:t>
            </a:r>
            <a:r>
              <a:rPr b="0" lang="it-IT" sz="1600" spc="-1" strike="noStrike">
                <a:solidFill>
                  <a:srgbClr val="ff3399"/>
                </a:solidFill>
                <a:latin typeface="Verdana"/>
              </a:rPr>
              <a:t>separare con mezzi fis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iscele non possono essere rappresentate con una </a:t>
            </a:r>
            <a:r>
              <a:rPr b="0" lang="it-IT" sz="1600" spc="-1" strike="noStrike">
                <a:solidFill>
                  <a:srgbClr val="ff6600"/>
                </a:solidFill>
                <a:latin typeface="Verdana"/>
              </a:rPr>
              <a:t>formula chimica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perché i componenti possono essere presenti in quantità varia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826920" y="4629240"/>
            <a:ext cx="216000" cy="2156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2360" y="4700520"/>
            <a:ext cx="21564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258920" y="4989600"/>
            <a:ext cx="216000" cy="21564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835280" y="5132520"/>
            <a:ext cx="215640" cy="2156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971640" y="5276880"/>
            <a:ext cx="21564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411280" y="491652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55640" y="4989600"/>
            <a:ext cx="216000" cy="21564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47640" y="534816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132000" y="534816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211640" y="506088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659640" y="527688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484360" y="534816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843280" y="4508640"/>
            <a:ext cx="216000" cy="21564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708360" y="534816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276720" y="4989600"/>
            <a:ext cx="215640" cy="21564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195640" y="4556160"/>
            <a:ext cx="21564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875640" y="534816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364000" y="506088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580000" y="506088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419640" y="4484520"/>
            <a:ext cx="21564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64000" y="491652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987640" y="4772160"/>
            <a:ext cx="216000" cy="2156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227640" y="470052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443640" y="470052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451640" y="484344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476360" y="455616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667640" y="484344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11280" y="5780160"/>
            <a:ext cx="215640" cy="2160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227640" y="578016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476360" y="5780160"/>
            <a:ext cx="216000" cy="2160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26920" y="570852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zol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763640" y="570852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fer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859280" y="1700280"/>
            <a:ext cx="40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P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859280" y="1916280"/>
            <a:ext cx="3889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59280" y="2133720"/>
            <a:ext cx="4033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 componenti di un composto si possono </a:t>
            </a:r>
            <a:r>
              <a:rPr b="0" lang="it-IT" sz="1600" spc="-1" strike="noStrike">
                <a:solidFill>
                  <a:srgbClr val="0000ff"/>
                </a:solidFill>
                <a:latin typeface="Verdana"/>
              </a:rPr>
              <a:t>separ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soltanto attraverso </a:t>
            </a:r>
            <a:r>
              <a:rPr b="0" lang="it-IT" sz="1600" spc="-1" strike="noStrike">
                <a:solidFill>
                  <a:srgbClr val="0000ff"/>
                </a:solidFill>
                <a:latin typeface="Verdana"/>
              </a:rPr>
              <a:t>reazioni chim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 componenti sono presenti in quantità che stanno tra loro secondo  </a:t>
            </a:r>
            <a:r>
              <a:rPr b="0" lang="it-IT" sz="1600" spc="-1" strike="noStrike">
                <a:solidFill>
                  <a:srgbClr val="00ccff"/>
                </a:solidFill>
                <a:latin typeface="Verdana"/>
              </a:rPr>
              <a:t>precisi rapporti in p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Ha un </a:t>
            </a:r>
            <a:r>
              <a:rPr b="0" lang="it-IT" sz="1600" spc="-1" strike="noStrike">
                <a:solidFill>
                  <a:srgbClr val="ff6600"/>
                </a:solidFill>
                <a:latin typeface="Verdana"/>
              </a:rPr>
              <a:t>formula chimica defin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364000" y="57085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zol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659640" y="57085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fer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5661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Miscela di zolfo e fer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627280" y="5589720"/>
            <a:ext cx="1440000" cy="5032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380360" y="563580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Solfuro di ferro F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236000" y="5589720"/>
            <a:ext cx="1439640" cy="5032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5075280" y="234936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Composti e miscel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5" name=""/>
          <p:cNvSpPr/>
          <p:nvPr/>
        </p:nvSpPr>
        <p:spPr>
          <a:xfrm>
            <a:off x="395280" y="1052640"/>
            <a:ext cx="87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mposto è una sostanza costituita da almeno due atomi di tipo diverso chimicamente combinati in rapporti defin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4000" y="37242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iscela è un insieme di due più sostanze di cui ciascuna mantiene la propria ident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348000" y="1773360"/>
            <a:ext cx="2232000" cy="1942920"/>
          </a:xfrm>
          <a:prstGeom prst="ellipse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348000" y="4438800"/>
            <a:ext cx="2232000" cy="194292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788000" y="2276640"/>
            <a:ext cx="358560" cy="36036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857840" y="256536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641840" y="234936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933800" y="2925720"/>
            <a:ext cx="2178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646520" y="2852640"/>
            <a:ext cx="358920" cy="36036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716360" y="314172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500720" y="292572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067280" y="306864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780000" y="2995560"/>
            <a:ext cx="358560" cy="36036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849840" y="3284640"/>
            <a:ext cx="21744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633840" y="306864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925800" y="234936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638520" y="2276640"/>
            <a:ext cx="358920" cy="36036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708360" y="256536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92360" y="2349360"/>
            <a:ext cx="2178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498920" y="198900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211640" y="1916280"/>
            <a:ext cx="358920" cy="36036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281480" y="220500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065480" y="198900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065480" y="5950080"/>
            <a:ext cx="21744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49840" y="573408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997440" y="5661000"/>
            <a:ext cx="3585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857840" y="573408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641840" y="551808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789440" y="5445000"/>
            <a:ext cx="35892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281480" y="494172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065480" y="4726080"/>
            <a:ext cx="21744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213080" y="4653000"/>
            <a:ext cx="35892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713120" y="4941720"/>
            <a:ext cx="2178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861080" y="4869000"/>
            <a:ext cx="358560" cy="36036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564000" y="5230800"/>
            <a:ext cx="2174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711600" y="5157720"/>
            <a:ext cx="358920" cy="36036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708360" y="4869000"/>
            <a:ext cx="216000" cy="2156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11640" y="5300640"/>
            <a:ext cx="216000" cy="216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219640" y="5300640"/>
            <a:ext cx="289080" cy="28728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afbf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427640" y="5950080"/>
            <a:ext cx="288720" cy="28728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afbf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Proprietà chimich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268280"/>
            <a:ext cx="7993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scrivono ciò che accade quando una sostanza</a:t>
            </a:r>
            <a:r>
              <a:rPr b="0" lang="it-IT" sz="2400" spc="-1" strike="noStrike">
                <a:solidFill>
                  <a:srgbClr val="cc00ff"/>
                </a:solidFill>
                <a:latin typeface="Verdana"/>
              </a:rPr>
              <a:t> interagisce con altre sostanz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ad 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a proprietà chimica del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ferr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è la sua tendenza a </a:t>
            </a:r>
            <a:r>
              <a:rPr b="0" lang="it-IT" sz="2400" spc="-1" strike="noStrike">
                <a:solidFill>
                  <a:srgbClr val="33cc33"/>
                </a:solidFill>
                <a:latin typeface="Verdana"/>
              </a:rPr>
              <a:t>reagir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</a:t>
            </a:r>
            <a:r>
              <a:rPr b="0" lang="it-IT" sz="24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</a:rPr>
              <a:t>l’ossigen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>
                <a:solidFill>
                  <a:srgbClr val="cc9900"/>
                </a:solidFill>
                <a:latin typeface="Verdana"/>
              </a:rPr>
              <a:t>l’umid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l’aria ricoprendosi di </a:t>
            </a:r>
            <a:r>
              <a:rPr b="0" lang="it-IT" sz="2400" spc="-1" strike="noStrike">
                <a:solidFill>
                  <a:srgbClr val="33ccff"/>
                </a:solidFill>
                <a:latin typeface="Verdana"/>
              </a:rPr>
              <a:t>ruggi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a proprietà chimica del 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</a:rPr>
              <a:t>metan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è quella di reagire vivacemente con </a:t>
            </a:r>
            <a:r>
              <a:rPr b="0" lang="it-IT" sz="2400" spc="-1" strike="noStrike">
                <a:solidFill>
                  <a:srgbClr val="2020e0"/>
                </a:solidFill>
                <a:latin typeface="Verdana"/>
              </a:rPr>
              <a:t>l’ossigeno,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roducendo notevoli quantità di </a:t>
            </a:r>
            <a:r>
              <a:rPr b="0" lang="it-IT" sz="2400" spc="-1" strike="noStrike">
                <a:solidFill>
                  <a:srgbClr val="ff3399"/>
                </a:solidFill>
                <a:latin typeface="Verdana"/>
              </a:rPr>
              <a:t>cal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Dalle miscele alle sostanze pur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844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125360"/>
            <a:ext cx="889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rpi formati da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due o più tipi di mater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cioè da </a:t>
            </a:r>
            <a:r>
              <a:rPr b="0" lang="it-IT" sz="2400" spc="-1" strike="noStrike">
                <a:solidFill>
                  <a:srgbClr val="ff9900"/>
                </a:solidFill>
                <a:latin typeface="Verdana"/>
              </a:rPr>
              <a:t>due o più sostanze,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formano i </a:t>
            </a:r>
            <a:r>
              <a:rPr b="0" lang="it-IT" sz="2400" spc="-1" strike="noStrike">
                <a:solidFill>
                  <a:srgbClr val="ff33cc"/>
                </a:solidFill>
                <a:latin typeface="Verdana"/>
              </a:rPr>
              <a:t>miscug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060640"/>
            <a:ext cx="87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miscugli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è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omogene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quando le sostanze che lo formano, cioè </a:t>
            </a:r>
            <a:r>
              <a:rPr b="0" lang="it-IT" sz="2400" spc="-1" strike="noStrike">
                <a:solidFill>
                  <a:srgbClr val="d60093"/>
                </a:solidFill>
                <a:latin typeface="Verdana"/>
              </a:rPr>
              <a:t>i suoi component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si trovano </a:t>
            </a:r>
            <a:r>
              <a:rPr b="0" lang="it-IT" sz="2400" spc="-1" strike="noStrike">
                <a:solidFill>
                  <a:srgbClr val="ffcc00"/>
                </a:solidFill>
                <a:latin typeface="Verdana"/>
              </a:rPr>
              <a:t>mescolati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in modo uniforme.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Le proprie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i un miscuglio omogeneo sono le </a:t>
            </a:r>
            <a:r>
              <a:rPr b="0" lang="it-IT" sz="2400" spc="-1" strike="noStrike">
                <a:solidFill>
                  <a:srgbClr val="3b812f"/>
                </a:solidFill>
                <a:latin typeface="Verdana"/>
              </a:rPr>
              <a:t>stess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it-IT" sz="2400" spc="-1" strike="noStrike">
                <a:solidFill>
                  <a:srgbClr val="ff00ff"/>
                </a:solidFill>
                <a:latin typeface="Verdana"/>
              </a:rPr>
              <a:t>qualunque par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 campione. I componenti non si distinguono neanche con il microsc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6000" y="4365720"/>
            <a:ext cx="89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0" lang="it-IT" sz="2400" spc="-1" strike="noStrike">
                <a:solidFill>
                  <a:srgbClr val="ff0066"/>
                </a:solidFill>
                <a:latin typeface="Verdana"/>
              </a:rPr>
              <a:t>miscele eterogene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sono quelle in cui </a:t>
            </a:r>
            <a:r>
              <a:rPr b="0" lang="it-IT" sz="2400" spc="-1" strike="noStrike">
                <a:solidFill>
                  <a:srgbClr val="3b812f"/>
                </a:solidFill>
                <a:latin typeface="Verdana"/>
              </a:rPr>
              <a:t>si posson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3b812f"/>
                </a:solidFill>
                <a:latin typeface="Verdana"/>
              </a:rPr>
              <a:t>facilmente riconoscere i component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visivamente o con l’aiuto di un microscopio. Si possono distinguere vari tipi di miscele eterogen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Miscugli eterogen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268280"/>
            <a:ext cx="8424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iscela </a:t>
            </a:r>
            <a:r>
              <a:rPr b="0" lang="it-IT" sz="2400" spc="-1" strike="noStrike">
                <a:solidFill>
                  <a:srgbClr val="cc0000"/>
                </a:solidFill>
                <a:latin typeface="Verdana"/>
              </a:rPr>
              <a:t>solido-soli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es. granito, formato da biotite, feldspato, quarzo e ornebl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iscela </a:t>
            </a:r>
            <a:r>
              <a:rPr b="0" lang="it-IT" sz="2400" spc="-1" strike="noStrike">
                <a:solidFill>
                  <a:srgbClr val="d60093"/>
                </a:solidFill>
                <a:latin typeface="Verdana"/>
              </a:rPr>
              <a:t>solido-liqui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tta </a:t>
            </a:r>
            <a:r>
              <a:rPr b="0" lang="it-IT" sz="2400" spc="-1" strike="noStrike">
                <a:solidFill>
                  <a:srgbClr val="d60093"/>
                </a:solidFill>
                <a:latin typeface="Verdana"/>
              </a:rPr>
              <a:t>sospens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acqua e sab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iscela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liquido-liquid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tta </a:t>
            </a:r>
            <a:r>
              <a:rPr b="0" lang="it-IT" sz="2400" spc="-1" strike="noStrike">
                <a:solidFill>
                  <a:srgbClr val="fe8602"/>
                </a:solidFill>
                <a:latin typeface="Verdana"/>
              </a:rPr>
              <a:t>emuls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acqua e o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iscela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liquido-gas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tta </a:t>
            </a:r>
            <a:r>
              <a:rPr b="0" lang="it-IT" sz="2400" spc="-1" strike="noStrike">
                <a:solidFill>
                  <a:srgbClr val="66ff33"/>
                </a:solidFill>
                <a:latin typeface="Verdana"/>
              </a:rPr>
              <a:t>schi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Metodi per separare i miscugli eterogenei</a:t>
            </a:r>
            <a:br>
              <a:rPr sz="3200"/>
            </a:br>
            <a:r>
              <a:rPr b="0" lang="it-IT" sz="3600" spc="-1" strike="noStrike">
                <a:solidFill>
                  <a:srgbClr val="006633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4292640"/>
            <a:ext cx="83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centrifug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è una tecnica che separa i componenti in base alla </a:t>
            </a:r>
            <a:r>
              <a:rPr b="0" lang="it-IT" sz="2400" spc="-1" strike="noStrike">
                <a:solidFill>
                  <a:srgbClr val="d60093"/>
                </a:solidFill>
                <a:latin typeface="Verdana"/>
              </a:rPr>
              <a:t>differente dens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 La centrifuga rende più rapida la naturale stratificazione dei  componenti i miscugli eterogen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84280"/>
            <a:ext cx="84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componenti di un miscuglio possono essere separati. Le tecniche a disposizione per separare un miscuglio eterogeneo 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it-IT" sz="2400" spc="-1" strike="noStrike">
                <a:solidFill>
                  <a:srgbClr val="0066ff"/>
                </a:solidFill>
                <a:latin typeface="Verdana"/>
              </a:rPr>
              <a:t>centrifug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it-IT" sz="2400" spc="-1" strike="noStrike">
                <a:solidFill>
                  <a:srgbClr val="ff6600"/>
                </a:solidFill>
                <a:latin typeface="Verdana"/>
              </a:rPr>
              <a:t>estrazione con solve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cristallizzazion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it-IT" sz="2400" spc="-1" strike="noStrike">
                <a:solidFill>
                  <a:srgbClr val="00ff00"/>
                </a:solidFill>
                <a:latin typeface="Verdana"/>
              </a:rPr>
              <a:t>fil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419640" y="4435560"/>
            <a:ext cx="172872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06800" y="2854440"/>
            <a:ext cx="5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47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Estrazione con solvent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3718080" y="3933720"/>
            <a:ext cx="115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18080" y="3502080"/>
            <a:ext cx="1152360" cy="43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rot="20520000">
            <a:off x="3664080" y="3385800"/>
            <a:ext cx="645840" cy="906480"/>
          </a:xfrm>
          <a:custGeom>
            <a:avLst/>
            <a:gdLst>
              <a:gd name="textAreaLeft" fmla="*/ 322920 w 645840"/>
              <a:gd name="textAreaRight" fmla="*/ 645480 w 645840"/>
              <a:gd name="textAreaTop" fmla="*/ 46800 h 906480"/>
              <a:gd name="textAreaBottom" fmla="*/ 453240 h 906480"/>
            </a:gdLst>
            <a:ahLst/>
            <a:rect l="textAreaLeft" t="textAreaTop" r="textAreaRight" b="textAreaBottom"/>
            <a:pathLst>
              <a:path stroke="0" w="21600" h="21600">
                <a:moveTo>
                  <a:pt x="15501" y="1077"/>
                </a:moveTo>
                <a:arcTo wR="10800" hR="10800" stAng="-3851864" swAng="3655235"/>
                <a:lnTo>
                  <a:pt x="10800" y="10800"/>
                </a:lnTo>
                <a:close/>
              </a:path>
              <a:path fill="none" w="21600" h="21600">
                <a:moveTo>
                  <a:pt x="15501" y="1077"/>
                </a:moveTo>
                <a:arcTo wR="10800" hR="10800" stAng="-3851864" swAng="3655235"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rot="9360000">
            <a:off x="4393080" y="3161520"/>
            <a:ext cx="507960" cy="878040"/>
          </a:xfrm>
          <a:custGeom>
            <a:avLst/>
            <a:gdLst>
              <a:gd name="textAreaLeft" fmla="*/ 253440 w 507960"/>
              <a:gd name="textAreaRight" fmla="*/ 507600 w 507960"/>
              <a:gd name="textAreaTop" fmla="*/ 24840 h 878040"/>
              <a:gd name="textAreaBottom" fmla="*/ 438840 h 878040"/>
            </a:gdLst>
            <a:ahLst/>
            <a:rect l="textAreaLeft" t="textAreaTop" r="textAreaRight" b="textAreaBottom"/>
            <a:pathLst>
              <a:path stroke="0" w="21600" h="21600">
                <a:moveTo>
                  <a:pt x="14299" y="583"/>
                </a:moveTo>
                <a:arcTo wR="10800" hR="10800" stAng="-4265636" swAng="4322262"/>
                <a:lnTo>
                  <a:pt x="10800" y="10800"/>
                </a:lnTo>
                <a:close/>
              </a:path>
              <a:path fill="none" w="21600" h="21600">
                <a:moveTo>
                  <a:pt x="14299" y="583"/>
                </a:moveTo>
                <a:arcTo wR="10800" hR="10800" stAng="-4265636" swAng="4322262"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365720" y="4365720"/>
            <a:ext cx="288720" cy="720720"/>
          </a:xfrm>
          <a:custGeom>
            <a:avLst/>
            <a:gdLst>
              <a:gd name="textAreaLeft" fmla="*/ 144720 w 288720"/>
              <a:gd name="textAreaRight" fmla="*/ 289080 w 28872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62320" y="4797360"/>
            <a:ext cx="3816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9640" y="4719600"/>
            <a:ext cx="3024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005000" y="465444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05000" y="472608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33720" y="4581360"/>
            <a:ext cx="7308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078440" y="2919240"/>
            <a:ext cx="6336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373640" y="2921040"/>
            <a:ext cx="5868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 rot="11280000">
            <a:off x="4433400" y="2861640"/>
            <a:ext cx="142920" cy="144360"/>
          </a:xfrm>
          <a:custGeom>
            <a:avLst/>
            <a:gdLst>
              <a:gd name="textAreaLeft" fmla="*/ 71280 w 142920"/>
              <a:gd name="textAreaRight" fmla="*/ 142920 w 142920"/>
              <a:gd name="textAreaTop" fmla="*/ -360 h 144360"/>
              <a:gd name="textAreaBottom" fmla="*/ 81000 h 14436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8606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6068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 rot="16020000">
            <a:off x="3936240" y="2855160"/>
            <a:ext cx="142920" cy="142920"/>
          </a:xfrm>
          <a:custGeom>
            <a:avLst/>
            <a:gdLst>
              <a:gd name="textAreaLeft" fmla="*/ 71280 w 142920"/>
              <a:gd name="textAreaRight" fmla="*/ 142920 w 142920"/>
              <a:gd name="textAreaTop" fmla="*/ -360 h 142920"/>
              <a:gd name="textAreaBottom" fmla="*/ 70920 h 14292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580000">
            <a:off x="3574440" y="2493720"/>
            <a:ext cx="571680" cy="613080"/>
          </a:xfrm>
          <a:custGeom>
            <a:avLst/>
            <a:gdLst>
              <a:gd name="textAreaLeft" fmla="*/ 158760 w 571680"/>
              <a:gd name="textAreaRight" fmla="*/ 306720 w 571680"/>
              <a:gd name="textAreaTop" fmla="*/ 0 h 613080"/>
              <a:gd name="textAreaBottom" fmla="*/ 306360 h 613080"/>
            </a:gdLst>
            <a:ahLst/>
            <a:rect l="textAreaLeft" t="textAreaTop" r="textAreaRight" b="textAreaBottom"/>
            <a:pathLst>
              <a:path stroke="0" w="21600" h="21600">
                <a:moveTo>
                  <a:pt x="6012" y="1119"/>
                </a:moveTo>
                <a:arcTo wR="10800" hR="10800" stAng="-6978853" swAng="1779711"/>
                <a:lnTo>
                  <a:pt x="10800" y="10800"/>
                </a:lnTo>
                <a:close/>
              </a:path>
              <a:path fill="none" w="21600" h="21600">
                <a:moveTo>
                  <a:pt x="6012" y="1119"/>
                </a:moveTo>
                <a:arcTo wR="10800" hR="10800" stAng="-6978853" swAng="177971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7220000">
            <a:off x="4374360" y="2476800"/>
            <a:ext cx="585720" cy="612720"/>
          </a:xfrm>
          <a:custGeom>
            <a:avLst/>
            <a:gdLst>
              <a:gd name="textAreaLeft" fmla="*/ 162720 w 585720"/>
              <a:gd name="textAreaRight" fmla="*/ 324720 w 585720"/>
              <a:gd name="textAreaTop" fmla="*/ 0 h 612720"/>
              <a:gd name="textAreaBottom" fmla="*/ 306360 h 612720"/>
            </a:gdLst>
            <a:ahLst/>
            <a:rect l="textAreaLeft" t="textAreaTop" r="textAreaRight" b="textAreaBottom"/>
            <a:pathLst>
              <a:path stroke="0" w="21600" h="21600">
                <a:moveTo>
                  <a:pt x="6012" y="1119"/>
                </a:moveTo>
                <a:arcTo wR="10800" hR="10800" stAng="-6978853" swAng="1934912"/>
                <a:lnTo>
                  <a:pt x="10800" y="10800"/>
                </a:lnTo>
                <a:close/>
              </a:path>
              <a:path fill="none" w="21600" h="21600">
                <a:moveTo>
                  <a:pt x="6012" y="1119"/>
                </a:moveTo>
                <a:arcTo wR="10800" hR="10800" stAng="-6978853" swAng="193491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78440" y="2565360"/>
            <a:ext cx="360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78440" y="2781360"/>
            <a:ext cx="358560" cy="360360"/>
          </a:xfrm>
          <a:custGeom>
            <a:avLst/>
            <a:gdLst>
              <a:gd name="textAreaLeft" fmla="*/ 78840 w 358560"/>
              <a:gd name="textAreaRight" fmla="*/ 279720 w 35856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46440" y="3141720"/>
            <a:ext cx="1295280" cy="12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660000">
            <a:off x="3543480" y="4260600"/>
            <a:ext cx="574560" cy="720720"/>
          </a:xfrm>
          <a:custGeom>
            <a:avLst/>
            <a:gdLst>
              <a:gd name="textAreaLeft" fmla="*/ 287280 w 574560"/>
              <a:gd name="textAreaRight" fmla="*/ 574560 w 57456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4004280" y="3503880"/>
            <a:ext cx="57636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46440" y="3141720"/>
            <a:ext cx="1295280" cy="12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100000">
            <a:off x="4233600" y="4076640"/>
            <a:ext cx="347400" cy="6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352" y="2351"/>
                  <a:pt x="13104" y="5080"/>
                  <a:pt x="13104" y="10800"/>
                </a:cubicBezTo>
                <a:cubicBezTo>
                  <a:pt x="13104" y="16520"/>
                  <a:pt x="17352" y="1924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9300000">
            <a:off x="3928320" y="3989160"/>
            <a:ext cx="352440" cy="78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54" y="2136"/>
                  <a:pt x="11908" y="5080"/>
                  <a:pt x="11908" y="10800"/>
                </a:cubicBezTo>
                <a:cubicBezTo>
                  <a:pt x="11908" y="16520"/>
                  <a:pt x="16754" y="1946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83664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 si devono separare due solidi, ad esempio </a:t>
            </a:r>
            <a:r>
              <a:rPr b="0" lang="it-IT" sz="2000" spc="-1" strike="noStrike">
                <a:solidFill>
                  <a:srgbClr val="800080"/>
                </a:solidFill>
                <a:latin typeface="Verdana"/>
              </a:rPr>
              <a:t>iodi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000" spc="-1" strike="noStrike">
                <a:solidFill>
                  <a:srgbClr val="0066ff"/>
                </a:solidFill>
                <a:latin typeface="Verdana"/>
              </a:rPr>
              <a:t>solfato di ram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si  trattano con due </a:t>
            </a:r>
            <a:r>
              <a:rPr b="0" lang="it-IT" sz="2000" spc="-1" strike="noStrike">
                <a:solidFill>
                  <a:srgbClr val="00ff00"/>
                </a:solidFill>
                <a:latin typeface="Verdana"/>
              </a:rPr>
              <a:t>solventi non miscibil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in cui le due sostanze presentano diversa solubilità. Ponendo il tutto in un </a:t>
            </a: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imbuto separator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le due soluzioni stratificheranno e così sarà possibile separarle. I solidi si otterranno per successiva </a:t>
            </a:r>
            <a:r>
              <a:rPr b="0" lang="it-IT" sz="2000" spc="-1" strike="noStrike">
                <a:solidFill>
                  <a:srgbClr val="0066ff"/>
                </a:solidFill>
                <a:latin typeface="Verdana"/>
              </a:rPr>
              <a:t>evaporazione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el solv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797360"/>
            <a:ext cx="18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076720" y="4595760"/>
            <a:ext cx="432000" cy="574560"/>
          </a:xfrm>
          <a:custGeom>
            <a:avLst/>
            <a:gdLst>
              <a:gd name="textAreaLeft" fmla="*/ 216000 w 432000"/>
              <a:gd name="textAreaRight" fmla="*/ 432000 w 432000"/>
              <a:gd name="textAreaTop" fmla="*/ 58320 h 574560"/>
              <a:gd name="textAreaBottom" fmla="*/ 287280 h 574560"/>
            </a:gdLst>
            <a:ahLst/>
            <a:rect l="textAreaLeft" t="textAreaTop" r="textAreaRight" b="textAreaBottom"/>
            <a:pathLst>
              <a:path stroke="0" w="21600" h="21600">
                <a:moveTo>
                  <a:pt x="17209" y="2107"/>
                </a:moveTo>
                <a:arcTo wR="10800" hR="10800" stAng="-3215895" swAng="3215895"/>
                <a:lnTo>
                  <a:pt x="10800" y="10800"/>
                </a:lnTo>
                <a:close/>
              </a:path>
              <a:path fill="none" w="21600" h="21600">
                <a:moveTo>
                  <a:pt x="17209" y="2107"/>
                </a:moveTo>
                <a:arcTo wR="10800" hR="10800" stAng="-3215895" swAng="321589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4653000"/>
            <a:ext cx="288720" cy="430200"/>
          </a:xfrm>
          <a:custGeom>
            <a:avLst/>
            <a:gdLst>
              <a:gd name="textAreaLeft" fmla="*/ 144360 w 288720"/>
              <a:gd name="textAreaRight" fmla="*/ 288720 w 288720"/>
              <a:gd name="textAreaTop" fmla="*/ 23760 h 430200"/>
              <a:gd name="textAreaBottom" fmla="*/ 226800 h 430200"/>
            </a:gdLst>
            <a:ahLst/>
            <a:rect l="textAreaLeft" t="textAreaTop" r="textAreaRight" b="textAreaBottom"/>
            <a:pathLst>
              <a:path stroke="0" w="21600" h="21600">
                <a:moveTo>
                  <a:pt x="15589" y="1120"/>
                </a:moveTo>
                <a:arcTo wR="10800" hR="10800" stAng="-3820799" swAng="4016058"/>
                <a:lnTo>
                  <a:pt x="10800" y="10800"/>
                </a:lnTo>
                <a:close/>
              </a:path>
              <a:path fill="none" w="21600" h="21600">
                <a:moveTo>
                  <a:pt x="15589" y="1120"/>
                </a:moveTo>
                <a:arcTo wR="10800" hR="10800" stAng="-3820799" swAng="401605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4867200"/>
            <a:ext cx="1800" cy="15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3502080"/>
            <a:ext cx="1150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472560" y="3499560"/>
            <a:ext cx="1675080" cy="435240"/>
          </a:xfrm>
          <a:custGeom>
            <a:avLst/>
            <a:gdLst>
              <a:gd name="textAreaLeft" fmla="*/ 215640 w 1675080"/>
              <a:gd name="textAreaRight" fmla="*/ 1513440 w 1675080"/>
              <a:gd name="textAreaTop" fmla="*/ -360 h 435240"/>
              <a:gd name="textAreaBottom" fmla="*/ 217080 h 435240"/>
            </a:gdLst>
            <a:ahLst/>
            <a:rect l="textAreaLeft" t="textAreaTop" r="textAreaRight" b="textAreaBottom"/>
            <a:pathLst>
              <a:path stroke="0" w="21600" h="21600">
                <a:moveTo>
                  <a:pt x="2665" y="3696"/>
                </a:moveTo>
                <a:arcTo wR="10800" hR="10800" stAng="-8332200" swAng="6165732"/>
                <a:lnTo>
                  <a:pt x="10800" y="10800"/>
                </a:lnTo>
                <a:close/>
              </a:path>
              <a:path fill="none" w="21600" h="21600">
                <a:moveTo>
                  <a:pt x="2665" y="3696"/>
                </a:moveTo>
                <a:arcTo wR="10800" hR="10800" stAng="-8332200" swAng="61657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646440"/>
            <a:ext cx="136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3284640"/>
            <a:ext cx="2879640" cy="64260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luzione di cromato di potassio  in acq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770200" y="407844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716280"/>
            <a:ext cx="2520720" cy="64260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luzione di iodio in trie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302080"/>
            <a:ext cx="73080" cy="144720"/>
          </a:xfrm>
          <a:prstGeom prst="ellipse">
            <a:avLst/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22800" y="515772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1460000">
            <a:off x="4093920" y="4652280"/>
            <a:ext cx="230040" cy="579240"/>
          </a:xfrm>
          <a:prstGeom prst="rtTriangl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4132080" y="4527360"/>
            <a:ext cx="217440" cy="328680"/>
          </a:xfrm>
          <a:custGeom>
            <a:avLst/>
            <a:gdLst>
              <a:gd name="textAreaLeft" fmla="*/ 47880 w 217440"/>
              <a:gd name="textAreaRight" fmla="*/ 169560 w 217440"/>
              <a:gd name="textAreaTop" fmla="*/ 72000 h 328680"/>
              <a:gd name="textAreaBottom" fmla="*/ 256680 h 32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446800"/>
            <a:ext cx="1584360" cy="1295280"/>
          </a:xfrm>
          <a:prstGeom prst="can">
            <a:avLst>
              <a:gd name="adj" fmla="val 48976"/>
            </a:avLst>
          </a:prstGeom>
          <a:gradFill rotWithShape="0">
            <a:gsLst>
              <a:gs pos="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6168960"/>
            <a:ext cx="1584360" cy="644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5516640"/>
            <a:ext cx="73080" cy="144360"/>
          </a:xfrm>
          <a:prstGeom prst="ellipse">
            <a:avLst/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6920" y="4581360"/>
            <a:ext cx="2233800" cy="1872000"/>
          </a:xfrm>
          <a:prstGeom prst="irregularSeal1">
            <a:avLst/>
          </a:prstGeom>
          <a:gradFill rotWithShape="0">
            <a:gsLst>
              <a:gs pos="0">
                <a:srgbClr val="ff66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6075360"/>
            <a:ext cx="288720" cy="738360"/>
          </a:xfrm>
          <a:prstGeom prst="can">
            <a:avLst>
              <a:gd name="adj" fmla="val 11634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6075360"/>
            <a:ext cx="432000" cy="216000"/>
          </a:xfrm>
          <a:prstGeom prst="can">
            <a:avLst>
              <a:gd name="adj" fmla="val 45555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780080"/>
            <a:ext cx="71640" cy="201600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2016000"/>
              <a:gd name="textAreaBottom" fmla="*/ 2012760 h 2016000"/>
            </a:gdLst>
            <a:ahLst/>
            <a:rect l="textAreaLeft" t="textAreaTop" r="textAreaRight" b="textAreaBottom"/>
            <a:pathLst>
              <a:path w="21600" h="604908">
                <a:moveTo>
                  <a:pt x="3600" y="0"/>
                </a:moveTo>
                <a:arcTo wR="3600" hR="3600" stAng="16200000" swAng="-5400000"/>
                <a:lnTo>
                  <a:pt x="0" y="601308"/>
                </a:lnTo>
                <a:arcTo wR="3600" hR="3600" stAng="10800000" swAng="-5400000"/>
                <a:lnTo>
                  <a:pt x="18000" y="6049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4635360"/>
            <a:ext cx="71640" cy="216072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2160720"/>
              <a:gd name="textAreaBottom" fmla="*/ 2157480 h 2160720"/>
            </a:gdLst>
            <a:ahLst/>
            <a:rect l="textAreaLeft" t="textAreaTop" r="textAreaRight" b="textAreaBottom"/>
            <a:pathLst>
              <a:path w="21600" h="648324">
                <a:moveTo>
                  <a:pt x="3600" y="0"/>
                </a:moveTo>
                <a:arcTo wR="3600" hR="3600" stAng="16200000" swAng="-5400000"/>
                <a:lnTo>
                  <a:pt x="0" y="644724"/>
                </a:lnTo>
                <a:arcTo wR="3600" hR="3600" stAng="10800000" swAng="-5400000"/>
                <a:lnTo>
                  <a:pt x="18000" y="648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Cristallizzazion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1195560" y="2494080"/>
            <a:ext cx="1730160" cy="41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2906640"/>
            <a:ext cx="144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7240" y="2630520"/>
            <a:ext cx="282600" cy="585720"/>
          </a:xfrm>
          <a:custGeom>
            <a:avLst/>
            <a:gdLst>
              <a:gd name="textAreaLeft" fmla="*/ 141120 w 282600"/>
              <a:gd name="textAreaRight" fmla="*/ 282600 w 282600"/>
              <a:gd name="textAreaTop" fmla="*/ 59400 h 585720"/>
              <a:gd name="textAreaBottom" fmla="*/ 292680 h 585720"/>
            </a:gdLst>
            <a:ahLst/>
            <a:rect l="textAreaLeft" t="textAreaTop" r="textAreaRight" b="textAreaBottom"/>
            <a:pathLst>
              <a:path stroke="0" w="21600" h="21600">
                <a:moveTo>
                  <a:pt x="17209" y="2107"/>
                </a:moveTo>
                <a:arcTo wR="10800" hR="10800" stAng="-3215895" swAng="3215895"/>
                <a:lnTo>
                  <a:pt x="10800" y="10800"/>
                </a:lnTo>
                <a:close/>
              </a:path>
              <a:path fill="none" w="21600" h="21600">
                <a:moveTo>
                  <a:pt x="17209" y="2107"/>
                </a:moveTo>
                <a:arcTo wR="10800" hR="10800" stAng="-3215895" swAng="321589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706840"/>
            <a:ext cx="145800" cy="403200"/>
          </a:xfrm>
          <a:custGeom>
            <a:avLst/>
            <a:gdLst>
              <a:gd name="textAreaLeft" fmla="*/ 72720 w 145800"/>
              <a:gd name="textAreaRight" fmla="*/ 145800 w 145800"/>
              <a:gd name="textAreaTop" fmla="*/ 0 h 403200"/>
              <a:gd name="textAreaBottom" fmla="*/ 212760 h 4032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5952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952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2906640"/>
            <a:ext cx="144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4560" y="1098720"/>
            <a:ext cx="8101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i scioglie il solido nella minima quantità di solvente a caldo, sfruttando il fatto che la maggior parte dei solidi è più solubile a caldo che a freddo. Si filtra la soluzione, per allontanare le impurezze insolubi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9640" y="4149720"/>
            <a:ext cx="172872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4581360"/>
            <a:ext cx="144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879600" y="4303800"/>
            <a:ext cx="282600" cy="587160"/>
          </a:xfrm>
          <a:custGeom>
            <a:avLst/>
            <a:gdLst>
              <a:gd name="textAreaLeft" fmla="*/ 141120 w 282600"/>
              <a:gd name="textAreaRight" fmla="*/ 282600 w 282600"/>
              <a:gd name="textAreaTop" fmla="*/ 59400 h 587160"/>
              <a:gd name="textAreaBottom" fmla="*/ 293400 h 587160"/>
            </a:gdLst>
            <a:ahLst/>
            <a:rect l="textAreaLeft" t="textAreaTop" r="textAreaRight" b="textAreaBottom"/>
            <a:pathLst>
              <a:path stroke="0" w="21600" h="21600">
                <a:moveTo>
                  <a:pt x="17209" y="2107"/>
                </a:moveTo>
                <a:arcTo wR="10800" hR="10800" stAng="-3215895" swAng="3215895"/>
                <a:lnTo>
                  <a:pt x="10800" y="10800"/>
                </a:lnTo>
                <a:close/>
              </a:path>
              <a:path fill="none" w="21600" h="21600">
                <a:moveTo>
                  <a:pt x="17209" y="2107"/>
                </a:moveTo>
                <a:arcTo wR="10800" hR="10800" stAng="-3215895" swAng="321589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6560" y="4381560"/>
            <a:ext cx="146160" cy="403200"/>
          </a:xfrm>
          <a:custGeom>
            <a:avLst/>
            <a:gdLst>
              <a:gd name="textAreaLeft" fmla="*/ 73080 w 146160"/>
              <a:gd name="textAreaRight" fmla="*/ 146160 w 146160"/>
              <a:gd name="textAreaTop" fmla="*/ 0 h 403200"/>
              <a:gd name="textAreaBottom" fmla="*/ 212760 h 4032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5952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952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91280" y="4581360"/>
            <a:ext cx="1440" cy="13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6165720"/>
            <a:ext cx="142920" cy="144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5950080"/>
            <a:ext cx="142920" cy="144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5950080"/>
            <a:ext cx="142920" cy="144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6165720"/>
            <a:ext cx="142920" cy="144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5445000"/>
            <a:ext cx="2663640" cy="1081080"/>
          </a:xfrm>
          <a:prstGeom prst="can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5013360"/>
            <a:ext cx="1585800" cy="1440000"/>
          </a:xfrm>
          <a:prstGeom prst="can">
            <a:avLst>
              <a:gd name="adj" fmla="val 30208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5157720"/>
            <a:ext cx="2663640" cy="1368360"/>
          </a:xfrm>
          <a:prstGeom prst="can">
            <a:avLst>
              <a:gd name="adj" fmla="val 39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5016600"/>
            <a:ext cx="1584360" cy="428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520000">
            <a:off x="4857480" y="6095880"/>
            <a:ext cx="28872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5280" y="6165720"/>
            <a:ext cx="28872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860000">
            <a:off x="5292720" y="6165720"/>
            <a:ext cx="28908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19640" y="5950080"/>
            <a:ext cx="216000" cy="2156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320000">
            <a:off x="5506560" y="6237360"/>
            <a:ext cx="28908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6237360"/>
            <a:ext cx="21600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5878440"/>
            <a:ext cx="21600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16720" y="6165720"/>
            <a:ext cx="21600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4360" y="5878440"/>
            <a:ext cx="21600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220000">
            <a:off x="7094160" y="6092640"/>
            <a:ext cx="28908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100000">
            <a:off x="6805440" y="6094440"/>
            <a:ext cx="28908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8840000">
            <a:off x="7018920" y="6021720"/>
            <a:ext cx="28908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93080" y="6165720"/>
            <a:ext cx="21564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6237360"/>
            <a:ext cx="21600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0720" y="6237360"/>
            <a:ext cx="28908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860000">
            <a:off x="6511680" y="6256440"/>
            <a:ext cx="215640" cy="2156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4203720"/>
            <a:ext cx="1584360" cy="431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724360" y="6164280"/>
            <a:ext cx="289080" cy="7128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740000">
            <a:off x="5797080" y="6019560"/>
            <a:ext cx="144720" cy="7308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940360" y="6094440"/>
            <a:ext cx="289080" cy="7128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72360" y="5950080"/>
            <a:ext cx="288720" cy="7128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5950080"/>
            <a:ext cx="144720" cy="7272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580000" y="5949360"/>
            <a:ext cx="216000" cy="214200"/>
          </a:xfrm>
          <a:prstGeom prst="octagon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227640" y="6020640"/>
            <a:ext cx="216000" cy="7308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740000">
            <a:off x="6660720" y="6019920"/>
            <a:ext cx="144360" cy="7308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9560000">
            <a:off x="5940360" y="5951160"/>
            <a:ext cx="144360" cy="73080"/>
          </a:xfrm>
          <a:prstGeom prst="octagon">
            <a:avLst>
              <a:gd name="adj" fmla="val 2314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0720" y="6021360"/>
            <a:ext cx="21600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9260000">
            <a:off x="5724000" y="6240240"/>
            <a:ext cx="236880" cy="2016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6237360"/>
            <a:ext cx="28908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0520000">
            <a:off x="6011640" y="6167520"/>
            <a:ext cx="288720" cy="2174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08720" y="6094440"/>
            <a:ext cx="215640" cy="71280"/>
          </a:xfrm>
          <a:prstGeom prst="octagon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588000" y="6094440"/>
            <a:ext cx="216000" cy="71280"/>
          </a:xfrm>
          <a:prstGeom prst="octagon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8180000">
            <a:off x="6587640" y="6165360"/>
            <a:ext cx="21600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1655640" y="4295520"/>
            <a:ext cx="649440" cy="1873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00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4078440"/>
            <a:ext cx="3600720" cy="100800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3195720"/>
            <a:ext cx="1584360" cy="1439640"/>
          </a:xfrm>
          <a:prstGeom prst="can">
            <a:avLst>
              <a:gd name="adj" fmla="val 30208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104920" y="2333160"/>
            <a:ext cx="61128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033640" y="2336760"/>
            <a:ext cx="61272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080000">
            <a:off x="2644560" y="2276640"/>
            <a:ext cx="69840" cy="112680"/>
          </a:xfrm>
          <a:custGeom>
            <a:avLst/>
            <a:gdLst>
              <a:gd name="textAreaLeft" fmla="*/ 0 w 69840"/>
              <a:gd name="textAreaRight" fmla="*/ 69120 w 69840"/>
              <a:gd name="textAreaTop" fmla="*/ 0 h 112680"/>
              <a:gd name="textAreaBottom" fmla="*/ 71280 h 112680"/>
            </a:gdLst>
            <a:ahLst/>
            <a:rect l="textAreaLeft" t="textAreaTop" r="textAreaRight" b="textAreaBottom"/>
            <a:pathLst>
              <a:path stroke="0" w="21600" h="21600">
                <a:moveTo>
                  <a:pt x="329" y="13447"/>
                </a:moveTo>
                <a:arcTo wR="10800" hR="10800" stAng="9948686" swAng="10856962"/>
                <a:lnTo>
                  <a:pt x="10800" y="10800"/>
                </a:lnTo>
                <a:close/>
              </a:path>
              <a:path fill="none" w="21600" h="21600">
                <a:moveTo>
                  <a:pt x="329" y="13447"/>
                </a:moveTo>
                <a:arcTo wR="10800" hR="10800" stAng="9948686" swAng="1085696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320000">
            <a:off x="2037960" y="3718080"/>
            <a:ext cx="73080" cy="144360"/>
          </a:xfrm>
          <a:custGeom>
            <a:avLst/>
            <a:gdLst>
              <a:gd name="textAreaLeft" fmla="*/ 10440 w 73080"/>
              <a:gd name="textAreaRight" fmla="*/ 62640 w 73080"/>
              <a:gd name="textAreaTop" fmla="*/ 10440 h 144360"/>
              <a:gd name="textAreaBottom" fmla="*/ 133920 h 144360"/>
            </a:gdLst>
            <a:ahLst/>
            <a:rect l="textAreaLeft" t="textAreaTop" r="textAreaRight" b="textAreaBottom"/>
            <a:pathLst>
              <a:path w="21600" h="42565">
                <a:moveTo>
                  <a:pt x="10800" y="0"/>
                </a:moveTo>
                <a:arcTo wR="10800" hR="10800" stAng="16200000" swAng="-5400000"/>
                <a:lnTo>
                  <a:pt x="0" y="31765"/>
                </a:lnTo>
                <a:arcTo wR="10800" hR="10800" stAng="10800000" swAng="-5400000"/>
                <a:lnTo>
                  <a:pt x="10800" y="4256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rot="1320000">
            <a:off x="2280600" y="2686320"/>
            <a:ext cx="36720" cy="1130400"/>
          </a:xfrm>
          <a:custGeom>
            <a:avLst/>
            <a:gdLst>
              <a:gd name="textAreaLeft" fmla="*/ 1800 w 36720"/>
              <a:gd name="textAreaRight" fmla="*/ 34920 w 36720"/>
              <a:gd name="textAreaTop" fmla="*/ 1800 h 1130400"/>
              <a:gd name="textAreaBottom" fmla="*/ 1128600 h 1130400"/>
            </a:gdLst>
            <a:ahLst/>
            <a:rect l="textAreaLeft" t="textAreaTop" r="textAreaRight" b="textAreaBottom"/>
            <a:pathLst>
              <a:path w="21600" h="658695">
                <a:moveTo>
                  <a:pt x="3600" y="0"/>
                </a:moveTo>
                <a:arcTo wR="3600" hR="3600" stAng="16200000" swAng="-5400000"/>
                <a:lnTo>
                  <a:pt x="0" y="655095"/>
                </a:lnTo>
                <a:arcTo wR="3600" hR="3600" stAng="10800000" swAng="-5400000"/>
                <a:lnTo>
                  <a:pt x="18000" y="6586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801320" y="5478480"/>
            <a:ext cx="2660760" cy="504720"/>
          </a:xfrm>
          <a:custGeom>
            <a:avLst/>
            <a:gdLst>
              <a:gd name="textAreaLeft" fmla="*/ 581040 w 2660760"/>
              <a:gd name="textAreaRight" fmla="*/ 2221200 w 2660760"/>
              <a:gd name="textAreaTop" fmla="*/ 360 h 504720"/>
              <a:gd name="textAreaBottom" fmla="*/ 252720 h 504720"/>
            </a:gdLst>
            <a:ahLst/>
            <a:rect l="textAreaLeft" t="textAreaTop" r="textAreaRight" b="textAreaBottom"/>
            <a:pathLst>
              <a:path stroke="0" w="21600" h="21600">
                <a:moveTo>
                  <a:pt x="4615" y="1946"/>
                </a:moveTo>
                <a:arcTo wR="10800" hR="10800" stAng="-7496076" swAng="4566913"/>
                <a:lnTo>
                  <a:pt x="10800" y="10800"/>
                </a:lnTo>
                <a:close/>
              </a:path>
              <a:path fill="none" w="21600" h="21600">
                <a:moveTo>
                  <a:pt x="4615" y="1946"/>
                </a:moveTo>
                <a:arcTo wR="10800" hR="10800" stAng="-7496076" swAng="45669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833840" y="2624760"/>
            <a:ext cx="432000" cy="1585800"/>
          </a:xfrm>
          <a:custGeom>
            <a:avLst/>
            <a:gdLst>
              <a:gd name="textAreaLeft" fmla="*/ 216000 w 432000"/>
              <a:gd name="textAreaRight" fmla="*/ 432000 w 432000"/>
              <a:gd name="textAreaTop" fmla="*/ 582120 h 1585800"/>
              <a:gd name="textAreaBottom" fmla="*/ 865080 h 1585800"/>
            </a:gdLst>
            <a:ahLst/>
            <a:rect l="textAreaLeft" t="textAreaTop" r="textAreaRight" b="textAreaBottom"/>
            <a:pathLst>
              <a:path stroke="0" w="21600" h="21600">
                <a:moveTo>
                  <a:pt x="21229" y="7995"/>
                </a:moveTo>
                <a:arcTo wR="10800" hR="10800" stAng="-903208" swAng="1240065"/>
                <a:lnTo>
                  <a:pt x="10800" y="10800"/>
                </a:lnTo>
                <a:close/>
              </a:path>
              <a:path fill="none" w="21600" h="21600">
                <a:moveTo>
                  <a:pt x="21229" y="7995"/>
                </a:moveTo>
                <a:arcTo wR="10800" hR="10800" stAng="-903208" swAng="124006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53020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8920" y="4221000"/>
            <a:ext cx="1584360" cy="42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8000" y="5950080"/>
            <a:ext cx="215640" cy="2156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76720" y="5878440"/>
            <a:ext cx="216000" cy="21600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48360" y="5950080"/>
            <a:ext cx="216000" cy="21564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 rot="10800000">
            <a:off x="4282920" y="2800800"/>
            <a:ext cx="3895920" cy="916920"/>
          </a:xfrm>
          <a:prstGeom prst="rect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affreddando lentamente il filtrato, la sostanza si separa sotto forma di cristal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1052640"/>
            <a:ext cx="8209080" cy="1225440"/>
          </a:xfrm>
          <a:prstGeom prst="rect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Verdana"/>
              </a:rPr>
              <a:t>Filtrazion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274760"/>
            <a:ext cx="8229600" cy="215424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filtrazione separa i componenti della    miscela eterogenea solido-liquido, utilizzando un materiale poroso, di solito carta da filtro, sfruttando la diversa dimensione delle particelle. Il solido viene trattenuto dalla carta, il liquido riesce a pass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885080" y="4346640"/>
            <a:ext cx="792360" cy="15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885080" y="4867200"/>
            <a:ext cx="2160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016760" y="3859920"/>
            <a:ext cx="1743120" cy="1009800"/>
          </a:xfrm>
          <a:custGeom>
            <a:avLst/>
            <a:gdLst>
              <a:gd name="textAreaLeft" fmla="*/ 654480 w 1743120"/>
              <a:gd name="textAreaRight" fmla="*/ 1738080 w 1743120"/>
              <a:gd name="textAreaTop" fmla="*/ -360 h 1009800"/>
              <a:gd name="textAreaBottom" fmla="*/ 504360 h 1009800"/>
            </a:gdLst>
            <a:ahLst/>
            <a:rect l="textAreaLeft" t="textAreaTop" r="textAreaRight" b="textAreaBottom"/>
            <a:pathLst>
              <a:path stroke="0" w="21600" h="21600">
                <a:moveTo>
                  <a:pt x="8114" y="339"/>
                </a:moveTo>
                <a:arcTo wR="10800" hR="10800" stAng="-6263991" swAng="5876037"/>
                <a:lnTo>
                  <a:pt x="10800" y="10800"/>
                </a:lnTo>
                <a:close/>
              </a:path>
              <a:path fill="none" w="21600" h="21600">
                <a:moveTo>
                  <a:pt x="8114" y="339"/>
                </a:moveTo>
                <a:arcTo wR="10800" hR="10800" stAng="-6263991" swAng="587603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6720000">
            <a:off x="1791360" y="3677400"/>
            <a:ext cx="750960" cy="179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91" y="2150"/>
                  <a:pt x="11982" y="5080"/>
                  <a:pt x="11982" y="10800"/>
                </a:cubicBezTo>
                <a:cubicBezTo>
                  <a:pt x="11982" y="16520"/>
                  <a:pt x="16791" y="1945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2b2b2b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 rot="16200000">
            <a:off x="704880" y="4067280"/>
            <a:ext cx="1997280" cy="2457360"/>
          </a:xfrm>
          <a:custGeom>
            <a:avLst/>
            <a:gdLst>
              <a:gd name="textAreaLeft" fmla="*/ 998640 w 1997280"/>
              <a:gd name="textAreaRight" fmla="*/ 1997280 w 1997280"/>
              <a:gd name="textAreaTop" fmla="*/ 360 h 2457360"/>
              <a:gd name="textAreaBottom" fmla="*/ 2455920 h 2457360"/>
            </a:gdLst>
            <a:ahLst/>
            <a:rect l="textAreaLeft" t="textAreaTop" r="textAreaRight" b="textAreaBottom"/>
            <a:pathLst>
              <a:path stroke="0" w="21600" h="21600">
                <a:moveTo>
                  <a:pt x="10938" y="1"/>
                </a:moveTo>
                <a:arcTo wR="10800" hR="10800" stAng="-5356198" swAng="10624384"/>
                <a:lnTo>
                  <a:pt x="10800" y="10800"/>
                </a:lnTo>
                <a:close/>
              </a:path>
              <a:path fill="none" w="21600" h="21600">
                <a:moveTo>
                  <a:pt x="10938" y="1"/>
                </a:moveTo>
                <a:arcTo wR="10800" hR="10800" stAng="-5356198" swAng="10624384"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5283360"/>
            <a:ext cx="244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5211720"/>
            <a:ext cx="144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19640" y="4106880"/>
            <a:ext cx="2898720" cy="2130480"/>
          </a:xfrm>
          <a:custGeom>
            <a:avLst/>
            <a:gdLst>
              <a:gd name="textAreaLeft" fmla="*/ 0 w 2898720"/>
              <a:gd name="textAreaRight" fmla="*/ 1449360 w 2898720"/>
              <a:gd name="textAreaTop" fmla="*/ 1026360 h 2130480"/>
              <a:gd name="textAreaBottom" fmla="*/ 1966320 h 2130480"/>
            </a:gdLst>
            <a:ahLst/>
            <a:rect l="textAreaLeft" t="textAreaTop" r="textAreaRight" b="textAreaBottom"/>
            <a:pathLst>
              <a:path stroke="0" w="21600" h="21600">
                <a:moveTo>
                  <a:pt x="4997" y="19908"/>
                </a:moveTo>
                <a:arcTo wR="10800" hR="10800" stAng="7350211" swAng="3557798"/>
                <a:lnTo>
                  <a:pt x="10800" y="10800"/>
                </a:lnTo>
                <a:close/>
              </a:path>
              <a:path fill="none" w="21600" h="21600">
                <a:moveTo>
                  <a:pt x="4997" y="19908"/>
                </a:moveTo>
                <a:arcTo wR="10800" hR="10800" stAng="7350211" swAng="3557798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994200" y="4130640"/>
            <a:ext cx="866880" cy="10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859280" y="4201920"/>
            <a:ext cx="649440" cy="10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22560" y="3699000"/>
            <a:ext cx="1629000" cy="1495440"/>
          </a:xfrm>
          <a:custGeom>
            <a:avLst/>
            <a:gdLst>
              <a:gd name="textAreaLeft" fmla="*/ 72360 w 1629000"/>
              <a:gd name="textAreaRight" fmla="*/ 1591920 w 1629000"/>
              <a:gd name="textAreaTop" fmla="*/ 0 h 1495440"/>
              <a:gd name="textAreaBottom" fmla="*/ 747720 h 1495440"/>
            </a:gdLst>
            <a:ahLst/>
            <a:rect l="textAreaLeft" t="textAreaTop" r="textAreaRight" b="textAreaBottom"/>
            <a:pathLst>
              <a:path stroke="0" w="21600" h="21600">
                <a:moveTo>
                  <a:pt x="901" y="6481"/>
                </a:moveTo>
                <a:arcTo wR="10800" hR="10800" stAng="-9385616" swAng="8306946"/>
                <a:lnTo>
                  <a:pt x="10800" y="10800"/>
                </a:lnTo>
                <a:close/>
              </a:path>
              <a:path fill="none" w="21600" h="21600">
                <a:moveTo>
                  <a:pt x="901" y="6481"/>
                </a:moveTo>
                <a:arcTo wR="10800" hR="10800" stAng="-9385616" swAng="8306946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5211720"/>
            <a:ext cx="1439640" cy="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5400000">
            <a:off x="3695760" y="4558320"/>
            <a:ext cx="3058920" cy="2252520"/>
          </a:xfrm>
          <a:custGeom>
            <a:avLst/>
            <a:gdLst>
              <a:gd name="textAreaLeft" fmla="*/ 54360 w 3058920"/>
              <a:gd name="textAreaRight" fmla="*/ 1529280 w 3058920"/>
              <a:gd name="textAreaTop" fmla="*/ 1125720 h 2252520"/>
              <a:gd name="textAreaBottom" fmla="*/ 2200680 h 2252520"/>
            </a:gdLst>
            <a:ahLst/>
            <a:rect l="textAreaLeft" t="textAreaTop" r="textAreaRight" b="textAreaBottom"/>
            <a:pathLst>
              <a:path stroke="0" w="21600" h="21600">
                <a:moveTo>
                  <a:pt x="7505" y="21085"/>
                </a:moveTo>
                <a:arcTo wR="10800" hR="10800" stAng="6465711" swAng="3455946"/>
                <a:lnTo>
                  <a:pt x="10800" y="10800"/>
                </a:lnTo>
                <a:close/>
              </a:path>
              <a:path fill="none" w="21600" h="21600">
                <a:moveTo>
                  <a:pt x="7505" y="21085"/>
                </a:moveTo>
                <a:arcTo wR="10800" hR="10800" stAng="6465711" swAng="3455946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 rot="5400000">
            <a:off x="3839400" y="4533120"/>
            <a:ext cx="2898720" cy="2154240"/>
          </a:xfrm>
          <a:custGeom>
            <a:avLst/>
            <a:gdLst>
              <a:gd name="textAreaLeft" fmla="*/ 33120 w 2898720"/>
              <a:gd name="textAreaRight" fmla="*/ 1449360 w 2898720"/>
              <a:gd name="textAreaTop" fmla="*/ 1077480 h 2154240"/>
              <a:gd name="textAreaBottom" fmla="*/ 2111040 h 2154240"/>
            </a:gdLst>
            <a:ahLst/>
            <a:rect l="textAreaLeft" t="textAreaTop" r="textAreaRight" b="textAreaBottom"/>
            <a:pathLst>
              <a:path stroke="0" w="21600" h="21600">
                <a:moveTo>
                  <a:pt x="7809" y="21178"/>
                </a:moveTo>
                <a:arcTo wR="10800" hR="10800" stAng="6364613" swAng="3773258"/>
                <a:lnTo>
                  <a:pt x="10800" y="10800"/>
                </a:lnTo>
                <a:close/>
              </a:path>
              <a:path fill="none" w="21600" h="21600">
                <a:moveTo>
                  <a:pt x="7809" y="21178"/>
                </a:moveTo>
                <a:arcTo wR="10800" hR="10800" stAng="6364613" swAng="377325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22560" y="3672000"/>
            <a:ext cx="1629000" cy="1495440"/>
          </a:xfrm>
          <a:custGeom>
            <a:avLst/>
            <a:gdLst>
              <a:gd name="textAreaLeft" fmla="*/ 72360 w 1629000"/>
              <a:gd name="textAreaRight" fmla="*/ 1591920 w 1629000"/>
              <a:gd name="textAreaTop" fmla="*/ 0 h 1495440"/>
              <a:gd name="textAreaBottom" fmla="*/ 747720 h 1495440"/>
            </a:gdLst>
            <a:ahLst/>
            <a:rect l="textAreaLeft" t="textAreaTop" r="textAreaRight" b="textAreaBottom"/>
            <a:pathLst>
              <a:path stroke="0" w="21600" h="21600">
                <a:moveTo>
                  <a:pt x="901" y="6481"/>
                </a:moveTo>
                <a:arcTo wR="10800" hR="10800" stAng="-9385616" swAng="8306946"/>
                <a:lnTo>
                  <a:pt x="10800" y="10800"/>
                </a:lnTo>
                <a:close/>
              </a:path>
              <a:path fill="none" w="21600" h="21600">
                <a:moveTo>
                  <a:pt x="901" y="6481"/>
                </a:moveTo>
                <a:arcTo wR="10800" hR="10800" stAng="-9385616" swAng="8306946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440000">
            <a:off x="4919760" y="3917520"/>
            <a:ext cx="1270080" cy="549360"/>
          </a:xfrm>
          <a:custGeom>
            <a:avLst/>
            <a:gdLst>
              <a:gd name="textAreaLeft" fmla="*/ 241200 w 1270080"/>
              <a:gd name="textAreaRight" fmla="*/ 902160 w 127008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03" hR="21600" stAng="10800000" swAng="5400000"/>
                <a:lnTo>
                  <a:pt x="11238" y="0"/>
                </a:lnTo>
                <a:arcTo wR="8203" hR="21600" stAng="-5400000" swAng="2822737"/>
                <a:lnTo>
                  <a:pt x="21131" y="14400"/>
                </a:lnTo>
                <a:lnTo>
                  <a:pt x="17923" y="21600"/>
                </a:lnTo>
                <a:lnTo>
                  <a:pt x="13776" y="14400"/>
                </a:lnTo>
                <a:lnTo>
                  <a:pt x="15936" y="14400"/>
                </a:lnTo>
                <a:arcTo wR="8203" hR="21600" stAng="-2577263" swAng="-2577395"/>
                <a:lnTo>
                  <a:pt x="9720" y="373"/>
                </a:lnTo>
                <a:arcTo wR="8203" hR="21600" stAng="-5645343" swAng="-5154657"/>
                <a:close/>
              </a:path>
              <a:path fill="darkenLess" w="21600" h="21600">
                <a:moveTo>
                  <a:pt x="0" y="21600"/>
                </a:moveTo>
                <a:arcTo wR="8203" hR="21600" stAng="10800000" swAng="5400000"/>
                <a:lnTo>
                  <a:pt x="8203" y="0"/>
                </a:lnTo>
                <a:arcTo wR="8203" hR="21600" stAng="-5400000" swAng="245343"/>
                <a:lnTo>
                  <a:pt x="9720" y="373"/>
                </a:lnTo>
                <a:arcTo wR="8203" hR="21600" stAng="-5645343" swAng="-5154657"/>
                <a:close/>
              </a:path>
            </a:pathLst>
          </a:cu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551664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carta da filtro va piegata due volte, arrotolata a cono e allarg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4320000">
            <a:off x="1822680" y="4052160"/>
            <a:ext cx="1239840" cy="549000"/>
          </a:xfrm>
          <a:custGeom>
            <a:avLst/>
            <a:gdLst>
              <a:gd name="textAreaLeft" fmla="*/ 235440 w 1239840"/>
              <a:gd name="textAreaRight" fmla="*/ 880560 w 123984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03" hR="21600" stAng="10800000" swAng="5400000"/>
                <a:lnTo>
                  <a:pt x="11238" y="0"/>
                </a:lnTo>
                <a:arcTo wR="8203" hR="21600" stAng="-5400000" swAng="2822737"/>
                <a:lnTo>
                  <a:pt x="21131" y="14400"/>
                </a:lnTo>
                <a:lnTo>
                  <a:pt x="17923" y="21600"/>
                </a:lnTo>
                <a:lnTo>
                  <a:pt x="13776" y="14400"/>
                </a:lnTo>
                <a:lnTo>
                  <a:pt x="15936" y="14400"/>
                </a:lnTo>
                <a:arcTo wR="8203" hR="21600" stAng="-2577263" swAng="-2577395"/>
                <a:lnTo>
                  <a:pt x="9720" y="373"/>
                </a:lnTo>
                <a:arcTo wR="8203" hR="21600" stAng="-5645343" swAng="-5154657"/>
                <a:close/>
              </a:path>
              <a:path fill="darkenLess" w="21600" h="21600">
                <a:moveTo>
                  <a:pt x="0" y="21600"/>
                </a:moveTo>
                <a:arcTo wR="8203" hR="21600" stAng="10800000" swAng="5400000"/>
                <a:lnTo>
                  <a:pt x="8203" y="0"/>
                </a:lnTo>
                <a:arcTo wR="8203" hR="21600" stAng="-5400000" swAng="245343"/>
                <a:lnTo>
                  <a:pt x="9720" y="373"/>
                </a:lnTo>
                <a:arcTo wR="8203" hR="21600" stAng="-5645343" swAng="-5154657"/>
                <a:close/>
              </a:path>
            </a:pathLst>
          </a:cu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48360" y="4365720"/>
            <a:ext cx="936720" cy="15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3843360"/>
            <a:ext cx="1727280" cy="91440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4:31:58Z</dcterms:created>
  <dc:creator>LUIGIO</dc:creator>
  <dc:description/>
  <dc:language>en-US</dc:language>
  <cp:lastModifiedBy>LUIGIO</cp:lastModifiedBy>
  <dcterms:modified xsi:type="dcterms:W3CDTF">2005-11-29T14:48:13Z</dcterms:modified>
  <cp:revision>29</cp:revision>
  <dc:subject/>
  <dc:title>Dalle miscele alle sostanze pure</dc:title>
</cp:coreProperties>
</file>